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868-2810-44C9-A0A7-262B8F0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134-2FEA-474F-B9C7-F1D136A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5B0-DEEF-46A3-B595-40A20D6B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3E7-25DF-486E-9BF7-C27F851C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D68-9445-47B4-A20F-48E8FCEB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0222-8312-4321-A0C3-E01AEB9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2B5-7745-4C61-8E7D-D112168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CB46-43DC-4227-80C1-EB0F7989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90F-8F4B-4FAD-B607-905D93C5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5C3-C991-43F8-852A-DFD0D9A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7FC-0A6F-4D7E-82EB-BE775F7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C6A-602F-4A53-A956-8AA2C1B9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9D62-54F0-41CC-9515-5968869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F59-954F-4010-9079-72762700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3788-8FAD-4505-90DF-89F9141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3D83-34F0-4DD7-838C-5D868C4B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FE13-A4D2-4F6A-A6B0-CE1A1B62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5DC-746C-407A-AAE7-85D1D8E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6E1-D04E-4FF1-940F-E3A73B5D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05F-A654-409B-937F-7F5BDCA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B93-F65F-4F78-9D2D-8C2F7B6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459-19DB-42F3-A063-F3E0BA9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423-14F0-4F60-BC51-6937840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322-B197-4FFF-82FB-B59E0F4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1FAA-A9D9-4E49-895A-AB569E6683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B5B-F1D6-4E45-BFA4-896773A0D9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ffff"/>
                </a:solidFill>
                <a:latin typeface="Tahoma"/>
              </a:rPr>
              <a:t>Thursday, December 4th</a:t>
            </a:r>
            <a:endParaRPr b="0" lang="en-US" sz="4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Sinx – 1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mework: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Page 400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#25,27,29,39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95480"/>
            <a:ext cx="71625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 like terms on one side (equal to zero) then factor a GC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. Same as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t everything on one side (equal to zero) then factor the trinom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9.  Either turn sec into tan or tan into sec then sol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680080"/>
            <a:ext cx="2314800" cy="490680"/>
          </a:xfrm>
          <a:custGeom>
            <a:avLst/>
            <a:gdLst/>
            <a:ahLst/>
            <a:rect l="l" t="t" r="r" b="b"/>
            <a:pathLst>
              <a:path w="6426" h="1365">
                <a:moveTo>
                  <a:pt x="8434" y="16222"/>
                </a:moveTo>
                <a:cubicBezTo>
                  <a:pt x="8434" y="16183"/>
                  <a:pt x="8420" y="16147"/>
                  <a:pt x="8384" y="16123"/>
                </a:cubicBezTo>
                <a:cubicBezTo>
                  <a:pt x="8366" y="16111"/>
                  <a:pt x="8307" y="16080"/>
                  <a:pt x="8285" y="16073"/>
                </a:cubicBezTo>
                <a:cubicBezTo>
                  <a:pt x="8238" y="16057"/>
                  <a:pt x="8196" y="16087"/>
                  <a:pt x="8161" y="16098"/>
                </a:cubicBezTo>
                <a:cubicBezTo>
                  <a:pt x="8139" y="16105"/>
                  <a:pt x="8116" y="16138"/>
                  <a:pt x="8136" y="16173"/>
                </a:cubicBezTo>
                <a:cubicBezTo>
                  <a:pt x="8161" y="16216"/>
                  <a:pt x="8209" y="16254"/>
                  <a:pt x="8235" y="16297"/>
                </a:cubicBezTo>
                <a:cubicBezTo>
                  <a:pt x="8288" y="16384"/>
                  <a:pt x="8354" y="16458"/>
                  <a:pt x="8409" y="16545"/>
                </a:cubicBezTo>
                <a:cubicBezTo>
                  <a:pt x="8452" y="16614"/>
                  <a:pt x="8467" y="16693"/>
                  <a:pt x="8483" y="16768"/>
                </a:cubicBezTo>
                <a:cubicBezTo>
                  <a:pt x="8494" y="16818"/>
                  <a:pt x="8453" y="16852"/>
                  <a:pt x="8434" y="16867"/>
                </a:cubicBezTo>
                <a:cubicBezTo>
                  <a:pt x="8389" y="16901"/>
                  <a:pt x="8357" y="16905"/>
                  <a:pt x="8310" y="16867"/>
                </a:cubicBezTo>
                <a:cubicBezTo>
                  <a:pt x="8271" y="16835"/>
                  <a:pt x="8228" y="16795"/>
                  <a:pt x="8186" y="16768"/>
                </a:cubicBezTo>
                <a:cubicBezTo>
                  <a:pt x="8118" y="16724"/>
                  <a:pt x="8122" y="16747"/>
                  <a:pt x="8111" y="16669"/>
                </a:cubicBezTo>
              </a:path>
              <a:path w="6426" h="1365">
                <a:moveTo>
                  <a:pt x="8558" y="16520"/>
                </a:moveTo>
                <a:cubicBezTo>
                  <a:pt x="8652" y="16513"/>
                  <a:pt x="8682" y="16509"/>
                  <a:pt x="8756" y="16470"/>
                </a:cubicBezTo>
                <a:cubicBezTo>
                  <a:pt x="8841" y="16425"/>
                  <a:pt x="8820" y="16417"/>
                  <a:pt x="8855" y="16346"/>
                </a:cubicBezTo>
                <a:cubicBezTo>
                  <a:pt x="8878" y="16300"/>
                  <a:pt x="8867" y="16265"/>
                  <a:pt x="8830" y="16222"/>
                </a:cubicBezTo>
                <a:cubicBezTo>
                  <a:pt x="8807" y="16195"/>
                  <a:pt x="8742" y="16182"/>
                  <a:pt x="8706" y="16197"/>
                </a:cubicBezTo>
                <a:cubicBezTo>
                  <a:pt x="8645" y="16223"/>
                  <a:pt x="8619" y="16272"/>
                  <a:pt x="8582" y="16321"/>
                </a:cubicBezTo>
                <a:cubicBezTo>
                  <a:pt x="8518" y="16408"/>
                  <a:pt x="8533" y="16488"/>
                  <a:pt x="8533" y="16594"/>
                </a:cubicBezTo>
                <a:cubicBezTo>
                  <a:pt x="8533" y="16678"/>
                  <a:pt x="8570" y="16745"/>
                  <a:pt x="8607" y="16818"/>
                </a:cubicBezTo>
                <a:cubicBezTo>
                  <a:pt x="8638" y="16880"/>
                  <a:pt x="8661" y="16917"/>
                  <a:pt x="8731" y="16917"/>
                </a:cubicBezTo>
              </a:path>
              <a:path w="6426" h="1365">
                <a:moveTo>
                  <a:pt x="9203" y="16396"/>
                </a:moveTo>
                <a:cubicBezTo>
                  <a:pt x="9227" y="16396"/>
                  <a:pt x="9236" y="16396"/>
                  <a:pt x="9252" y="16396"/>
                </a:cubicBezTo>
                <a:cubicBezTo>
                  <a:pt x="9252" y="16374"/>
                  <a:pt x="9242" y="16303"/>
                  <a:pt x="9227" y="16297"/>
                </a:cubicBezTo>
                <a:cubicBezTo>
                  <a:pt x="9168" y="16276"/>
                  <a:pt x="9111" y="16275"/>
                  <a:pt x="9054" y="16297"/>
                </a:cubicBezTo>
                <a:cubicBezTo>
                  <a:pt x="8989" y="16322"/>
                  <a:pt x="8961" y="16387"/>
                  <a:pt x="8930" y="16446"/>
                </a:cubicBezTo>
                <a:cubicBezTo>
                  <a:pt x="8885" y="16531"/>
                  <a:pt x="8897" y="16631"/>
                  <a:pt x="8930" y="16718"/>
                </a:cubicBezTo>
                <a:cubicBezTo>
                  <a:pt x="8946" y="16762"/>
                  <a:pt x="9060" y="16927"/>
                  <a:pt x="9103" y="16942"/>
                </a:cubicBezTo>
                <a:cubicBezTo>
                  <a:pt x="9151" y="16959"/>
                  <a:pt x="9217" y="16938"/>
                  <a:pt x="9252" y="16917"/>
                </a:cubicBezTo>
              </a:path>
              <a:path w="6426" h="1365">
                <a:moveTo>
                  <a:pt x="9302" y="15776"/>
                </a:moveTo>
                <a:cubicBezTo>
                  <a:pt x="9388" y="15776"/>
                  <a:pt x="9450" y="15748"/>
                  <a:pt x="9475" y="15825"/>
                </a:cubicBezTo>
                <a:cubicBezTo>
                  <a:pt x="9475" y="15853"/>
                  <a:pt x="9477" y="15864"/>
                  <a:pt x="9500" y="15875"/>
                </a:cubicBezTo>
                <a:cubicBezTo>
                  <a:pt x="9476" y="15907"/>
                  <a:pt x="9471" y="15944"/>
                  <a:pt x="9451" y="15974"/>
                </a:cubicBezTo>
                <a:cubicBezTo>
                  <a:pt x="9424" y="16014"/>
                  <a:pt x="9412" y="16015"/>
                  <a:pt x="9401" y="16049"/>
                </a:cubicBezTo>
                <a:cubicBezTo>
                  <a:pt x="9439" y="16061"/>
                  <a:pt x="9439" y="16083"/>
                  <a:pt x="9500" y="16098"/>
                </a:cubicBezTo>
                <a:cubicBezTo>
                  <a:pt x="9545" y="16109"/>
                  <a:pt x="9601" y="16098"/>
                  <a:pt x="9649" y="16098"/>
                </a:cubicBezTo>
              </a:path>
              <a:path w="6426" h="1365">
                <a:moveTo>
                  <a:pt x="9699" y="16470"/>
                </a:moveTo>
                <a:cubicBezTo>
                  <a:pt x="9645" y="16569"/>
                  <a:pt x="9624" y="16589"/>
                  <a:pt x="9624" y="16694"/>
                </a:cubicBezTo>
                <a:cubicBezTo>
                  <a:pt x="9624" y="16749"/>
                  <a:pt x="9656" y="16852"/>
                  <a:pt x="9699" y="16892"/>
                </a:cubicBezTo>
                <a:cubicBezTo>
                  <a:pt x="9747" y="16937"/>
                  <a:pt x="9836" y="16961"/>
                  <a:pt x="9897" y="16966"/>
                </a:cubicBezTo>
                <a:cubicBezTo>
                  <a:pt x="9986" y="16973"/>
                  <a:pt x="9994" y="16951"/>
                  <a:pt x="10046" y="16892"/>
                </a:cubicBezTo>
                <a:cubicBezTo>
                  <a:pt x="10105" y="16826"/>
                  <a:pt x="10161" y="16689"/>
                  <a:pt x="10145" y="16594"/>
                </a:cubicBezTo>
                <a:cubicBezTo>
                  <a:pt x="10130" y="16503"/>
                  <a:pt x="10125" y="16407"/>
                  <a:pt x="10046" y="16346"/>
                </a:cubicBezTo>
                <a:cubicBezTo>
                  <a:pt x="9986" y="16300"/>
                  <a:pt x="9946" y="16297"/>
                  <a:pt x="9872" y="16297"/>
                </a:cubicBezTo>
                <a:cubicBezTo>
                  <a:pt x="9795" y="16297"/>
                  <a:pt x="9734" y="16326"/>
                  <a:pt x="9674" y="16371"/>
                </a:cubicBezTo>
                <a:cubicBezTo>
                  <a:pt x="9628" y="16406"/>
                  <a:pt x="9608" y="16423"/>
                  <a:pt x="9575" y="16470"/>
                </a:cubicBezTo>
              </a:path>
              <a:path w="6426" h="1365">
                <a:moveTo>
                  <a:pt x="9451" y="16545"/>
                </a:moveTo>
                <a:cubicBezTo>
                  <a:pt x="9541" y="16511"/>
                  <a:pt x="9579" y="16541"/>
                  <a:pt x="9674" y="16545"/>
                </a:cubicBezTo>
                <a:cubicBezTo>
                  <a:pt x="9781" y="16549"/>
                  <a:pt x="9889" y="16545"/>
                  <a:pt x="9996" y="16545"/>
                </a:cubicBezTo>
              </a:path>
              <a:path w="6426" h="1365">
                <a:moveTo>
                  <a:pt x="10443" y="16421"/>
                </a:moveTo>
                <a:cubicBezTo>
                  <a:pt x="10540" y="16405"/>
                  <a:pt x="10620" y="16396"/>
                  <a:pt x="10716" y="16396"/>
                </a:cubicBezTo>
              </a:path>
              <a:path w="6426" h="1365">
                <a:moveTo>
                  <a:pt x="10393" y="16570"/>
                </a:moveTo>
                <a:cubicBezTo>
                  <a:pt x="10487" y="16579"/>
                  <a:pt x="10552" y="16575"/>
                  <a:pt x="10641" y="16570"/>
                </a:cubicBezTo>
                <a:cubicBezTo>
                  <a:pt x="10658" y="16570"/>
                  <a:pt x="10674" y="16570"/>
                  <a:pt x="10691" y="16570"/>
                </a:cubicBezTo>
              </a:path>
              <a:path w="6426" h="1365">
                <a:moveTo>
                  <a:pt x="11187" y="16073"/>
                </a:moveTo>
                <a:cubicBezTo>
                  <a:pt x="11187" y="16179"/>
                  <a:pt x="11164" y="16268"/>
                  <a:pt x="11162" y="16371"/>
                </a:cubicBezTo>
                <a:cubicBezTo>
                  <a:pt x="11159" y="16505"/>
                  <a:pt x="11173" y="16616"/>
                  <a:pt x="11187" y="16743"/>
                </a:cubicBezTo>
                <a:cubicBezTo>
                  <a:pt x="11196" y="16822"/>
                  <a:pt x="11202" y="16890"/>
                  <a:pt x="11212" y="16966"/>
                </a:cubicBezTo>
              </a:path>
              <a:path w="6426" h="1365">
                <a:moveTo>
                  <a:pt x="10914" y="16396"/>
                </a:moveTo>
                <a:cubicBezTo>
                  <a:pt x="10961" y="16361"/>
                  <a:pt x="11001" y="16371"/>
                  <a:pt x="11063" y="16371"/>
                </a:cubicBezTo>
                <a:cubicBezTo>
                  <a:pt x="11154" y="16371"/>
                  <a:pt x="11222" y="16408"/>
                  <a:pt x="11311" y="16421"/>
                </a:cubicBezTo>
                <a:cubicBezTo>
                  <a:pt x="11328" y="16421"/>
                  <a:pt x="11344" y="16421"/>
                  <a:pt x="11361" y="16421"/>
                </a:cubicBezTo>
              </a:path>
              <a:path w="6426" h="1365">
                <a:moveTo>
                  <a:pt x="11683" y="16470"/>
                </a:moveTo>
                <a:cubicBezTo>
                  <a:pt x="11634" y="16499"/>
                  <a:pt x="11590" y="16515"/>
                  <a:pt x="11534" y="16545"/>
                </a:cubicBezTo>
                <a:cubicBezTo>
                  <a:pt x="11487" y="16570"/>
                  <a:pt x="11425" y="16615"/>
                  <a:pt x="11410" y="16669"/>
                </a:cubicBezTo>
                <a:cubicBezTo>
                  <a:pt x="11392" y="16736"/>
                  <a:pt x="11417" y="16795"/>
                  <a:pt x="11460" y="16842"/>
                </a:cubicBezTo>
                <a:cubicBezTo>
                  <a:pt x="11487" y="16872"/>
                  <a:pt x="11498" y="16883"/>
                  <a:pt x="11534" y="16892"/>
                </a:cubicBezTo>
                <a:cubicBezTo>
                  <a:pt x="11576" y="16861"/>
                  <a:pt x="11603" y="16843"/>
                  <a:pt x="11633" y="16793"/>
                </a:cubicBezTo>
                <a:cubicBezTo>
                  <a:pt x="11669" y="16732"/>
                  <a:pt x="11699" y="16667"/>
                  <a:pt x="11683" y="16594"/>
                </a:cubicBezTo>
                <a:cubicBezTo>
                  <a:pt x="11670" y="16536"/>
                  <a:pt x="11663" y="16510"/>
                  <a:pt x="11633" y="16470"/>
                </a:cubicBezTo>
                <a:cubicBezTo>
                  <a:pt x="11633" y="16543"/>
                  <a:pt x="11628" y="16602"/>
                  <a:pt x="11658" y="16669"/>
                </a:cubicBezTo>
                <a:cubicBezTo>
                  <a:pt x="11685" y="16729"/>
                  <a:pt x="11714" y="16794"/>
                  <a:pt x="11757" y="16842"/>
                </a:cubicBezTo>
                <a:cubicBezTo>
                  <a:pt x="11780" y="16865"/>
                  <a:pt x="11784" y="16873"/>
                  <a:pt x="11807" y="16867"/>
                </a:cubicBezTo>
              </a:path>
              <a:path w="6426" h="1365">
                <a:moveTo>
                  <a:pt x="11832" y="16520"/>
                </a:moveTo>
                <a:cubicBezTo>
                  <a:pt x="11851" y="16610"/>
                  <a:pt x="11859" y="16706"/>
                  <a:pt x="11881" y="16793"/>
                </a:cubicBezTo>
                <a:cubicBezTo>
                  <a:pt x="11896" y="16852"/>
                  <a:pt x="11925" y="16913"/>
                  <a:pt x="11931" y="16966"/>
                </a:cubicBezTo>
                <a:cubicBezTo>
                  <a:pt x="11937" y="17024"/>
                  <a:pt x="11931" y="16900"/>
                  <a:pt x="11931" y="16842"/>
                </a:cubicBezTo>
                <a:cubicBezTo>
                  <a:pt x="11931" y="16770"/>
                  <a:pt x="11937" y="16686"/>
                  <a:pt x="11956" y="16619"/>
                </a:cubicBezTo>
                <a:cubicBezTo>
                  <a:pt x="11975" y="16554"/>
                  <a:pt x="12006" y="16518"/>
                  <a:pt x="12055" y="16470"/>
                </a:cubicBezTo>
                <a:cubicBezTo>
                  <a:pt x="12085" y="16441"/>
                  <a:pt x="12151" y="16439"/>
                  <a:pt x="12179" y="16470"/>
                </a:cubicBezTo>
                <a:cubicBezTo>
                  <a:pt x="12241" y="16538"/>
                  <a:pt x="12247" y="16657"/>
                  <a:pt x="12254" y="16743"/>
                </a:cubicBezTo>
                <a:cubicBezTo>
                  <a:pt x="12262" y="16837"/>
                  <a:pt x="12292" y="16927"/>
                  <a:pt x="12303" y="17016"/>
                </a:cubicBezTo>
                <a:cubicBezTo>
                  <a:pt x="12303" y="17017"/>
                  <a:pt x="12328" y="17187"/>
                  <a:pt x="12328" y="17115"/>
                </a:cubicBezTo>
              </a:path>
              <a:path w="6426" h="1365">
                <a:moveTo>
                  <a:pt x="12179" y="16073"/>
                </a:moveTo>
                <a:cubicBezTo>
                  <a:pt x="12198" y="16012"/>
                  <a:pt x="12209" y="15904"/>
                  <a:pt x="12303" y="15925"/>
                </a:cubicBezTo>
                <a:cubicBezTo>
                  <a:pt x="12370" y="15940"/>
                  <a:pt x="12452" y="15978"/>
                  <a:pt x="12502" y="16024"/>
                </a:cubicBezTo>
                <a:cubicBezTo>
                  <a:pt x="12541" y="16060"/>
                  <a:pt x="12530" y="16105"/>
                  <a:pt x="12502" y="16148"/>
                </a:cubicBezTo>
                <a:cubicBezTo>
                  <a:pt x="12473" y="16192"/>
                  <a:pt x="12477" y="16214"/>
                  <a:pt x="12477" y="16272"/>
                </a:cubicBezTo>
                <a:cubicBezTo>
                  <a:pt x="12477" y="16325"/>
                  <a:pt x="12504" y="16366"/>
                  <a:pt x="12551" y="16396"/>
                </a:cubicBezTo>
                <a:cubicBezTo>
                  <a:pt x="12590" y="16421"/>
                  <a:pt x="12632" y="16437"/>
                  <a:pt x="12675" y="16446"/>
                </a:cubicBezTo>
              </a:path>
              <a:path w="6426" h="1365">
                <a:moveTo>
                  <a:pt x="13022" y="16173"/>
                </a:moveTo>
                <a:cubicBezTo>
                  <a:pt x="12979" y="16234"/>
                  <a:pt x="12943" y="16281"/>
                  <a:pt x="12898" y="16346"/>
                </a:cubicBezTo>
                <a:cubicBezTo>
                  <a:pt x="12844" y="16424"/>
                  <a:pt x="12848" y="16486"/>
                  <a:pt x="12824" y="16570"/>
                </a:cubicBezTo>
                <a:cubicBezTo>
                  <a:pt x="12801" y="16649"/>
                  <a:pt x="12817" y="16735"/>
                  <a:pt x="12849" y="16818"/>
                </a:cubicBezTo>
                <a:cubicBezTo>
                  <a:pt x="12880" y="16898"/>
                  <a:pt x="12974" y="17013"/>
                  <a:pt x="13072" y="16991"/>
                </a:cubicBezTo>
                <a:cubicBezTo>
                  <a:pt x="13181" y="16967"/>
                  <a:pt x="13193" y="16893"/>
                  <a:pt x="13246" y="16818"/>
                </a:cubicBezTo>
                <a:cubicBezTo>
                  <a:pt x="13304" y="16736"/>
                  <a:pt x="13389" y="16607"/>
                  <a:pt x="13370" y="16495"/>
                </a:cubicBezTo>
                <a:cubicBezTo>
                  <a:pt x="13361" y="16441"/>
                  <a:pt x="13319" y="16331"/>
                  <a:pt x="13271" y="16297"/>
                </a:cubicBezTo>
                <a:cubicBezTo>
                  <a:pt x="13262" y="16290"/>
                  <a:pt x="13165" y="16249"/>
                  <a:pt x="13146" y="16272"/>
                </a:cubicBezTo>
                <a:cubicBezTo>
                  <a:pt x="13146" y="16280"/>
                  <a:pt x="13146" y="16289"/>
                  <a:pt x="13146" y="16297"/>
                </a:cubicBezTo>
              </a:path>
              <a:path w="6426" h="1365">
                <a:moveTo>
                  <a:pt x="13593" y="16446"/>
                </a:moveTo>
                <a:cubicBezTo>
                  <a:pt x="13495" y="16446"/>
                  <a:pt x="13389" y="16451"/>
                  <a:pt x="13295" y="16470"/>
                </a:cubicBezTo>
                <a:cubicBezTo>
                  <a:pt x="13187" y="16492"/>
                  <a:pt x="13080" y="16525"/>
                  <a:pt x="12973" y="16545"/>
                </a:cubicBezTo>
                <a:cubicBezTo>
                  <a:pt x="12869" y="16565"/>
                  <a:pt x="12750" y="16567"/>
                  <a:pt x="12650" y="16594"/>
                </a:cubicBezTo>
                <a:cubicBezTo>
                  <a:pt x="12605" y="16606"/>
                  <a:pt x="12487" y="16670"/>
                  <a:pt x="12526" y="16644"/>
                </a:cubicBezTo>
                <a:cubicBezTo>
                  <a:pt x="12543" y="16636"/>
                  <a:pt x="12559" y="16627"/>
                  <a:pt x="12576" y="16619"/>
                </a:cubicBezTo>
              </a:path>
              <a:path w="6426" h="1365">
                <a:moveTo>
                  <a:pt x="13841" y="16321"/>
                </a:moveTo>
                <a:cubicBezTo>
                  <a:pt x="13841" y="16457"/>
                  <a:pt x="13850" y="16589"/>
                  <a:pt x="13866" y="16718"/>
                </a:cubicBezTo>
                <a:cubicBezTo>
                  <a:pt x="13875" y="16788"/>
                  <a:pt x="13891" y="16846"/>
                  <a:pt x="13891" y="16917"/>
                </a:cubicBezTo>
                <a:cubicBezTo>
                  <a:pt x="13891" y="16925"/>
                  <a:pt x="13891" y="16934"/>
                  <a:pt x="13891" y="16942"/>
                </a:cubicBezTo>
              </a:path>
              <a:path w="6426" h="1365">
                <a:moveTo>
                  <a:pt x="13667" y="16594"/>
                </a:moveTo>
                <a:cubicBezTo>
                  <a:pt x="13760" y="16614"/>
                  <a:pt x="13845" y="16627"/>
                  <a:pt x="13940" y="16644"/>
                </a:cubicBezTo>
              </a:path>
              <a:path w="6426" h="1365">
                <a:moveTo>
                  <a:pt x="14387" y="16073"/>
                </a:moveTo>
                <a:cubicBezTo>
                  <a:pt x="14375" y="16170"/>
                  <a:pt x="14376" y="16222"/>
                  <a:pt x="14387" y="16321"/>
                </a:cubicBezTo>
                <a:cubicBezTo>
                  <a:pt x="14398" y="16419"/>
                  <a:pt x="14415" y="16523"/>
                  <a:pt x="14436" y="16619"/>
                </a:cubicBezTo>
                <a:cubicBezTo>
                  <a:pt x="14453" y="16698"/>
                  <a:pt x="14465" y="16792"/>
                  <a:pt x="14486" y="16867"/>
                </a:cubicBezTo>
                <a:cubicBezTo>
                  <a:pt x="14498" y="16911"/>
                  <a:pt x="14511" y="16957"/>
                  <a:pt x="14536" y="169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32040" y="5180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7590" y="14486"/>
                </a:moveTo>
                <a:cubicBezTo>
                  <a:pt x="7590" y="14454"/>
                  <a:pt x="7598" y="14420"/>
                  <a:pt x="7615" y="14412"/>
                </a:cubicBezTo>
                <a:cubicBezTo>
                  <a:pt x="7648" y="14396"/>
                  <a:pt x="7639" y="14387"/>
                  <a:pt x="7689" y="14387"/>
                </a:cubicBezTo>
                <a:cubicBezTo>
                  <a:pt x="7734" y="14387"/>
                  <a:pt x="7758" y="14385"/>
                  <a:pt x="7764" y="14436"/>
                </a:cubicBezTo>
                <a:cubicBezTo>
                  <a:pt x="7768" y="14471"/>
                  <a:pt x="7755" y="14512"/>
                  <a:pt x="7739" y="14536"/>
                </a:cubicBezTo>
                <a:cubicBezTo>
                  <a:pt x="7715" y="14571"/>
                  <a:pt x="7691" y="14605"/>
                  <a:pt x="7665" y="14635"/>
                </a:cubicBezTo>
                <a:cubicBezTo>
                  <a:pt x="7632" y="14672"/>
                  <a:pt x="7617" y="14697"/>
                  <a:pt x="7590" y="14734"/>
                </a:cubicBezTo>
                <a:cubicBezTo>
                  <a:pt x="7600" y="14763"/>
                  <a:pt x="7624" y="14779"/>
                  <a:pt x="7665" y="14784"/>
                </a:cubicBezTo>
                <a:cubicBezTo>
                  <a:pt x="7709" y="14789"/>
                  <a:pt x="7746" y="14805"/>
                  <a:pt x="7789" y="14808"/>
                </a:cubicBezTo>
                <a:cubicBezTo>
                  <a:pt x="7859" y="14813"/>
                  <a:pt x="7821" y="14833"/>
                  <a:pt x="7888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54280" y="5205240"/>
            <a:ext cx="133560" cy="1177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9872" y="14536"/>
                </a:moveTo>
                <a:cubicBezTo>
                  <a:pt x="9880" y="14533"/>
                  <a:pt x="9942" y="14494"/>
                  <a:pt x="9947" y="14486"/>
                </a:cubicBezTo>
                <a:cubicBezTo>
                  <a:pt x="9962" y="14464"/>
                  <a:pt x="9996" y="14440"/>
                  <a:pt x="10046" y="14461"/>
                </a:cubicBezTo>
                <a:cubicBezTo>
                  <a:pt x="10090" y="14479"/>
                  <a:pt x="10096" y="14520"/>
                  <a:pt x="10096" y="14560"/>
                </a:cubicBezTo>
                <a:cubicBezTo>
                  <a:pt x="10096" y="14598"/>
                  <a:pt x="10061" y="14591"/>
                  <a:pt x="10046" y="14635"/>
                </a:cubicBezTo>
                <a:cubicBezTo>
                  <a:pt x="10036" y="14665"/>
                  <a:pt x="10025" y="14676"/>
                  <a:pt x="9996" y="14709"/>
                </a:cubicBezTo>
                <a:cubicBezTo>
                  <a:pt x="9973" y="14732"/>
                  <a:pt x="9965" y="14736"/>
                  <a:pt x="9971" y="14759"/>
                </a:cubicBezTo>
                <a:cubicBezTo>
                  <a:pt x="10041" y="14759"/>
                  <a:pt x="10087" y="14764"/>
                  <a:pt x="10145" y="14784"/>
                </a:cubicBezTo>
                <a:cubicBezTo>
                  <a:pt x="10171" y="14793"/>
                  <a:pt x="10216" y="14784"/>
                  <a:pt x="10244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516096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1658" y="14387"/>
                </a:moveTo>
                <a:cubicBezTo>
                  <a:pt x="11676" y="14373"/>
                  <a:pt x="11761" y="14328"/>
                  <a:pt x="11782" y="14337"/>
                </a:cubicBezTo>
                <a:cubicBezTo>
                  <a:pt x="11815" y="14352"/>
                  <a:pt x="11859" y="14333"/>
                  <a:pt x="11881" y="14362"/>
                </a:cubicBezTo>
                <a:cubicBezTo>
                  <a:pt x="11899" y="14386"/>
                  <a:pt x="11906" y="14393"/>
                  <a:pt x="11906" y="14436"/>
                </a:cubicBezTo>
                <a:cubicBezTo>
                  <a:pt x="11906" y="14460"/>
                  <a:pt x="11880" y="14485"/>
                  <a:pt x="11857" y="14511"/>
                </a:cubicBezTo>
                <a:cubicBezTo>
                  <a:pt x="11826" y="14546"/>
                  <a:pt x="11826" y="14559"/>
                  <a:pt x="11807" y="14585"/>
                </a:cubicBezTo>
                <a:cubicBezTo>
                  <a:pt x="11784" y="14616"/>
                  <a:pt x="11761" y="14646"/>
                  <a:pt x="11757" y="14684"/>
                </a:cubicBezTo>
                <a:cubicBezTo>
                  <a:pt x="11754" y="14715"/>
                  <a:pt x="11767" y="14752"/>
                  <a:pt x="11782" y="14759"/>
                </a:cubicBezTo>
                <a:cubicBezTo>
                  <a:pt x="11817" y="14776"/>
                  <a:pt x="11864" y="14784"/>
                  <a:pt x="11906" y="14784"/>
                </a:cubicBezTo>
                <a:cubicBezTo>
                  <a:pt x="11956" y="14784"/>
                  <a:pt x="11961" y="14798"/>
                  <a:pt x="11981" y="14808"/>
                </a:cubicBezTo>
                <a:cubicBezTo>
                  <a:pt x="12016" y="14825"/>
                  <a:pt x="12017" y="14805"/>
                  <a:pt x="12055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37120" y="515304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3990" y="14362"/>
                </a:moveTo>
                <a:cubicBezTo>
                  <a:pt x="14021" y="14339"/>
                  <a:pt x="14050" y="14316"/>
                  <a:pt x="14089" y="14312"/>
                </a:cubicBezTo>
                <a:cubicBezTo>
                  <a:pt x="14123" y="14308"/>
                  <a:pt x="14187" y="14341"/>
                  <a:pt x="14213" y="14362"/>
                </a:cubicBezTo>
                <a:cubicBezTo>
                  <a:pt x="14249" y="14391"/>
                  <a:pt x="14273" y="14423"/>
                  <a:pt x="14288" y="14461"/>
                </a:cubicBezTo>
                <a:cubicBezTo>
                  <a:pt x="14259" y="14490"/>
                  <a:pt x="14224" y="14524"/>
                  <a:pt x="14188" y="14536"/>
                </a:cubicBezTo>
                <a:cubicBezTo>
                  <a:pt x="14161" y="14545"/>
                  <a:pt x="14143" y="14553"/>
                  <a:pt x="14139" y="14585"/>
                </a:cubicBezTo>
                <a:cubicBezTo>
                  <a:pt x="14132" y="14641"/>
                  <a:pt x="14151" y="14628"/>
                  <a:pt x="14188" y="14660"/>
                </a:cubicBezTo>
                <a:cubicBezTo>
                  <a:pt x="14248" y="14713"/>
                  <a:pt x="14319" y="14711"/>
                  <a:pt x="14387" y="14734"/>
                </a:cubicBezTo>
                <a:cubicBezTo>
                  <a:pt x="14427" y="14754"/>
                  <a:pt x="14433" y="14763"/>
                  <a:pt x="14461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me things to remember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iority is to get all the trig function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Tahoma"/>
              </a:rPr>
              <a:t>Simplifying and Solving Trig Equations</a:t>
            </a:r>
            <a:endParaRPr b="0" lang="en-US" sz="6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You will now need the unit circle (paper #1) and the trig identities (paper #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.  Sec x Cot 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660680" y="1946160"/>
            <a:ext cx="1322280" cy="1812960"/>
          </a:xfrm>
          <a:custGeom>
            <a:avLst/>
            <a:gdLst/>
            <a:ahLst/>
            <a:rect l="l" t="t" r="r" b="b"/>
            <a:pathLst>
              <a:path w="3672" h="5037">
                <a:moveTo>
                  <a:pt x="6152" y="5407"/>
                </a:moveTo>
                <a:cubicBezTo>
                  <a:pt x="6180" y="5486"/>
                  <a:pt x="6184" y="5548"/>
                  <a:pt x="6201" y="5631"/>
                </a:cubicBezTo>
                <a:cubicBezTo>
                  <a:pt x="6229" y="5765"/>
                  <a:pt x="6263" y="5913"/>
                  <a:pt x="6251" y="6052"/>
                </a:cubicBezTo>
                <a:cubicBezTo>
                  <a:pt x="6237" y="6211"/>
                  <a:pt x="6193" y="6366"/>
                  <a:pt x="6176" y="6524"/>
                </a:cubicBezTo>
                <a:cubicBezTo>
                  <a:pt x="6165" y="6624"/>
                  <a:pt x="6152" y="6719"/>
                  <a:pt x="6152" y="6821"/>
                </a:cubicBezTo>
                <a:cubicBezTo>
                  <a:pt x="6152" y="6866"/>
                  <a:pt x="6158" y="6939"/>
                  <a:pt x="6127" y="6970"/>
                </a:cubicBezTo>
                <a:cubicBezTo>
                  <a:pt x="6102" y="6987"/>
                  <a:pt x="6077" y="7003"/>
                  <a:pt x="6052" y="7020"/>
                </a:cubicBezTo>
              </a:path>
              <a:path w="3672" h="5037">
                <a:moveTo>
                  <a:pt x="5085" y="7838"/>
                </a:moveTo>
                <a:cubicBezTo>
                  <a:pt x="5251" y="7868"/>
                  <a:pt x="5389" y="7841"/>
                  <a:pt x="5556" y="7838"/>
                </a:cubicBezTo>
                <a:cubicBezTo>
                  <a:pt x="5815" y="7833"/>
                  <a:pt x="6068" y="7848"/>
                  <a:pt x="6325" y="7863"/>
                </a:cubicBezTo>
                <a:cubicBezTo>
                  <a:pt x="6482" y="7872"/>
                  <a:pt x="6643" y="7875"/>
                  <a:pt x="6796" y="7913"/>
                </a:cubicBezTo>
                <a:cubicBezTo>
                  <a:pt x="6861" y="7929"/>
                  <a:pt x="6943" y="7956"/>
                  <a:pt x="6995" y="7987"/>
                </a:cubicBezTo>
              </a:path>
              <a:path w="3672" h="5037">
                <a:moveTo>
                  <a:pt x="5259" y="8607"/>
                </a:moveTo>
                <a:cubicBezTo>
                  <a:pt x="5161" y="8616"/>
                  <a:pt x="5092" y="8641"/>
                  <a:pt x="5011" y="8706"/>
                </a:cubicBezTo>
                <a:cubicBezTo>
                  <a:pt x="4900" y="8796"/>
                  <a:pt x="4826" y="8929"/>
                  <a:pt x="4762" y="9054"/>
                </a:cubicBezTo>
                <a:cubicBezTo>
                  <a:pt x="4691" y="9192"/>
                  <a:pt x="4629" y="9394"/>
                  <a:pt x="4614" y="9550"/>
                </a:cubicBezTo>
                <a:cubicBezTo>
                  <a:pt x="4599" y="9707"/>
                  <a:pt x="4603" y="9922"/>
                  <a:pt x="4663" y="10071"/>
                </a:cubicBezTo>
                <a:cubicBezTo>
                  <a:pt x="4717" y="10204"/>
                  <a:pt x="4836" y="10288"/>
                  <a:pt x="4961" y="10344"/>
                </a:cubicBezTo>
                <a:cubicBezTo>
                  <a:pt x="5169" y="10437"/>
                  <a:pt x="5333" y="10455"/>
                  <a:pt x="5556" y="10393"/>
                </a:cubicBezTo>
                <a:cubicBezTo>
                  <a:pt x="5665" y="10363"/>
                  <a:pt x="5747" y="10289"/>
                  <a:pt x="5829" y="10220"/>
                </a:cubicBezTo>
              </a:path>
              <a:path w="3672" h="5037">
                <a:moveTo>
                  <a:pt x="5879" y="8880"/>
                </a:moveTo>
                <a:cubicBezTo>
                  <a:pt x="5683" y="9021"/>
                  <a:pt x="5637" y="9047"/>
                  <a:pt x="5581" y="9277"/>
                </a:cubicBezTo>
                <a:cubicBezTo>
                  <a:pt x="5529" y="9488"/>
                  <a:pt x="5583" y="9643"/>
                  <a:pt x="5655" y="9847"/>
                </a:cubicBezTo>
                <a:cubicBezTo>
                  <a:pt x="5693" y="9956"/>
                  <a:pt x="5782" y="10129"/>
                  <a:pt x="5904" y="10170"/>
                </a:cubicBezTo>
                <a:cubicBezTo>
                  <a:pt x="6016" y="10207"/>
                  <a:pt x="6139" y="10087"/>
                  <a:pt x="6176" y="9996"/>
                </a:cubicBezTo>
                <a:cubicBezTo>
                  <a:pt x="6244" y="9830"/>
                  <a:pt x="6269" y="9628"/>
                  <a:pt x="6300" y="9451"/>
                </a:cubicBezTo>
                <a:cubicBezTo>
                  <a:pt x="6330" y="9280"/>
                  <a:pt x="6336" y="9123"/>
                  <a:pt x="6300" y="8954"/>
                </a:cubicBezTo>
                <a:cubicBezTo>
                  <a:pt x="6274" y="8834"/>
                  <a:pt x="6218" y="8735"/>
                  <a:pt x="6102" y="8682"/>
                </a:cubicBezTo>
                <a:cubicBezTo>
                  <a:pt x="6057" y="8661"/>
                  <a:pt x="5939" y="8626"/>
                  <a:pt x="5904" y="8682"/>
                </a:cubicBezTo>
                <a:cubicBezTo>
                  <a:pt x="5904" y="8690"/>
                  <a:pt x="5904" y="8698"/>
                  <a:pt x="5904" y="8706"/>
                </a:cubicBezTo>
              </a:path>
              <a:path w="3672" h="5037">
                <a:moveTo>
                  <a:pt x="5730" y="9823"/>
                </a:moveTo>
                <a:cubicBezTo>
                  <a:pt x="5950" y="9691"/>
                  <a:pt x="6173" y="9592"/>
                  <a:pt x="6400" y="9475"/>
                </a:cubicBezTo>
                <a:cubicBezTo>
                  <a:pt x="6860" y="9237"/>
                  <a:pt x="7306" y="8969"/>
                  <a:pt x="7789" y="8781"/>
                </a:cubicBezTo>
                <a:cubicBezTo>
                  <a:pt x="7955" y="8716"/>
                  <a:pt x="8113" y="8671"/>
                  <a:pt x="828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11760" y="1901880"/>
            <a:ext cx="3276360" cy="1778040"/>
          </a:xfrm>
          <a:custGeom>
            <a:avLst/>
            <a:gdLst/>
            <a:ahLst/>
            <a:rect l="l" t="t" r="r" b="b"/>
            <a:pathLst>
              <a:path w="9105" h="4938">
                <a:moveTo>
                  <a:pt x="10889" y="7590"/>
                </a:moveTo>
                <a:cubicBezTo>
                  <a:pt x="11044" y="7533"/>
                  <a:pt x="11199" y="7473"/>
                  <a:pt x="11361" y="7441"/>
                </a:cubicBezTo>
                <a:cubicBezTo>
                  <a:pt x="11572" y="7399"/>
                  <a:pt x="11791" y="7378"/>
                  <a:pt x="12005" y="7367"/>
                </a:cubicBezTo>
                <a:cubicBezTo>
                  <a:pt x="12261" y="7354"/>
                  <a:pt x="12519" y="7345"/>
                  <a:pt x="12774" y="7342"/>
                </a:cubicBezTo>
                <a:cubicBezTo>
                  <a:pt x="13214" y="7336"/>
                  <a:pt x="13651" y="7342"/>
                  <a:pt x="14089" y="7367"/>
                </a:cubicBezTo>
                <a:cubicBezTo>
                  <a:pt x="14167" y="7367"/>
                  <a:pt x="14185" y="7352"/>
                  <a:pt x="14213" y="7392"/>
                </a:cubicBezTo>
              </a:path>
              <a:path w="9105" h="4938">
                <a:moveTo>
                  <a:pt x="11658" y="8285"/>
                </a:moveTo>
                <a:cubicBezTo>
                  <a:pt x="11647" y="8266"/>
                  <a:pt x="11615" y="8211"/>
                  <a:pt x="11609" y="8161"/>
                </a:cubicBezTo>
                <a:cubicBezTo>
                  <a:pt x="11597" y="8066"/>
                  <a:pt x="11567" y="7956"/>
                  <a:pt x="11435" y="7962"/>
                </a:cubicBezTo>
                <a:cubicBezTo>
                  <a:pt x="11351" y="7966"/>
                  <a:pt x="11205" y="8033"/>
                  <a:pt x="11137" y="8086"/>
                </a:cubicBezTo>
                <a:cubicBezTo>
                  <a:pt x="11058" y="8147"/>
                  <a:pt x="10994" y="8152"/>
                  <a:pt x="10988" y="8260"/>
                </a:cubicBezTo>
                <a:cubicBezTo>
                  <a:pt x="10979" y="8418"/>
                  <a:pt x="11108" y="8536"/>
                  <a:pt x="11187" y="8657"/>
                </a:cubicBezTo>
                <a:cubicBezTo>
                  <a:pt x="11292" y="8818"/>
                  <a:pt x="11423" y="8952"/>
                  <a:pt x="11509" y="9128"/>
                </a:cubicBezTo>
                <a:cubicBezTo>
                  <a:pt x="11590" y="9293"/>
                  <a:pt x="11609" y="9419"/>
                  <a:pt x="11609" y="9599"/>
                </a:cubicBezTo>
                <a:cubicBezTo>
                  <a:pt x="11609" y="9710"/>
                  <a:pt x="11568" y="9777"/>
                  <a:pt x="11460" y="9823"/>
                </a:cubicBezTo>
                <a:cubicBezTo>
                  <a:pt x="11332" y="9878"/>
                  <a:pt x="11229" y="9829"/>
                  <a:pt x="11112" y="9773"/>
                </a:cubicBezTo>
                <a:cubicBezTo>
                  <a:pt x="10973" y="9707"/>
                  <a:pt x="10931" y="9633"/>
                  <a:pt x="10864" y="9500"/>
                </a:cubicBezTo>
              </a:path>
              <a:path w="9105" h="4938">
                <a:moveTo>
                  <a:pt x="11981" y="8508"/>
                </a:moveTo>
                <a:cubicBezTo>
                  <a:pt x="12007" y="8714"/>
                  <a:pt x="12030" y="8896"/>
                  <a:pt x="12030" y="9103"/>
                </a:cubicBezTo>
                <a:cubicBezTo>
                  <a:pt x="12030" y="9268"/>
                  <a:pt x="12029" y="9437"/>
                  <a:pt x="12055" y="9599"/>
                </a:cubicBezTo>
                <a:cubicBezTo>
                  <a:pt x="12063" y="9632"/>
                  <a:pt x="12072" y="9666"/>
                  <a:pt x="12080" y="9699"/>
                </a:cubicBezTo>
              </a:path>
              <a:path w="9105" h="4938">
                <a:moveTo>
                  <a:pt x="12005" y="7962"/>
                </a:moveTo>
                <a:cubicBezTo>
                  <a:pt x="12044" y="7972"/>
                  <a:pt x="12060" y="7987"/>
                  <a:pt x="12105" y="7987"/>
                </a:cubicBezTo>
              </a:path>
              <a:path w="9105" h="4938">
                <a:moveTo>
                  <a:pt x="12502" y="8508"/>
                </a:moveTo>
                <a:cubicBezTo>
                  <a:pt x="12477" y="8717"/>
                  <a:pt x="12477" y="8917"/>
                  <a:pt x="12502" y="9128"/>
                </a:cubicBezTo>
                <a:cubicBezTo>
                  <a:pt x="12518" y="9265"/>
                  <a:pt x="12540" y="9420"/>
                  <a:pt x="12576" y="9550"/>
                </a:cubicBezTo>
                <a:cubicBezTo>
                  <a:pt x="12594" y="9615"/>
                  <a:pt x="12601" y="9657"/>
                  <a:pt x="12601" y="9723"/>
                </a:cubicBezTo>
                <a:cubicBezTo>
                  <a:pt x="12592" y="9653"/>
                  <a:pt x="12570" y="9597"/>
                  <a:pt x="12551" y="9525"/>
                </a:cubicBezTo>
                <a:cubicBezTo>
                  <a:pt x="12508" y="9365"/>
                  <a:pt x="12512" y="9169"/>
                  <a:pt x="12526" y="9004"/>
                </a:cubicBezTo>
                <a:cubicBezTo>
                  <a:pt x="12544" y="8797"/>
                  <a:pt x="12591" y="8599"/>
                  <a:pt x="12675" y="8409"/>
                </a:cubicBezTo>
                <a:cubicBezTo>
                  <a:pt x="12731" y="8281"/>
                  <a:pt x="12789" y="8161"/>
                  <a:pt x="12948" y="8161"/>
                </a:cubicBezTo>
                <a:cubicBezTo>
                  <a:pt x="13011" y="8161"/>
                  <a:pt x="13158" y="8270"/>
                  <a:pt x="13196" y="8310"/>
                </a:cubicBezTo>
                <a:cubicBezTo>
                  <a:pt x="13284" y="8402"/>
                  <a:pt x="13360" y="8587"/>
                  <a:pt x="13395" y="8706"/>
                </a:cubicBezTo>
                <a:cubicBezTo>
                  <a:pt x="13432" y="8834"/>
                  <a:pt x="13475" y="9023"/>
                  <a:pt x="13469" y="9153"/>
                </a:cubicBezTo>
                <a:cubicBezTo>
                  <a:pt x="13468" y="9164"/>
                  <a:pt x="13413" y="9469"/>
                  <a:pt x="13444" y="9475"/>
                </a:cubicBezTo>
                <a:cubicBezTo>
                  <a:pt x="13468" y="9480"/>
                  <a:pt x="13487" y="9299"/>
                  <a:pt x="13494" y="9277"/>
                </a:cubicBezTo>
              </a:path>
              <a:path w="9105" h="4938">
                <a:moveTo>
                  <a:pt x="13519" y="8285"/>
                </a:moveTo>
                <a:cubicBezTo>
                  <a:pt x="13591" y="8378"/>
                  <a:pt x="13664" y="8498"/>
                  <a:pt x="13717" y="8607"/>
                </a:cubicBezTo>
                <a:cubicBezTo>
                  <a:pt x="13825" y="8827"/>
                  <a:pt x="13952" y="8999"/>
                  <a:pt x="14089" y="9203"/>
                </a:cubicBezTo>
                <a:cubicBezTo>
                  <a:pt x="14159" y="9307"/>
                  <a:pt x="14236" y="9446"/>
                  <a:pt x="14337" y="9525"/>
                </a:cubicBezTo>
                <a:cubicBezTo>
                  <a:pt x="14386" y="9563"/>
                  <a:pt x="14445" y="9568"/>
                  <a:pt x="14461" y="9500"/>
                </a:cubicBezTo>
                <a:cubicBezTo>
                  <a:pt x="14461" y="9475"/>
                  <a:pt x="14461" y="9451"/>
                  <a:pt x="14461" y="9426"/>
                </a:cubicBezTo>
              </a:path>
              <a:path w="9105" h="4938">
                <a:moveTo>
                  <a:pt x="14238" y="8136"/>
                </a:moveTo>
                <a:cubicBezTo>
                  <a:pt x="14193" y="8269"/>
                  <a:pt x="14145" y="8396"/>
                  <a:pt x="14114" y="8533"/>
                </a:cubicBezTo>
                <a:cubicBezTo>
                  <a:pt x="14062" y="8764"/>
                  <a:pt x="14044" y="8995"/>
                  <a:pt x="14015" y="9227"/>
                </a:cubicBezTo>
                <a:cubicBezTo>
                  <a:pt x="14001" y="9337"/>
                  <a:pt x="14007" y="9528"/>
                  <a:pt x="13940" y="9624"/>
                </a:cubicBezTo>
                <a:cubicBezTo>
                  <a:pt x="13932" y="9624"/>
                  <a:pt x="13923" y="9624"/>
                  <a:pt x="13915" y="9624"/>
                </a:cubicBezTo>
              </a:path>
              <a:path w="9105" h="4938">
                <a:moveTo>
                  <a:pt x="11460" y="6548"/>
                </a:moveTo>
                <a:cubicBezTo>
                  <a:pt x="11739" y="6376"/>
                  <a:pt x="11991" y="6182"/>
                  <a:pt x="12278" y="6028"/>
                </a:cubicBezTo>
                <a:cubicBezTo>
                  <a:pt x="12569" y="5872"/>
                  <a:pt x="12857" y="5715"/>
                  <a:pt x="13146" y="5556"/>
                </a:cubicBezTo>
                <a:cubicBezTo>
                  <a:pt x="13338" y="5451"/>
                  <a:pt x="13575" y="5356"/>
                  <a:pt x="13791" y="5308"/>
                </a:cubicBezTo>
                <a:cubicBezTo>
                  <a:pt x="13867" y="5308"/>
                  <a:pt x="13893" y="5308"/>
                  <a:pt x="13940" y="5283"/>
                </a:cubicBezTo>
              </a:path>
              <a:path w="9105" h="4938">
                <a:moveTo>
                  <a:pt x="15528" y="7392"/>
                </a:moveTo>
                <a:cubicBezTo>
                  <a:pt x="15613" y="7392"/>
                  <a:pt x="15695" y="7386"/>
                  <a:pt x="15776" y="7367"/>
                </a:cubicBezTo>
                <a:cubicBezTo>
                  <a:pt x="15893" y="7340"/>
                  <a:pt x="16000" y="7342"/>
                  <a:pt x="16123" y="7342"/>
                </a:cubicBezTo>
                <a:cubicBezTo>
                  <a:pt x="16189" y="7342"/>
                  <a:pt x="16206" y="7342"/>
                  <a:pt x="16247" y="7342"/>
                </a:cubicBezTo>
              </a:path>
              <a:path w="9105" h="4938">
                <a:moveTo>
                  <a:pt x="15652" y="7863"/>
                </a:moveTo>
                <a:cubicBezTo>
                  <a:pt x="15665" y="7823"/>
                  <a:pt x="15700" y="7838"/>
                  <a:pt x="15751" y="7838"/>
                </a:cubicBezTo>
                <a:cubicBezTo>
                  <a:pt x="15833" y="7838"/>
                  <a:pt x="15920" y="7830"/>
                  <a:pt x="15999" y="7813"/>
                </a:cubicBezTo>
                <a:cubicBezTo>
                  <a:pt x="16089" y="7793"/>
                  <a:pt x="16180" y="7768"/>
                  <a:pt x="16272" y="7764"/>
                </a:cubicBezTo>
                <a:cubicBezTo>
                  <a:pt x="16343" y="7761"/>
                  <a:pt x="16439" y="7747"/>
                  <a:pt x="16495" y="7789"/>
                </a:cubicBezTo>
              </a:path>
              <a:path w="9105" h="4938">
                <a:moveTo>
                  <a:pt x="18430" y="5507"/>
                </a:moveTo>
                <a:cubicBezTo>
                  <a:pt x="18490" y="5565"/>
                  <a:pt x="18458" y="5581"/>
                  <a:pt x="18479" y="5655"/>
                </a:cubicBezTo>
                <a:cubicBezTo>
                  <a:pt x="18505" y="5748"/>
                  <a:pt x="18491" y="5787"/>
                  <a:pt x="18479" y="5879"/>
                </a:cubicBezTo>
                <a:cubicBezTo>
                  <a:pt x="18465" y="5986"/>
                  <a:pt x="18441" y="6095"/>
                  <a:pt x="18430" y="6201"/>
                </a:cubicBezTo>
                <a:cubicBezTo>
                  <a:pt x="18411" y="6378"/>
                  <a:pt x="18430" y="6568"/>
                  <a:pt x="18430" y="6747"/>
                </a:cubicBezTo>
              </a:path>
              <a:path w="9105" h="4938">
                <a:moveTo>
                  <a:pt x="17190" y="7441"/>
                </a:moveTo>
                <a:cubicBezTo>
                  <a:pt x="17233" y="7457"/>
                  <a:pt x="17306" y="7466"/>
                  <a:pt x="17388" y="7466"/>
                </a:cubicBezTo>
                <a:cubicBezTo>
                  <a:pt x="17548" y="7466"/>
                  <a:pt x="17702" y="7451"/>
                  <a:pt x="17859" y="7441"/>
                </a:cubicBezTo>
                <a:cubicBezTo>
                  <a:pt x="18116" y="7425"/>
                  <a:pt x="18371" y="7380"/>
                  <a:pt x="18628" y="7367"/>
                </a:cubicBezTo>
                <a:cubicBezTo>
                  <a:pt x="19015" y="7348"/>
                  <a:pt x="19409" y="7366"/>
                  <a:pt x="19794" y="7392"/>
                </a:cubicBezTo>
                <a:cubicBezTo>
                  <a:pt x="19870" y="7397"/>
                  <a:pt x="19933" y="7371"/>
                  <a:pt x="19968" y="7441"/>
                </a:cubicBezTo>
                <a:cubicBezTo>
                  <a:pt x="19960" y="7441"/>
                  <a:pt x="19951" y="7441"/>
                  <a:pt x="19943" y="7441"/>
                </a:cubicBezTo>
              </a:path>
              <a:path w="9105" h="4938">
                <a:moveTo>
                  <a:pt x="17810" y="8806"/>
                </a:moveTo>
                <a:cubicBezTo>
                  <a:pt x="17831" y="8728"/>
                  <a:pt x="17852" y="8640"/>
                  <a:pt x="17835" y="8558"/>
                </a:cubicBezTo>
                <a:cubicBezTo>
                  <a:pt x="17815" y="8461"/>
                  <a:pt x="17770" y="8406"/>
                  <a:pt x="17686" y="8359"/>
                </a:cubicBezTo>
                <a:cubicBezTo>
                  <a:pt x="17579" y="8299"/>
                  <a:pt x="17524" y="8319"/>
                  <a:pt x="17413" y="8334"/>
                </a:cubicBezTo>
                <a:cubicBezTo>
                  <a:pt x="17319" y="8346"/>
                  <a:pt x="17287" y="8383"/>
                  <a:pt x="17239" y="8458"/>
                </a:cubicBezTo>
                <a:cubicBezTo>
                  <a:pt x="17185" y="8544"/>
                  <a:pt x="17226" y="8646"/>
                  <a:pt x="17264" y="8731"/>
                </a:cubicBezTo>
                <a:cubicBezTo>
                  <a:pt x="17360" y="8949"/>
                  <a:pt x="17515" y="9170"/>
                  <a:pt x="17636" y="9376"/>
                </a:cubicBezTo>
                <a:cubicBezTo>
                  <a:pt x="17721" y="9521"/>
                  <a:pt x="17791" y="9653"/>
                  <a:pt x="17810" y="9823"/>
                </a:cubicBezTo>
                <a:cubicBezTo>
                  <a:pt x="17823" y="9942"/>
                  <a:pt x="17791" y="10099"/>
                  <a:pt x="17686" y="10170"/>
                </a:cubicBezTo>
                <a:cubicBezTo>
                  <a:pt x="17586" y="10238"/>
                  <a:pt x="17470" y="10220"/>
                  <a:pt x="17363" y="10195"/>
                </a:cubicBezTo>
                <a:cubicBezTo>
                  <a:pt x="17245" y="10168"/>
                  <a:pt x="17135" y="10098"/>
                  <a:pt x="17041" y="10021"/>
                </a:cubicBezTo>
                <a:cubicBezTo>
                  <a:pt x="16990" y="9979"/>
                  <a:pt x="16946" y="9949"/>
                  <a:pt x="16892" y="9922"/>
                </a:cubicBezTo>
                <a:cubicBezTo>
                  <a:pt x="16948" y="9855"/>
                  <a:pt x="16963" y="9839"/>
                  <a:pt x="17041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5160" y="2946240"/>
            <a:ext cx="992160" cy="768600"/>
          </a:xfrm>
          <a:custGeom>
            <a:avLst/>
            <a:gdLst/>
            <a:ahLst/>
            <a:rect l="l" t="t" r="r" b="b"/>
            <a:pathLst>
              <a:path w="2754" h="2134">
                <a:moveTo>
                  <a:pt x="18207" y="8682"/>
                </a:moveTo>
                <a:cubicBezTo>
                  <a:pt x="18237" y="8846"/>
                  <a:pt x="18231" y="9010"/>
                  <a:pt x="18231" y="9178"/>
                </a:cubicBezTo>
                <a:cubicBezTo>
                  <a:pt x="18231" y="9361"/>
                  <a:pt x="18207" y="9539"/>
                  <a:pt x="18207" y="9723"/>
                </a:cubicBezTo>
                <a:cubicBezTo>
                  <a:pt x="18207" y="9894"/>
                  <a:pt x="18215" y="10053"/>
                  <a:pt x="18231" y="10220"/>
                </a:cubicBezTo>
                <a:cubicBezTo>
                  <a:pt x="18231" y="10278"/>
                  <a:pt x="18231" y="10286"/>
                  <a:pt x="18231" y="10319"/>
                </a:cubicBezTo>
                <a:cubicBezTo>
                  <a:pt x="18217" y="10295"/>
                  <a:pt x="18189" y="10227"/>
                  <a:pt x="18182" y="10170"/>
                </a:cubicBezTo>
                <a:cubicBezTo>
                  <a:pt x="18182" y="10145"/>
                  <a:pt x="18182" y="10121"/>
                  <a:pt x="18182" y="10096"/>
                </a:cubicBezTo>
              </a:path>
              <a:path w="2754" h="2134">
                <a:moveTo>
                  <a:pt x="18256" y="8186"/>
                </a:moveTo>
                <a:cubicBezTo>
                  <a:pt x="18320" y="8186"/>
                  <a:pt x="18314" y="8214"/>
                  <a:pt x="18355" y="8260"/>
                </a:cubicBezTo>
                <a:cubicBezTo>
                  <a:pt x="18363" y="8268"/>
                  <a:pt x="18372" y="8277"/>
                  <a:pt x="18380" y="8285"/>
                </a:cubicBezTo>
              </a:path>
              <a:path w="2754" h="2134">
                <a:moveTo>
                  <a:pt x="18752" y="8781"/>
                </a:moveTo>
                <a:cubicBezTo>
                  <a:pt x="18745" y="8996"/>
                  <a:pt x="18739" y="9189"/>
                  <a:pt x="18752" y="9401"/>
                </a:cubicBezTo>
                <a:cubicBezTo>
                  <a:pt x="18760" y="9534"/>
                  <a:pt x="18772" y="9666"/>
                  <a:pt x="18777" y="9798"/>
                </a:cubicBezTo>
                <a:cubicBezTo>
                  <a:pt x="18777" y="9811"/>
                  <a:pt x="18817" y="9960"/>
                  <a:pt x="18802" y="9971"/>
                </a:cubicBezTo>
                <a:cubicBezTo>
                  <a:pt x="18777" y="9971"/>
                  <a:pt x="18769" y="9971"/>
                  <a:pt x="18777" y="9947"/>
                </a:cubicBezTo>
                <a:cubicBezTo>
                  <a:pt x="18777" y="9745"/>
                  <a:pt x="18791" y="9551"/>
                  <a:pt x="18802" y="9351"/>
                </a:cubicBezTo>
                <a:cubicBezTo>
                  <a:pt x="18813" y="9157"/>
                  <a:pt x="18839" y="8973"/>
                  <a:pt x="18876" y="8781"/>
                </a:cubicBezTo>
                <a:cubicBezTo>
                  <a:pt x="18903" y="8643"/>
                  <a:pt x="18916" y="8487"/>
                  <a:pt x="19025" y="8384"/>
                </a:cubicBezTo>
                <a:cubicBezTo>
                  <a:pt x="19068" y="8344"/>
                  <a:pt x="19192" y="8307"/>
                  <a:pt x="19248" y="8334"/>
                </a:cubicBezTo>
                <a:cubicBezTo>
                  <a:pt x="19341" y="8378"/>
                  <a:pt x="19423" y="8494"/>
                  <a:pt x="19472" y="8582"/>
                </a:cubicBezTo>
                <a:cubicBezTo>
                  <a:pt x="19566" y="8751"/>
                  <a:pt x="19604" y="8988"/>
                  <a:pt x="19621" y="9178"/>
                </a:cubicBezTo>
                <a:cubicBezTo>
                  <a:pt x="19637" y="9348"/>
                  <a:pt x="19641" y="9528"/>
                  <a:pt x="19645" y="9699"/>
                </a:cubicBezTo>
                <a:cubicBezTo>
                  <a:pt x="19647" y="9801"/>
                  <a:pt x="19620" y="9989"/>
                  <a:pt x="19695" y="9996"/>
                </a:cubicBezTo>
                <a:cubicBezTo>
                  <a:pt x="19748" y="10001"/>
                  <a:pt x="19727" y="9897"/>
                  <a:pt x="19745" y="9847"/>
                </a:cubicBezTo>
              </a:path>
              <a:path w="2754" h="2134">
                <a:moveTo>
                  <a:pt x="19745" y="8632"/>
                </a:moveTo>
                <a:cubicBezTo>
                  <a:pt x="19843" y="8739"/>
                  <a:pt x="19925" y="8849"/>
                  <a:pt x="20017" y="8954"/>
                </a:cubicBezTo>
                <a:cubicBezTo>
                  <a:pt x="20133" y="9086"/>
                  <a:pt x="20238" y="9231"/>
                  <a:pt x="20389" y="9327"/>
                </a:cubicBezTo>
                <a:cubicBezTo>
                  <a:pt x="20491" y="9391"/>
                  <a:pt x="20579" y="9468"/>
                  <a:pt x="20687" y="9525"/>
                </a:cubicBezTo>
                <a:cubicBezTo>
                  <a:pt x="20741" y="9554"/>
                  <a:pt x="20796" y="9591"/>
                  <a:pt x="20861" y="9575"/>
                </a:cubicBezTo>
                <a:cubicBezTo>
                  <a:pt x="20935" y="9556"/>
                  <a:pt x="20930" y="9336"/>
                  <a:pt x="20935" y="9302"/>
                </a:cubicBezTo>
              </a:path>
              <a:path w="2754" h="2134">
                <a:moveTo>
                  <a:pt x="20588" y="8508"/>
                </a:moveTo>
                <a:cubicBezTo>
                  <a:pt x="20427" y="8760"/>
                  <a:pt x="20347" y="8942"/>
                  <a:pt x="20265" y="9227"/>
                </a:cubicBezTo>
                <a:cubicBezTo>
                  <a:pt x="20201" y="9447"/>
                  <a:pt x="20166" y="9674"/>
                  <a:pt x="20117" y="9897"/>
                </a:cubicBezTo>
                <a:cubicBezTo>
                  <a:pt x="20093" y="10005"/>
                  <a:pt x="20062" y="10149"/>
                  <a:pt x="19968" y="10220"/>
                </a:cubicBezTo>
                <a:cubicBezTo>
                  <a:pt x="19951" y="10228"/>
                  <a:pt x="19935" y="10236"/>
                  <a:pt x="19918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720" y="4303800"/>
            <a:ext cx="6707160" cy="1679400"/>
          </a:xfrm>
          <a:custGeom>
            <a:avLst/>
            <a:gdLst/>
            <a:ahLst/>
            <a:rect l="l" t="t" r="r" b="b"/>
            <a:pathLst>
              <a:path w="18629" h="4664">
                <a:moveTo>
                  <a:pt x="7169" y="12576"/>
                </a:moveTo>
                <a:cubicBezTo>
                  <a:pt x="7177" y="12559"/>
                  <a:pt x="7185" y="12543"/>
                  <a:pt x="7193" y="12526"/>
                </a:cubicBezTo>
                <a:cubicBezTo>
                  <a:pt x="7193" y="12606"/>
                  <a:pt x="7209" y="12673"/>
                  <a:pt x="7218" y="12750"/>
                </a:cubicBezTo>
                <a:cubicBezTo>
                  <a:pt x="7232" y="12871"/>
                  <a:pt x="7234" y="13002"/>
                  <a:pt x="7243" y="13122"/>
                </a:cubicBezTo>
                <a:cubicBezTo>
                  <a:pt x="7257" y="13304"/>
                  <a:pt x="7252" y="13486"/>
                  <a:pt x="7268" y="13667"/>
                </a:cubicBezTo>
                <a:cubicBezTo>
                  <a:pt x="7278" y="13785"/>
                  <a:pt x="7302" y="13899"/>
                  <a:pt x="7317" y="14015"/>
                </a:cubicBezTo>
                <a:cubicBezTo>
                  <a:pt x="7325" y="14079"/>
                  <a:pt x="7336" y="14136"/>
                  <a:pt x="7367" y="14188"/>
                </a:cubicBezTo>
              </a:path>
              <a:path w="18629" h="4664">
                <a:moveTo>
                  <a:pt x="6003" y="14387"/>
                </a:moveTo>
                <a:cubicBezTo>
                  <a:pt x="6287" y="14387"/>
                  <a:pt x="6565" y="14395"/>
                  <a:pt x="6846" y="14412"/>
                </a:cubicBezTo>
                <a:cubicBezTo>
                  <a:pt x="7113" y="14428"/>
                  <a:pt x="7372" y="14431"/>
                  <a:pt x="7640" y="14461"/>
                </a:cubicBezTo>
                <a:cubicBezTo>
                  <a:pt x="7861" y="14486"/>
                  <a:pt x="8093" y="14495"/>
                  <a:pt x="8310" y="14536"/>
                </a:cubicBezTo>
                <a:cubicBezTo>
                  <a:pt x="8375" y="14557"/>
                  <a:pt x="8391" y="14565"/>
                  <a:pt x="8434" y="14560"/>
                </a:cubicBezTo>
              </a:path>
              <a:path w="18629" h="4664">
                <a:moveTo>
                  <a:pt x="7293" y="15056"/>
                </a:moveTo>
                <a:cubicBezTo>
                  <a:pt x="7293" y="14973"/>
                  <a:pt x="7298" y="14902"/>
                  <a:pt x="7243" y="14833"/>
                </a:cubicBezTo>
                <a:cubicBezTo>
                  <a:pt x="7189" y="14765"/>
                  <a:pt x="7077" y="14744"/>
                  <a:pt x="6995" y="14734"/>
                </a:cubicBezTo>
                <a:cubicBezTo>
                  <a:pt x="6907" y="14724"/>
                  <a:pt x="6775" y="14768"/>
                  <a:pt x="6697" y="14808"/>
                </a:cubicBezTo>
                <a:cubicBezTo>
                  <a:pt x="6622" y="14847"/>
                  <a:pt x="6557" y="14901"/>
                  <a:pt x="6548" y="14982"/>
                </a:cubicBezTo>
                <a:cubicBezTo>
                  <a:pt x="6539" y="15065"/>
                  <a:pt x="6627" y="15232"/>
                  <a:pt x="6672" y="15304"/>
                </a:cubicBezTo>
                <a:cubicBezTo>
                  <a:pt x="6768" y="15457"/>
                  <a:pt x="6826" y="15574"/>
                  <a:pt x="6871" y="15751"/>
                </a:cubicBezTo>
                <a:cubicBezTo>
                  <a:pt x="6904" y="15883"/>
                  <a:pt x="6960" y="16035"/>
                  <a:pt x="6945" y="16173"/>
                </a:cubicBezTo>
                <a:cubicBezTo>
                  <a:pt x="6931" y="16300"/>
                  <a:pt x="6881" y="16361"/>
                  <a:pt x="6796" y="16446"/>
                </a:cubicBezTo>
                <a:cubicBezTo>
                  <a:pt x="6703" y="16539"/>
                  <a:pt x="6651" y="16545"/>
                  <a:pt x="6524" y="16545"/>
                </a:cubicBezTo>
                <a:cubicBezTo>
                  <a:pt x="6405" y="16545"/>
                  <a:pt x="6340" y="16497"/>
                  <a:pt x="6251" y="16421"/>
                </a:cubicBezTo>
                <a:cubicBezTo>
                  <a:pt x="6197" y="16374"/>
                  <a:pt x="6149" y="16298"/>
                  <a:pt x="6176" y="16222"/>
                </a:cubicBezTo>
                <a:cubicBezTo>
                  <a:pt x="6193" y="16189"/>
                  <a:pt x="6209" y="16156"/>
                  <a:pt x="6226" y="16123"/>
                </a:cubicBezTo>
              </a:path>
              <a:path w="18629" h="4664">
                <a:moveTo>
                  <a:pt x="7615" y="15354"/>
                </a:moveTo>
                <a:cubicBezTo>
                  <a:pt x="7615" y="15460"/>
                  <a:pt x="7615" y="15549"/>
                  <a:pt x="7590" y="15652"/>
                </a:cubicBezTo>
                <a:cubicBezTo>
                  <a:pt x="7555" y="15801"/>
                  <a:pt x="7520" y="15948"/>
                  <a:pt x="7491" y="16098"/>
                </a:cubicBezTo>
                <a:cubicBezTo>
                  <a:pt x="7470" y="16207"/>
                  <a:pt x="7443" y="16313"/>
                  <a:pt x="7417" y="16421"/>
                </a:cubicBezTo>
              </a:path>
              <a:path w="18629" h="4664">
                <a:moveTo>
                  <a:pt x="7640" y="14833"/>
                </a:moveTo>
                <a:cubicBezTo>
                  <a:pt x="7672" y="14833"/>
                  <a:pt x="7668" y="14854"/>
                  <a:pt x="7689" y="14883"/>
                </a:cubicBezTo>
              </a:path>
              <a:path w="18629" h="4664">
                <a:moveTo>
                  <a:pt x="7962" y="15280"/>
                </a:moveTo>
                <a:cubicBezTo>
                  <a:pt x="7962" y="15402"/>
                  <a:pt x="7962" y="15508"/>
                  <a:pt x="7938" y="15627"/>
                </a:cubicBezTo>
                <a:cubicBezTo>
                  <a:pt x="7910" y="15770"/>
                  <a:pt x="7879" y="15928"/>
                  <a:pt x="7863" y="16073"/>
                </a:cubicBezTo>
                <a:cubicBezTo>
                  <a:pt x="7852" y="16176"/>
                  <a:pt x="7852" y="16276"/>
                  <a:pt x="7813" y="16371"/>
                </a:cubicBezTo>
                <a:cubicBezTo>
                  <a:pt x="7793" y="16412"/>
                  <a:pt x="7785" y="16418"/>
                  <a:pt x="7789" y="16446"/>
                </a:cubicBezTo>
                <a:cubicBezTo>
                  <a:pt x="7789" y="16364"/>
                  <a:pt x="7791" y="16303"/>
                  <a:pt x="7813" y="16222"/>
                </a:cubicBezTo>
                <a:cubicBezTo>
                  <a:pt x="7855" y="16070"/>
                  <a:pt x="7855" y="15929"/>
                  <a:pt x="7913" y="15776"/>
                </a:cubicBezTo>
                <a:cubicBezTo>
                  <a:pt x="7968" y="15631"/>
                  <a:pt x="8012" y="15436"/>
                  <a:pt x="8086" y="15304"/>
                </a:cubicBezTo>
                <a:cubicBezTo>
                  <a:pt x="8106" y="15268"/>
                  <a:pt x="8212" y="15128"/>
                  <a:pt x="8260" y="15131"/>
                </a:cubicBezTo>
                <a:cubicBezTo>
                  <a:pt x="8358" y="15136"/>
                  <a:pt x="8370" y="15179"/>
                  <a:pt x="8409" y="15255"/>
                </a:cubicBezTo>
                <a:cubicBezTo>
                  <a:pt x="8452" y="15339"/>
                  <a:pt x="8455" y="15458"/>
                  <a:pt x="8458" y="15553"/>
                </a:cubicBezTo>
                <a:cubicBezTo>
                  <a:pt x="8462" y="15683"/>
                  <a:pt x="8437" y="15822"/>
                  <a:pt x="8409" y="15949"/>
                </a:cubicBezTo>
                <a:cubicBezTo>
                  <a:pt x="8378" y="16090"/>
                  <a:pt x="8345" y="16231"/>
                  <a:pt x="8310" y="16371"/>
                </a:cubicBezTo>
                <a:cubicBezTo>
                  <a:pt x="8299" y="16416"/>
                  <a:pt x="8247" y="16574"/>
                  <a:pt x="8260" y="16619"/>
                </a:cubicBezTo>
                <a:cubicBezTo>
                  <a:pt x="8280" y="16688"/>
                  <a:pt x="8313" y="16490"/>
                  <a:pt x="8334" y="16421"/>
                </a:cubicBezTo>
              </a:path>
              <a:path w="18629" h="4664">
                <a:moveTo>
                  <a:pt x="8607" y="15404"/>
                </a:moveTo>
                <a:cubicBezTo>
                  <a:pt x="8682" y="15619"/>
                  <a:pt x="8760" y="15818"/>
                  <a:pt x="8855" y="16024"/>
                </a:cubicBezTo>
                <a:cubicBezTo>
                  <a:pt x="8911" y="16145"/>
                  <a:pt x="8973" y="16265"/>
                  <a:pt x="9054" y="16371"/>
                </a:cubicBezTo>
                <a:cubicBezTo>
                  <a:pt x="9090" y="16418"/>
                  <a:pt x="9087" y="16417"/>
                  <a:pt x="9128" y="16396"/>
                </a:cubicBezTo>
              </a:path>
              <a:path w="18629" h="4664">
                <a:moveTo>
                  <a:pt x="9153" y="15156"/>
                </a:moveTo>
                <a:cubicBezTo>
                  <a:pt x="9046" y="15326"/>
                  <a:pt x="8931" y="15489"/>
                  <a:pt x="8855" y="15677"/>
                </a:cubicBezTo>
                <a:cubicBezTo>
                  <a:pt x="8774" y="15876"/>
                  <a:pt x="8689" y="16073"/>
                  <a:pt x="8607" y="16272"/>
                </a:cubicBezTo>
                <a:cubicBezTo>
                  <a:pt x="8557" y="16393"/>
                  <a:pt x="8516" y="16494"/>
                  <a:pt x="8483" y="16619"/>
                </a:cubicBezTo>
              </a:path>
              <a:path w="18629" h="4664">
                <a:moveTo>
                  <a:pt x="9649" y="14585"/>
                </a:moveTo>
                <a:cubicBezTo>
                  <a:pt x="9732" y="14554"/>
                  <a:pt x="9806" y="14560"/>
                  <a:pt x="9897" y="14560"/>
                </a:cubicBezTo>
                <a:cubicBezTo>
                  <a:pt x="9995" y="14560"/>
                  <a:pt x="10076" y="14596"/>
                  <a:pt x="10170" y="14610"/>
                </a:cubicBezTo>
                <a:cubicBezTo>
                  <a:pt x="10211" y="14610"/>
                  <a:pt x="10219" y="14610"/>
                  <a:pt x="10244" y="14610"/>
                </a:cubicBezTo>
              </a:path>
              <a:path w="18629" h="4664">
                <a:moveTo>
                  <a:pt x="9624" y="14957"/>
                </a:moveTo>
                <a:cubicBezTo>
                  <a:pt x="9760" y="14957"/>
                  <a:pt x="9890" y="14965"/>
                  <a:pt x="10021" y="14932"/>
                </a:cubicBezTo>
              </a:path>
              <a:path w="18629" h="4664">
                <a:moveTo>
                  <a:pt x="12303" y="13990"/>
                </a:moveTo>
                <a:cubicBezTo>
                  <a:pt x="12338" y="13895"/>
                  <a:pt x="12367" y="13821"/>
                  <a:pt x="12353" y="13717"/>
                </a:cubicBezTo>
                <a:cubicBezTo>
                  <a:pt x="12340" y="13618"/>
                  <a:pt x="12315" y="13556"/>
                  <a:pt x="12229" y="13494"/>
                </a:cubicBezTo>
                <a:cubicBezTo>
                  <a:pt x="12146" y="13435"/>
                  <a:pt x="12033" y="13381"/>
                  <a:pt x="11931" y="13370"/>
                </a:cubicBezTo>
                <a:cubicBezTo>
                  <a:pt x="11827" y="13359"/>
                  <a:pt x="11631" y="13354"/>
                  <a:pt x="11534" y="13395"/>
                </a:cubicBezTo>
                <a:cubicBezTo>
                  <a:pt x="11393" y="13454"/>
                  <a:pt x="11336" y="13521"/>
                  <a:pt x="11410" y="13667"/>
                </a:cubicBezTo>
                <a:cubicBezTo>
                  <a:pt x="11464" y="13775"/>
                  <a:pt x="11540" y="13891"/>
                  <a:pt x="11609" y="13990"/>
                </a:cubicBezTo>
                <a:cubicBezTo>
                  <a:pt x="11705" y="14129"/>
                  <a:pt x="11775" y="14229"/>
                  <a:pt x="11832" y="14387"/>
                </a:cubicBezTo>
                <a:cubicBezTo>
                  <a:pt x="11879" y="14515"/>
                  <a:pt x="11901" y="14645"/>
                  <a:pt x="11881" y="14784"/>
                </a:cubicBezTo>
                <a:cubicBezTo>
                  <a:pt x="11868" y="14870"/>
                  <a:pt x="11840" y="15060"/>
                  <a:pt x="11782" y="15131"/>
                </a:cubicBezTo>
                <a:cubicBezTo>
                  <a:pt x="11676" y="15261"/>
                  <a:pt x="11411" y="15344"/>
                  <a:pt x="11261" y="15354"/>
                </a:cubicBezTo>
                <a:cubicBezTo>
                  <a:pt x="11162" y="15360"/>
                  <a:pt x="11126" y="15338"/>
                  <a:pt x="11038" y="15304"/>
                </a:cubicBezTo>
                <a:cubicBezTo>
                  <a:pt x="10970" y="15278"/>
                  <a:pt x="10972" y="15308"/>
                  <a:pt x="10964" y="15230"/>
                </a:cubicBezTo>
                <a:cubicBezTo>
                  <a:pt x="10985" y="15186"/>
                  <a:pt x="10988" y="15174"/>
                  <a:pt x="11013" y="15156"/>
                </a:cubicBezTo>
              </a:path>
              <a:path w="18629" h="4664">
                <a:moveTo>
                  <a:pt x="10939" y="13146"/>
                </a:moveTo>
                <a:cubicBezTo>
                  <a:pt x="10894" y="13124"/>
                  <a:pt x="10850" y="13084"/>
                  <a:pt x="10790" y="13097"/>
                </a:cubicBezTo>
                <a:cubicBezTo>
                  <a:pt x="10707" y="13115"/>
                  <a:pt x="10605" y="13195"/>
                  <a:pt x="10542" y="13246"/>
                </a:cubicBezTo>
                <a:cubicBezTo>
                  <a:pt x="10427" y="13339"/>
                  <a:pt x="10371" y="13436"/>
                  <a:pt x="10319" y="13568"/>
                </a:cubicBezTo>
                <a:cubicBezTo>
                  <a:pt x="10259" y="13720"/>
                  <a:pt x="10206" y="13873"/>
                  <a:pt x="10220" y="14039"/>
                </a:cubicBezTo>
                <a:cubicBezTo>
                  <a:pt x="10233" y="14191"/>
                  <a:pt x="10268" y="14403"/>
                  <a:pt x="10344" y="14536"/>
                </a:cubicBezTo>
                <a:cubicBezTo>
                  <a:pt x="10435" y="14695"/>
                  <a:pt x="10593" y="14992"/>
                  <a:pt x="10740" y="15106"/>
                </a:cubicBezTo>
                <a:cubicBezTo>
                  <a:pt x="10788" y="15143"/>
                  <a:pt x="10928" y="15238"/>
                  <a:pt x="10988" y="15255"/>
                </a:cubicBezTo>
                <a:cubicBezTo>
                  <a:pt x="11031" y="15267"/>
                  <a:pt x="11079" y="15283"/>
                  <a:pt x="11112" y="15255"/>
                </a:cubicBezTo>
                <a:cubicBezTo>
                  <a:pt x="11120" y="15238"/>
                  <a:pt x="11129" y="15222"/>
                  <a:pt x="11137" y="15205"/>
                </a:cubicBezTo>
              </a:path>
              <a:path w="18629" h="4664">
                <a:moveTo>
                  <a:pt x="13543" y="13990"/>
                </a:moveTo>
                <a:cubicBezTo>
                  <a:pt x="13587" y="13920"/>
                  <a:pt x="13627" y="13872"/>
                  <a:pt x="13643" y="13791"/>
                </a:cubicBezTo>
                <a:cubicBezTo>
                  <a:pt x="13655" y="13733"/>
                  <a:pt x="13626" y="13591"/>
                  <a:pt x="13593" y="13543"/>
                </a:cubicBezTo>
                <a:cubicBezTo>
                  <a:pt x="13551" y="13483"/>
                  <a:pt x="13440" y="13430"/>
                  <a:pt x="13370" y="13419"/>
                </a:cubicBezTo>
                <a:cubicBezTo>
                  <a:pt x="13271" y="13404"/>
                  <a:pt x="13141" y="13413"/>
                  <a:pt x="13047" y="13444"/>
                </a:cubicBezTo>
                <a:cubicBezTo>
                  <a:pt x="12916" y="13486"/>
                  <a:pt x="12806" y="13602"/>
                  <a:pt x="12750" y="13717"/>
                </a:cubicBezTo>
                <a:cubicBezTo>
                  <a:pt x="12702" y="13816"/>
                  <a:pt x="12726" y="13916"/>
                  <a:pt x="12750" y="14015"/>
                </a:cubicBezTo>
                <a:cubicBezTo>
                  <a:pt x="12781" y="14140"/>
                  <a:pt x="12849" y="14256"/>
                  <a:pt x="12923" y="14362"/>
                </a:cubicBezTo>
                <a:cubicBezTo>
                  <a:pt x="13010" y="14486"/>
                  <a:pt x="13100" y="14600"/>
                  <a:pt x="13171" y="14734"/>
                </a:cubicBezTo>
                <a:cubicBezTo>
                  <a:pt x="13238" y="14860"/>
                  <a:pt x="13301" y="14987"/>
                  <a:pt x="13320" y="15131"/>
                </a:cubicBezTo>
                <a:cubicBezTo>
                  <a:pt x="13333" y="15233"/>
                  <a:pt x="13289" y="15339"/>
                  <a:pt x="13246" y="15429"/>
                </a:cubicBezTo>
                <a:cubicBezTo>
                  <a:pt x="13194" y="15539"/>
                  <a:pt x="13091" y="15604"/>
                  <a:pt x="12973" y="15627"/>
                </a:cubicBezTo>
                <a:cubicBezTo>
                  <a:pt x="12888" y="15643"/>
                  <a:pt x="12780" y="15622"/>
                  <a:pt x="12700" y="15602"/>
                </a:cubicBezTo>
                <a:cubicBezTo>
                  <a:pt x="12638" y="15587"/>
                  <a:pt x="12575" y="15556"/>
                  <a:pt x="12526" y="15528"/>
                </a:cubicBezTo>
                <a:cubicBezTo>
                  <a:pt x="12518" y="15520"/>
                  <a:pt x="12510" y="15511"/>
                  <a:pt x="12502" y="15503"/>
                </a:cubicBezTo>
              </a:path>
              <a:path w="18629" h="4664">
                <a:moveTo>
                  <a:pt x="14238" y="13965"/>
                </a:moveTo>
                <a:cubicBezTo>
                  <a:pt x="14287" y="14082"/>
                  <a:pt x="14348" y="14201"/>
                  <a:pt x="14412" y="14312"/>
                </a:cubicBezTo>
                <a:cubicBezTo>
                  <a:pt x="14489" y="14446"/>
                  <a:pt x="14575" y="14581"/>
                  <a:pt x="14660" y="14709"/>
                </a:cubicBezTo>
                <a:cubicBezTo>
                  <a:pt x="14766" y="14869"/>
                  <a:pt x="14848" y="15053"/>
                  <a:pt x="14982" y="15180"/>
                </a:cubicBezTo>
                <a:cubicBezTo>
                  <a:pt x="15023" y="15219"/>
                  <a:pt x="15112" y="15357"/>
                  <a:pt x="15180" y="15280"/>
                </a:cubicBezTo>
                <a:cubicBezTo>
                  <a:pt x="15231" y="15229"/>
                  <a:pt x="15258" y="15190"/>
                  <a:pt x="15280" y="15131"/>
                </a:cubicBezTo>
              </a:path>
              <a:path w="18629" h="4664">
                <a:moveTo>
                  <a:pt x="15255" y="13717"/>
                </a:moveTo>
                <a:cubicBezTo>
                  <a:pt x="15198" y="13595"/>
                  <a:pt x="15211" y="13620"/>
                  <a:pt x="15156" y="13543"/>
                </a:cubicBezTo>
                <a:cubicBezTo>
                  <a:pt x="15056" y="13625"/>
                  <a:pt x="14937" y="13735"/>
                  <a:pt x="14858" y="13841"/>
                </a:cubicBezTo>
                <a:cubicBezTo>
                  <a:pt x="14690" y="14066"/>
                  <a:pt x="14530" y="14290"/>
                  <a:pt x="14387" y="14536"/>
                </a:cubicBezTo>
                <a:cubicBezTo>
                  <a:pt x="14254" y="14764"/>
                  <a:pt x="14109" y="14996"/>
                  <a:pt x="13990" y="15230"/>
                </a:cubicBezTo>
                <a:cubicBezTo>
                  <a:pt x="13900" y="15407"/>
                  <a:pt x="13848" y="15589"/>
                  <a:pt x="13791" y="15776"/>
                </a:cubicBezTo>
                <a:cubicBezTo>
                  <a:pt x="13711" y="16038"/>
                  <a:pt x="13802" y="15765"/>
                  <a:pt x="13816" y="15850"/>
                </a:cubicBezTo>
              </a:path>
              <a:path w="18629" h="4664">
                <a:moveTo>
                  <a:pt x="15825" y="14188"/>
                </a:moveTo>
                <a:cubicBezTo>
                  <a:pt x="16118" y="14138"/>
                  <a:pt x="16332" y="14114"/>
                  <a:pt x="16619" y="14114"/>
                </a:cubicBezTo>
                <a:cubicBezTo>
                  <a:pt x="16732" y="14114"/>
                  <a:pt x="16833" y="14133"/>
                  <a:pt x="16942" y="14139"/>
                </a:cubicBezTo>
                <a:cubicBezTo>
                  <a:pt x="16986" y="14139"/>
                  <a:pt x="17000" y="14142"/>
                  <a:pt x="17016" y="14114"/>
                </a:cubicBezTo>
              </a:path>
              <a:path w="18629" h="4664">
                <a:moveTo>
                  <a:pt x="15925" y="14734"/>
                </a:moveTo>
                <a:cubicBezTo>
                  <a:pt x="16061" y="14734"/>
                  <a:pt x="16188" y="14719"/>
                  <a:pt x="16321" y="14709"/>
                </a:cubicBezTo>
                <a:cubicBezTo>
                  <a:pt x="16473" y="14698"/>
                  <a:pt x="16606" y="14663"/>
                  <a:pt x="16743" y="14635"/>
                </a:cubicBezTo>
                <a:cubicBezTo>
                  <a:pt x="16768" y="14635"/>
                  <a:pt x="16793" y="14635"/>
                  <a:pt x="16818" y="14635"/>
                </a:cubicBezTo>
              </a:path>
              <a:path w="18629" h="4664">
                <a:moveTo>
                  <a:pt x="17859" y="13692"/>
                </a:moveTo>
                <a:cubicBezTo>
                  <a:pt x="17951" y="13600"/>
                  <a:pt x="18058" y="13443"/>
                  <a:pt x="18157" y="13370"/>
                </a:cubicBezTo>
                <a:cubicBezTo>
                  <a:pt x="18209" y="13332"/>
                  <a:pt x="18313" y="13264"/>
                  <a:pt x="18380" y="13246"/>
                </a:cubicBezTo>
                <a:cubicBezTo>
                  <a:pt x="18446" y="13228"/>
                  <a:pt x="18595" y="13237"/>
                  <a:pt x="18653" y="13271"/>
                </a:cubicBezTo>
                <a:cubicBezTo>
                  <a:pt x="18776" y="13344"/>
                  <a:pt x="18857" y="13408"/>
                  <a:pt x="18926" y="13519"/>
                </a:cubicBezTo>
                <a:cubicBezTo>
                  <a:pt x="18987" y="13617"/>
                  <a:pt x="19041" y="13720"/>
                  <a:pt x="19025" y="13841"/>
                </a:cubicBezTo>
                <a:cubicBezTo>
                  <a:pt x="19012" y="13935"/>
                  <a:pt x="18960" y="14066"/>
                  <a:pt x="18901" y="14139"/>
                </a:cubicBezTo>
                <a:cubicBezTo>
                  <a:pt x="18742" y="14334"/>
                  <a:pt x="18528" y="14531"/>
                  <a:pt x="18331" y="14684"/>
                </a:cubicBezTo>
                <a:cubicBezTo>
                  <a:pt x="18189" y="14794"/>
                  <a:pt x="18064" y="14930"/>
                  <a:pt x="17934" y="15056"/>
                </a:cubicBezTo>
                <a:cubicBezTo>
                  <a:pt x="17837" y="15150"/>
                  <a:pt x="17757" y="15258"/>
                  <a:pt x="17661" y="15354"/>
                </a:cubicBezTo>
                <a:cubicBezTo>
                  <a:pt x="17623" y="15392"/>
                  <a:pt x="17552" y="15466"/>
                  <a:pt x="17562" y="15528"/>
                </a:cubicBezTo>
                <a:cubicBezTo>
                  <a:pt x="17568" y="15564"/>
                  <a:pt x="17606" y="15557"/>
                  <a:pt x="17636" y="15577"/>
                </a:cubicBezTo>
                <a:cubicBezTo>
                  <a:pt x="17704" y="15622"/>
                  <a:pt x="17838" y="15611"/>
                  <a:pt x="17909" y="15627"/>
                </a:cubicBezTo>
                <a:cubicBezTo>
                  <a:pt x="18017" y="15651"/>
                  <a:pt x="18121" y="15652"/>
                  <a:pt x="18231" y="15677"/>
                </a:cubicBezTo>
                <a:cubicBezTo>
                  <a:pt x="18382" y="15711"/>
                  <a:pt x="18532" y="15721"/>
                  <a:pt x="18678" y="15776"/>
                </a:cubicBezTo>
                <a:cubicBezTo>
                  <a:pt x="18743" y="15801"/>
                  <a:pt x="18808" y="15840"/>
                  <a:pt x="18876" y="15850"/>
                </a:cubicBezTo>
                <a:cubicBezTo>
                  <a:pt x="18909" y="15850"/>
                  <a:pt x="18926" y="15850"/>
                  <a:pt x="18951" y="15850"/>
                </a:cubicBezTo>
              </a:path>
              <a:path w="18629" h="4664">
                <a:moveTo>
                  <a:pt x="20563" y="11956"/>
                </a:moveTo>
                <a:cubicBezTo>
                  <a:pt x="20583" y="12023"/>
                  <a:pt x="20610" y="12085"/>
                  <a:pt x="20613" y="12154"/>
                </a:cubicBezTo>
                <a:cubicBezTo>
                  <a:pt x="20617" y="12257"/>
                  <a:pt x="20652" y="12348"/>
                  <a:pt x="20662" y="12452"/>
                </a:cubicBezTo>
                <a:cubicBezTo>
                  <a:pt x="20671" y="12542"/>
                  <a:pt x="20663" y="12638"/>
                  <a:pt x="20687" y="12725"/>
                </a:cubicBezTo>
                <a:cubicBezTo>
                  <a:pt x="20702" y="12778"/>
                  <a:pt x="20746" y="12828"/>
                  <a:pt x="20762" y="12874"/>
                </a:cubicBezTo>
                <a:cubicBezTo>
                  <a:pt x="20762" y="12898"/>
                  <a:pt x="20762" y="12906"/>
                  <a:pt x="20786" y="12898"/>
                </a:cubicBezTo>
                <a:cubicBezTo>
                  <a:pt x="20795" y="12854"/>
                  <a:pt x="20805" y="12820"/>
                  <a:pt x="20811" y="12774"/>
                </a:cubicBezTo>
              </a:path>
              <a:path w="18629" h="4664">
                <a:moveTo>
                  <a:pt x="20960" y="11956"/>
                </a:moveTo>
                <a:cubicBezTo>
                  <a:pt x="20981" y="12033"/>
                  <a:pt x="20991" y="12105"/>
                  <a:pt x="21010" y="12179"/>
                </a:cubicBezTo>
                <a:cubicBezTo>
                  <a:pt x="21044" y="12312"/>
                  <a:pt x="21069" y="12466"/>
                  <a:pt x="21084" y="12601"/>
                </a:cubicBezTo>
                <a:cubicBezTo>
                  <a:pt x="21096" y="12710"/>
                  <a:pt x="21109" y="12812"/>
                  <a:pt x="21109" y="12923"/>
                </a:cubicBezTo>
                <a:cubicBezTo>
                  <a:pt x="21109" y="12944"/>
                  <a:pt x="21121" y="13122"/>
                  <a:pt x="21158" y="13122"/>
                </a:cubicBezTo>
                <a:cubicBezTo>
                  <a:pt x="21158" y="13094"/>
                  <a:pt x="21160" y="13083"/>
                  <a:pt x="21183" y="13072"/>
                </a:cubicBezTo>
              </a:path>
              <a:path w="18629" h="4664">
                <a:moveTo>
                  <a:pt x="20067" y="11981"/>
                </a:moveTo>
                <a:cubicBezTo>
                  <a:pt x="20375" y="11981"/>
                  <a:pt x="20681" y="11984"/>
                  <a:pt x="20985" y="12005"/>
                </a:cubicBezTo>
                <a:cubicBezTo>
                  <a:pt x="21152" y="12016"/>
                  <a:pt x="21312" y="12030"/>
                  <a:pt x="21481" y="12030"/>
                </a:cubicBezTo>
                <a:cubicBezTo>
                  <a:pt x="21559" y="12030"/>
                  <a:pt x="21616" y="12023"/>
                  <a:pt x="21679" y="12055"/>
                </a:cubicBezTo>
              </a:path>
              <a:path w="18629" h="4664">
                <a:moveTo>
                  <a:pt x="20092" y="13171"/>
                </a:moveTo>
                <a:cubicBezTo>
                  <a:pt x="20163" y="13144"/>
                  <a:pt x="20237" y="13125"/>
                  <a:pt x="20315" y="13122"/>
                </a:cubicBezTo>
                <a:cubicBezTo>
                  <a:pt x="20441" y="13117"/>
                  <a:pt x="20557" y="13097"/>
                  <a:pt x="20687" y="13097"/>
                </a:cubicBezTo>
                <a:cubicBezTo>
                  <a:pt x="20849" y="13097"/>
                  <a:pt x="20995" y="13093"/>
                  <a:pt x="21158" y="13097"/>
                </a:cubicBezTo>
                <a:cubicBezTo>
                  <a:pt x="21295" y="13100"/>
                  <a:pt x="21421" y="13106"/>
                  <a:pt x="21555" y="13122"/>
                </a:cubicBezTo>
                <a:cubicBezTo>
                  <a:pt x="21628" y="13131"/>
                  <a:pt x="21691" y="13128"/>
                  <a:pt x="21754" y="13146"/>
                </a:cubicBezTo>
                <a:cubicBezTo>
                  <a:pt x="21762" y="13146"/>
                  <a:pt x="21771" y="13146"/>
                  <a:pt x="21779" y="13146"/>
                </a:cubicBezTo>
              </a:path>
              <a:path w="18629" h="4664">
                <a:moveTo>
                  <a:pt x="20613" y="13320"/>
                </a:moveTo>
                <a:cubicBezTo>
                  <a:pt x="20548" y="13339"/>
                  <a:pt x="20527" y="13375"/>
                  <a:pt x="20513" y="13444"/>
                </a:cubicBezTo>
                <a:cubicBezTo>
                  <a:pt x="20489" y="13565"/>
                  <a:pt x="20487" y="13696"/>
                  <a:pt x="20464" y="13816"/>
                </a:cubicBezTo>
                <a:cubicBezTo>
                  <a:pt x="20441" y="13934"/>
                  <a:pt x="20451" y="13997"/>
                  <a:pt x="20464" y="14114"/>
                </a:cubicBezTo>
                <a:cubicBezTo>
                  <a:pt x="20476" y="14222"/>
                  <a:pt x="20491" y="14299"/>
                  <a:pt x="20563" y="14387"/>
                </a:cubicBezTo>
                <a:cubicBezTo>
                  <a:pt x="20622" y="14459"/>
                  <a:pt x="20693" y="14518"/>
                  <a:pt x="20786" y="14536"/>
                </a:cubicBezTo>
                <a:cubicBezTo>
                  <a:pt x="20864" y="14551"/>
                  <a:pt x="20961" y="14539"/>
                  <a:pt x="21034" y="14511"/>
                </a:cubicBezTo>
                <a:cubicBezTo>
                  <a:pt x="21109" y="14482"/>
                  <a:pt x="21183" y="14398"/>
                  <a:pt x="21233" y="14337"/>
                </a:cubicBezTo>
                <a:cubicBezTo>
                  <a:pt x="21300" y="14255"/>
                  <a:pt x="21340" y="14165"/>
                  <a:pt x="21357" y="14064"/>
                </a:cubicBezTo>
                <a:cubicBezTo>
                  <a:pt x="21367" y="14002"/>
                  <a:pt x="21317" y="13938"/>
                  <a:pt x="21282" y="13891"/>
                </a:cubicBezTo>
                <a:cubicBezTo>
                  <a:pt x="21262" y="13863"/>
                  <a:pt x="21169" y="13838"/>
                  <a:pt x="21134" y="13841"/>
                </a:cubicBezTo>
                <a:cubicBezTo>
                  <a:pt x="21077" y="13846"/>
                  <a:pt x="20994" y="13896"/>
                  <a:pt x="20960" y="13940"/>
                </a:cubicBezTo>
                <a:cubicBezTo>
                  <a:pt x="20884" y="14039"/>
                  <a:pt x="20816" y="14216"/>
                  <a:pt x="20811" y="14337"/>
                </a:cubicBezTo>
                <a:cubicBezTo>
                  <a:pt x="20808" y="14412"/>
                  <a:pt x="20813" y="14492"/>
                  <a:pt x="20836" y="14560"/>
                </a:cubicBezTo>
                <a:cubicBezTo>
                  <a:pt x="20858" y="14626"/>
                  <a:pt x="20894" y="14629"/>
                  <a:pt x="20935" y="14660"/>
                </a:cubicBezTo>
                <a:cubicBezTo>
                  <a:pt x="20972" y="14687"/>
                  <a:pt x="21010" y="14660"/>
                  <a:pt x="21059" y="14635"/>
                </a:cubicBezTo>
              </a:path>
              <a:path w="18629" h="4664">
                <a:moveTo>
                  <a:pt x="22622" y="12055"/>
                </a:moveTo>
                <a:cubicBezTo>
                  <a:pt x="22622" y="12154"/>
                  <a:pt x="22612" y="12236"/>
                  <a:pt x="22597" y="12328"/>
                </a:cubicBezTo>
                <a:cubicBezTo>
                  <a:pt x="22585" y="12400"/>
                  <a:pt x="22596" y="12509"/>
                  <a:pt x="22572" y="12576"/>
                </a:cubicBezTo>
                <a:cubicBezTo>
                  <a:pt x="22549" y="12599"/>
                  <a:pt x="22541" y="12603"/>
                  <a:pt x="22547" y="12626"/>
                </a:cubicBezTo>
                <a:cubicBezTo>
                  <a:pt x="22606" y="12611"/>
                  <a:pt x="22588" y="12621"/>
                  <a:pt x="22647" y="12576"/>
                </a:cubicBezTo>
                <a:cubicBezTo>
                  <a:pt x="22735" y="12509"/>
                  <a:pt x="22743" y="12506"/>
                  <a:pt x="22845" y="12477"/>
                </a:cubicBezTo>
                <a:cubicBezTo>
                  <a:pt x="22921" y="12455"/>
                  <a:pt x="23042" y="12439"/>
                  <a:pt x="23118" y="12477"/>
                </a:cubicBezTo>
                <a:cubicBezTo>
                  <a:pt x="23185" y="12510"/>
                  <a:pt x="23256" y="12585"/>
                  <a:pt x="23292" y="12650"/>
                </a:cubicBezTo>
                <a:cubicBezTo>
                  <a:pt x="23336" y="12731"/>
                  <a:pt x="23324" y="12825"/>
                  <a:pt x="23267" y="12898"/>
                </a:cubicBezTo>
                <a:cubicBezTo>
                  <a:pt x="23217" y="12962"/>
                  <a:pt x="23139" y="12987"/>
                  <a:pt x="23068" y="13022"/>
                </a:cubicBezTo>
                <a:cubicBezTo>
                  <a:pt x="23018" y="13047"/>
                  <a:pt x="22952" y="13061"/>
                  <a:pt x="22895" y="13047"/>
                </a:cubicBezTo>
                <a:cubicBezTo>
                  <a:pt x="22868" y="13041"/>
                  <a:pt x="22778" y="12980"/>
                  <a:pt x="22771" y="12948"/>
                </a:cubicBezTo>
                <a:cubicBezTo>
                  <a:pt x="22760" y="12895"/>
                  <a:pt x="22771" y="12828"/>
                  <a:pt x="22771" y="12774"/>
                </a:cubicBezTo>
              </a:path>
              <a:path w="18629" h="4664">
                <a:moveTo>
                  <a:pt x="22523" y="12129"/>
                </a:moveTo>
                <a:cubicBezTo>
                  <a:pt x="22692" y="12101"/>
                  <a:pt x="22823" y="12080"/>
                  <a:pt x="22994" y="12080"/>
                </a:cubicBezTo>
                <a:cubicBezTo>
                  <a:pt x="23110" y="12080"/>
                  <a:pt x="23225" y="12080"/>
                  <a:pt x="23341" y="12080"/>
                </a:cubicBezTo>
              </a:path>
              <a:path w="18629" h="4664">
                <a:moveTo>
                  <a:pt x="23738" y="12204"/>
                </a:moveTo>
                <a:cubicBezTo>
                  <a:pt x="23738" y="12446"/>
                  <a:pt x="23735" y="12686"/>
                  <a:pt x="23713" y="12923"/>
                </a:cubicBezTo>
                <a:cubicBezTo>
                  <a:pt x="23704" y="13020"/>
                  <a:pt x="23713" y="13123"/>
                  <a:pt x="23713" y="13221"/>
                </a:cubicBezTo>
                <a:cubicBezTo>
                  <a:pt x="23730" y="13210"/>
                  <a:pt x="23780" y="13116"/>
                  <a:pt x="23788" y="13072"/>
                </a:cubicBezTo>
                <a:cubicBezTo>
                  <a:pt x="23788" y="13047"/>
                  <a:pt x="23788" y="13023"/>
                  <a:pt x="23788" y="12998"/>
                </a:cubicBezTo>
              </a:path>
              <a:path w="18629" h="4664">
                <a:moveTo>
                  <a:pt x="24085" y="12254"/>
                </a:moveTo>
                <a:cubicBezTo>
                  <a:pt x="24115" y="12332"/>
                  <a:pt x="24120" y="12416"/>
                  <a:pt x="24110" y="12502"/>
                </a:cubicBezTo>
                <a:cubicBezTo>
                  <a:pt x="24095" y="12623"/>
                  <a:pt x="24085" y="12728"/>
                  <a:pt x="24085" y="12849"/>
                </a:cubicBezTo>
                <a:cubicBezTo>
                  <a:pt x="24085" y="12911"/>
                  <a:pt x="24075" y="12951"/>
                  <a:pt x="24110" y="12998"/>
                </a:cubicBezTo>
              </a:path>
              <a:path w="18629" h="4664">
                <a:moveTo>
                  <a:pt x="23416" y="12278"/>
                </a:moveTo>
                <a:cubicBezTo>
                  <a:pt x="23502" y="12247"/>
                  <a:pt x="23569" y="12232"/>
                  <a:pt x="23664" y="12229"/>
                </a:cubicBezTo>
                <a:cubicBezTo>
                  <a:pt x="23858" y="12223"/>
                  <a:pt x="24068" y="12186"/>
                  <a:pt x="24259" y="12204"/>
                </a:cubicBezTo>
                <a:cubicBezTo>
                  <a:pt x="24368" y="12214"/>
                  <a:pt x="24469" y="12229"/>
                  <a:pt x="24581" y="12229"/>
                </a:cubicBezTo>
                <a:cubicBezTo>
                  <a:pt x="24624" y="12229"/>
                  <a:pt x="24619" y="12219"/>
                  <a:pt x="24631" y="12254"/>
                </a:cubicBezTo>
              </a:path>
              <a:path w="18629" h="4664">
                <a:moveTo>
                  <a:pt x="22647" y="13395"/>
                </a:moveTo>
                <a:cubicBezTo>
                  <a:pt x="22717" y="13376"/>
                  <a:pt x="22768" y="13370"/>
                  <a:pt x="22845" y="13370"/>
                </a:cubicBezTo>
                <a:cubicBezTo>
                  <a:pt x="23417" y="13370"/>
                  <a:pt x="24815" y="13856"/>
                  <a:pt x="24557" y="13345"/>
                </a:cubicBezTo>
                <a:cubicBezTo>
                  <a:pt x="24557" y="13303"/>
                  <a:pt x="24540" y="13295"/>
                  <a:pt x="24482" y="13320"/>
                </a:cubicBezTo>
              </a:path>
              <a:path w="18629" h="4664">
                <a:moveTo>
                  <a:pt x="23589" y="13742"/>
                </a:moveTo>
                <a:cubicBezTo>
                  <a:pt x="23539" y="13717"/>
                  <a:pt x="23554" y="13715"/>
                  <a:pt x="23515" y="13742"/>
                </a:cubicBezTo>
                <a:cubicBezTo>
                  <a:pt x="23466" y="13776"/>
                  <a:pt x="23420" y="13863"/>
                  <a:pt x="23391" y="13915"/>
                </a:cubicBezTo>
                <a:cubicBezTo>
                  <a:pt x="23350" y="13989"/>
                  <a:pt x="23316" y="14081"/>
                  <a:pt x="23292" y="14163"/>
                </a:cubicBezTo>
                <a:cubicBezTo>
                  <a:pt x="23257" y="14283"/>
                  <a:pt x="23217" y="14434"/>
                  <a:pt x="23242" y="14560"/>
                </a:cubicBezTo>
                <a:cubicBezTo>
                  <a:pt x="23263" y="14664"/>
                  <a:pt x="23336" y="14727"/>
                  <a:pt x="23391" y="14808"/>
                </a:cubicBezTo>
                <a:cubicBezTo>
                  <a:pt x="23425" y="14858"/>
                  <a:pt x="23522" y="14916"/>
                  <a:pt x="23589" y="14908"/>
                </a:cubicBezTo>
                <a:cubicBezTo>
                  <a:pt x="23655" y="14901"/>
                  <a:pt x="23755" y="14877"/>
                  <a:pt x="23812" y="14833"/>
                </a:cubicBezTo>
                <a:cubicBezTo>
                  <a:pt x="23907" y="14760"/>
                  <a:pt x="23947" y="14700"/>
                  <a:pt x="24011" y="14610"/>
                </a:cubicBezTo>
                <a:cubicBezTo>
                  <a:pt x="24075" y="14521"/>
                  <a:pt x="24129" y="14432"/>
                  <a:pt x="24110" y="14312"/>
                </a:cubicBezTo>
                <a:cubicBezTo>
                  <a:pt x="24098" y="14239"/>
                  <a:pt x="24031" y="14179"/>
                  <a:pt x="23961" y="14163"/>
                </a:cubicBezTo>
                <a:cubicBezTo>
                  <a:pt x="23883" y="14146"/>
                  <a:pt x="23790" y="14217"/>
                  <a:pt x="23738" y="14263"/>
                </a:cubicBezTo>
                <a:cubicBezTo>
                  <a:pt x="23669" y="14324"/>
                  <a:pt x="23588" y="14421"/>
                  <a:pt x="23564" y="14511"/>
                </a:cubicBezTo>
                <a:cubicBezTo>
                  <a:pt x="23535" y="14622"/>
                  <a:pt x="23465" y="14820"/>
                  <a:pt x="23490" y="14932"/>
                </a:cubicBezTo>
                <a:cubicBezTo>
                  <a:pt x="23504" y="14996"/>
                  <a:pt x="23520" y="14983"/>
                  <a:pt x="23540" y="150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10040" y="5956200"/>
            <a:ext cx="1687320" cy="785880"/>
          </a:xfrm>
          <a:custGeom>
            <a:avLst/>
            <a:gdLst/>
            <a:ahLst/>
            <a:rect l="l" t="t" r="r" b="b"/>
            <a:pathLst>
              <a:path w="4689" h="2184">
                <a:moveTo>
                  <a:pt x="11658" y="16842"/>
                </a:moveTo>
                <a:cubicBezTo>
                  <a:pt x="11619" y="16804"/>
                  <a:pt x="11588" y="16761"/>
                  <a:pt x="11534" y="16743"/>
                </a:cubicBezTo>
                <a:cubicBezTo>
                  <a:pt x="11487" y="16727"/>
                  <a:pt x="11444" y="16761"/>
                  <a:pt x="11410" y="16768"/>
                </a:cubicBezTo>
                <a:cubicBezTo>
                  <a:pt x="11356" y="16779"/>
                  <a:pt x="11328" y="16782"/>
                  <a:pt x="11286" y="16818"/>
                </a:cubicBezTo>
                <a:cubicBezTo>
                  <a:pt x="11245" y="16853"/>
                  <a:pt x="11261" y="16915"/>
                  <a:pt x="11261" y="16966"/>
                </a:cubicBezTo>
                <a:cubicBezTo>
                  <a:pt x="11261" y="17030"/>
                  <a:pt x="11325" y="17092"/>
                  <a:pt x="11361" y="17140"/>
                </a:cubicBezTo>
                <a:cubicBezTo>
                  <a:pt x="11419" y="17217"/>
                  <a:pt x="11498" y="17290"/>
                  <a:pt x="11559" y="17363"/>
                </a:cubicBezTo>
                <a:cubicBezTo>
                  <a:pt x="11636" y="17455"/>
                  <a:pt x="11687" y="17483"/>
                  <a:pt x="11708" y="17611"/>
                </a:cubicBezTo>
                <a:cubicBezTo>
                  <a:pt x="11723" y="17701"/>
                  <a:pt x="11702" y="17738"/>
                  <a:pt x="11633" y="17785"/>
                </a:cubicBezTo>
                <a:cubicBezTo>
                  <a:pt x="11529" y="17856"/>
                  <a:pt x="11516" y="17828"/>
                  <a:pt x="11410" y="17810"/>
                </a:cubicBezTo>
                <a:cubicBezTo>
                  <a:pt x="11323" y="17795"/>
                  <a:pt x="11279" y="17773"/>
                  <a:pt x="11212" y="17711"/>
                </a:cubicBezTo>
                <a:cubicBezTo>
                  <a:pt x="11166" y="17669"/>
                  <a:pt x="11142" y="17619"/>
                  <a:pt x="11137" y="17562"/>
                </a:cubicBezTo>
                <a:cubicBezTo>
                  <a:pt x="11137" y="17554"/>
                  <a:pt x="11137" y="17545"/>
                  <a:pt x="11137" y="17537"/>
                </a:cubicBezTo>
              </a:path>
              <a:path w="4689" h="2184">
                <a:moveTo>
                  <a:pt x="12005" y="17289"/>
                </a:moveTo>
                <a:cubicBezTo>
                  <a:pt x="12029" y="17406"/>
                  <a:pt x="12055" y="17494"/>
                  <a:pt x="12055" y="17611"/>
                </a:cubicBezTo>
                <a:cubicBezTo>
                  <a:pt x="12055" y="17655"/>
                  <a:pt x="12055" y="17831"/>
                  <a:pt x="12055" y="17785"/>
                </a:cubicBezTo>
              </a:path>
              <a:path w="4689" h="2184">
                <a:moveTo>
                  <a:pt x="12129" y="16619"/>
                </a:moveTo>
                <a:cubicBezTo>
                  <a:pt x="12166" y="16628"/>
                  <a:pt x="12175" y="16640"/>
                  <a:pt x="12204" y="16669"/>
                </a:cubicBezTo>
              </a:path>
              <a:path w="4689" h="2184">
                <a:moveTo>
                  <a:pt x="12303" y="17587"/>
                </a:moveTo>
                <a:cubicBezTo>
                  <a:pt x="12303" y="17628"/>
                  <a:pt x="12303" y="17670"/>
                  <a:pt x="12303" y="17711"/>
                </a:cubicBezTo>
                <a:cubicBezTo>
                  <a:pt x="12312" y="17667"/>
                  <a:pt x="12315" y="17605"/>
                  <a:pt x="12328" y="17562"/>
                </a:cubicBezTo>
                <a:cubicBezTo>
                  <a:pt x="12348" y="17494"/>
                  <a:pt x="12349" y="17401"/>
                  <a:pt x="12378" y="17338"/>
                </a:cubicBezTo>
                <a:cubicBezTo>
                  <a:pt x="12398" y="17293"/>
                  <a:pt x="12452" y="17188"/>
                  <a:pt x="12502" y="17165"/>
                </a:cubicBezTo>
                <a:cubicBezTo>
                  <a:pt x="12536" y="17150"/>
                  <a:pt x="12601" y="17173"/>
                  <a:pt x="12626" y="17190"/>
                </a:cubicBezTo>
                <a:cubicBezTo>
                  <a:pt x="12695" y="17236"/>
                  <a:pt x="12700" y="17343"/>
                  <a:pt x="12725" y="17413"/>
                </a:cubicBezTo>
                <a:cubicBezTo>
                  <a:pt x="12758" y="17507"/>
                  <a:pt x="12759" y="17592"/>
                  <a:pt x="12799" y="17686"/>
                </a:cubicBezTo>
                <a:cubicBezTo>
                  <a:pt x="12822" y="17738"/>
                  <a:pt x="12866" y="17804"/>
                  <a:pt x="12923" y="17810"/>
                </a:cubicBezTo>
                <a:cubicBezTo>
                  <a:pt x="12931" y="17810"/>
                  <a:pt x="12940" y="17810"/>
                  <a:pt x="12948" y="17810"/>
                </a:cubicBezTo>
              </a:path>
              <a:path w="4689" h="2184">
                <a:moveTo>
                  <a:pt x="12998" y="17115"/>
                </a:moveTo>
                <a:cubicBezTo>
                  <a:pt x="13041" y="17240"/>
                  <a:pt x="13091" y="17345"/>
                  <a:pt x="13146" y="17462"/>
                </a:cubicBezTo>
                <a:cubicBezTo>
                  <a:pt x="13220" y="17620"/>
                  <a:pt x="13336" y="17774"/>
                  <a:pt x="13444" y="17909"/>
                </a:cubicBezTo>
                <a:cubicBezTo>
                  <a:pt x="13511" y="17993"/>
                  <a:pt x="13604" y="17990"/>
                  <a:pt x="13667" y="17959"/>
                </a:cubicBezTo>
              </a:path>
              <a:path w="4689" h="2184">
                <a:moveTo>
                  <a:pt x="13395" y="17115"/>
                </a:moveTo>
                <a:cubicBezTo>
                  <a:pt x="13330" y="17205"/>
                  <a:pt x="13280" y="17295"/>
                  <a:pt x="13221" y="17388"/>
                </a:cubicBezTo>
                <a:cubicBezTo>
                  <a:pt x="13166" y="17475"/>
                  <a:pt x="13104" y="17553"/>
                  <a:pt x="13047" y="17636"/>
                </a:cubicBezTo>
                <a:cubicBezTo>
                  <a:pt x="13016" y="17681"/>
                  <a:pt x="12977" y="17757"/>
                  <a:pt x="12973" y="17810"/>
                </a:cubicBezTo>
                <a:cubicBezTo>
                  <a:pt x="12973" y="17851"/>
                  <a:pt x="12973" y="17859"/>
                  <a:pt x="12973" y="17884"/>
                </a:cubicBezTo>
              </a:path>
              <a:path w="4689" h="2184">
                <a:moveTo>
                  <a:pt x="13816" y="17264"/>
                </a:moveTo>
                <a:cubicBezTo>
                  <a:pt x="13915" y="17258"/>
                  <a:pt x="13992" y="17239"/>
                  <a:pt x="14089" y="17239"/>
                </a:cubicBezTo>
                <a:cubicBezTo>
                  <a:pt x="14114" y="17239"/>
                  <a:pt x="14138" y="17239"/>
                  <a:pt x="14163" y="17239"/>
                </a:cubicBezTo>
              </a:path>
              <a:path w="4689" h="2184">
                <a:moveTo>
                  <a:pt x="13866" y="17438"/>
                </a:moveTo>
                <a:cubicBezTo>
                  <a:pt x="13927" y="17525"/>
                  <a:pt x="13956" y="17560"/>
                  <a:pt x="14064" y="17587"/>
                </a:cubicBezTo>
                <a:cubicBezTo>
                  <a:pt x="14189" y="17618"/>
                  <a:pt x="14248" y="17595"/>
                  <a:pt x="14362" y="17587"/>
                </a:cubicBezTo>
                <a:cubicBezTo>
                  <a:pt x="14370" y="17587"/>
                  <a:pt x="14379" y="17587"/>
                  <a:pt x="14387" y="17587"/>
                </a:cubicBezTo>
              </a:path>
              <a:path w="4689" h="2184">
                <a:moveTo>
                  <a:pt x="15081" y="16545"/>
                </a:moveTo>
                <a:cubicBezTo>
                  <a:pt x="15092" y="16579"/>
                  <a:pt x="15121" y="16612"/>
                  <a:pt x="15131" y="16669"/>
                </a:cubicBezTo>
                <a:cubicBezTo>
                  <a:pt x="15144" y="16743"/>
                  <a:pt x="15136" y="16820"/>
                  <a:pt x="15156" y="16892"/>
                </a:cubicBezTo>
                <a:cubicBezTo>
                  <a:pt x="15175" y="16960"/>
                  <a:pt x="15201" y="17019"/>
                  <a:pt x="15205" y="17090"/>
                </a:cubicBezTo>
                <a:cubicBezTo>
                  <a:pt x="15208" y="17139"/>
                  <a:pt x="15205" y="17190"/>
                  <a:pt x="15205" y="17239"/>
                </a:cubicBezTo>
              </a:path>
              <a:path w="4689" h="2184">
                <a:moveTo>
                  <a:pt x="14833" y="17264"/>
                </a:moveTo>
                <a:cubicBezTo>
                  <a:pt x="14919" y="17330"/>
                  <a:pt x="14983" y="17332"/>
                  <a:pt x="15081" y="17363"/>
                </a:cubicBezTo>
                <a:cubicBezTo>
                  <a:pt x="15160" y="17388"/>
                  <a:pt x="15244" y="17408"/>
                  <a:pt x="15329" y="17413"/>
                </a:cubicBezTo>
                <a:cubicBezTo>
                  <a:pt x="15419" y="17418"/>
                  <a:pt x="15511" y="17413"/>
                  <a:pt x="15602" y="17413"/>
                </a:cubicBezTo>
              </a:path>
              <a:path w="4689" h="2184">
                <a:moveTo>
                  <a:pt x="15106" y="17785"/>
                </a:moveTo>
                <a:cubicBezTo>
                  <a:pt x="15153" y="17809"/>
                  <a:pt x="15170" y="17807"/>
                  <a:pt x="15230" y="17810"/>
                </a:cubicBezTo>
                <a:cubicBezTo>
                  <a:pt x="15298" y="17813"/>
                  <a:pt x="15283" y="17792"/>
                  <a:pt x="15354" y="17810"/>
                </a:cubicBezTo>
                <a:cubicBezTo>
                  <a:pt x="15421" y="17827"/>
                  <a:pt x="15454" y="17836"/>
                  <a:pt x="15503" y="17884"/>
                </a:cubicBezTo>
                <a:cubicBezTo>
                  <a:pt x="15540" y="17921"/>
                  <a:pt x="15572" y="17948"/>
                  <a:pt x="15553" y="18008"/>
                </a:cubicBezTo>
                <a:cubicBezTo>
                  <a:pt x="15546" y="18031"/>
                  <a:pt x="15494" y="18089"/>
                  <a:pt x="15478" y="18107"/>
                </a:cubicBezTo>
                <a:cubicBezTo>
                  <a:pt x="15440" y="18149"/>
                  <a:pt x="15395" y="18170"/>
                  <a:pt x="15354" y="18207"/>
                </a:cubicBezTo>
                <a:cubicBezTo>
                  <a:pt x="15304" y="18253"/>
                  <a:pt x="15255" y="18287"/>
                  <a:pt x="15205" y="18331"/>
                </a:cubicBezTo>
                <a:cubicBezTo>
                  <a:pt x="15164" y="18367"/>
                  <a:pt x="15134" y="18396"/>
                  <a:pt x="15106" y="18430"/>
                </a:cubicBezTo>
                <a:cubicBezTo>
                  <a:pt x="15084" y="18456"/>
                  <a:pt x="15037" y="18506"/>
                  <a:pt x="15081" y="18529"/>
                </a:cubicBezTo>
                <a:cubicBezTo>
                  <a:pt x="15101" y="18540"/>
                  <a:pt x="15153" y="18554"/>
                  <a:pt x="15205" y="18554"/>
                </a:cubicBezTo>
                <a:cubicBezTo>
                  <a:pt x="15256" y="18554"/>
                  <a:pt x="15282" y="18573"/>
                  <a:pt x="15329" y="18579"/>
                </a:cubicBezTo>
                <a:cubicBezTo>
                  <a:pt x="15379" y="18586"/>
                  <a:pt x="15434" y="18583"/>
                  <a:pt x="15478" y="18604"/>
                </a:cubicBezTo>
                <a:cubicBezTo>
                  <a:pt x="15527" y="18628"/>
                  <a:pt x="15603" y="18644"/>
                  <a:pt x="15652" y="18653"/>
                </a:cubicBezTo>
                <a:cubicBezTo>
                  <a:pt x="15687" y="18660"/>
                  <a:pt x="15768" y="18662"/>
                  <a:pt x="15801" y="18678"/>
                </a:cubicBezTo>
                <a:cubicBezTo>
                  <a:pt x="15803" y="18679"/>
                  <a:pt x="15822" y="18725"/>
                  <a:pt x="15825" y="187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062160"/>
            <a:ext cx="704880" cy="598680"/>
          </a:xfrm>
          <a:custGeom>
            <a:avLst/>
            <a:gdLst/>
            <a:ahLst/>
            <a:rect l="l" t="t" r="r" b="b"/>
            <a:pathLst>
              <a:path w="1960" h="1663">
                <a:moveTo>
                  <a:pt x="7169" y="8657"/>
                </a:moveTo>
                <a:cubicBezTo>
                  <a:pt x="7162" y="8603"/>
                  <a:pt x="7153" y="8536"/>
                  <a:pt x="7094" y="8508"/>
                </a:cubicBezTo>
                <a:cubicBezTo>
                  <a:pt x="7033" y="8479"/>
                  <a:pt x="6867" y="8575"/>
                  <a:pt x="6821" y="8607"/>
                </a:cubicBezTo>
                <a:cubicBezTo>
                  <a:pt x="6727" y="8671"/>
                  <a:pt x="6702" y="8739"/>
                  <a:pt x="6672" y="8830"/>
                </a:cubicBezTo>
                <a:cubicBezTo>
                  <a:pt x="6638" y="8935"/>
                  <a:pt x="6697" y="8999"/>
                  <a:pt x="6772" y="9079"/>
                </a:cubicBezTo>
                <a:cubicBezTo>
                  <a:pt x="6918" y="9237"/>
                  <a:pt x="7127" y="9337"/>
                  <a:pt x="7268" y="9500"/>
                </a:cubicBezTo>
                <a:cubicBezTo>
                  <a:pt x="7412" y="9667"/>
                  <a:pt x="7482" y="9855"/>
                  <a:pt x="7342" y="10046"/>
                </a:cubicBezTo>
                <a:cubicBezTo>
                  <a:pt x="7258" y="10161"/>
                  <a:pt x="7104" y="10193"/>
                  <a:pt x="6970" y="10170"/>
                </a:cubicBezTo>
                <a:cubicBezTo>
                  <a:pt x="6830" y="10146"/>
                  <a:pt x="6760" y="10034"/>
                  <a:pt x="6697" y="9922"/>
                </a:cubicBezTo>
                <a:cubicBezTo>
                  <a:pt x="6651" y="9840"/>
                  <a:pt x="6677" y="9783"/>
                  <a:pt x="6697" y="9699"/>
                </a:cubicBezTo>
              </a:path>
              <a:path w="1960" h="1663">
                <a:moveTo>
                  <a:pt x="7466" y="8954"/>
                </a:moveTo>
                <a:cubicBezTo>
                  <a:pt x="7577" y="9132"/>
                  <a:pt x="7691" y="9275"/>
                  <a:pt x="7838" y="9426"/>
                </a:cubicBezTo>
                <a:cubicBezTo>
                  <a:pt x="7963" y="9554"/>
                  <a:pt x="8095" y="9688"/>
                  <a:pt x="8235" y="9798"/>
                </a:cubicBezTo>
                <a:cubicBezTo>
                  <a:pt x="8298" y="9848"/>
                  <a:pt x="8469" y="10024"/>
                  <a:pt x="8558" y="9897"/>
                </a:cubicBezTo>
                <a:cubicBezTo>
                  <a:pt x="8623" y="9805"/>
                  <a:pt x="8607" y="9723"/>
                  <a:pt x="8582" y="9624"/>
                </a:cubicBezTo>
              </a:path>
              <a:path w="1960" h="1663">
                <a:moveTo>
                  <a:pt x="8136" y="8607"/>
                </a:moveTo>
                <a:cubicBezTo>
                  <a:pt x="8049" y="8747"/>
                  <a:pt x="8003" y="8891"/>
                  <a:pt x="7962" y="9054"/>
                </a:cubicBezTo>
                <a:cubicBezTo>
                  <a:pt x="7913" y="9247"/>
                  <a:pt x="7848" y="9418"/>
                  <a:pt x="7764" y="9599"/>
                </a:cubicBezTo>
                <a:cubicBezTo>
                  <a:pt x="7754" y="9621"/>
                  <a:pt x="7589" y="9921"/>
                  <a:pt x="7590" y="9922"/>
                </a:cubicBezTo>
                <a:cubicBezTo>
                  <a:pt x="7590" y="9962"/>
                  <a:pt x="7601" y="9960"/>
                  <a:pt x="7640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67080" y="2759040"/>
            <a:ext cx="712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9376" y="7714"/>
                </a:moveTo>
                <a:cubicBezTo>
                  <a:pt x="9336" y="7767"/>
                  <a:pt x="9370" y="7772"/>
                  <a:pt x="9376" y="7838"/>
                </a:cubicBezTo>
                <a:cubicBezTo>
                  <a:pt x="9376" y="7866"/>
                  <a:pt x="9378" y="7877"/>
                  <a:pt x="9401" y="7888"/>
                </a:cubicBezTo>
                <a:cubicBezTo>
                  <a:pt x="9450" y="7876"/>
                  <a:pt x="9473" y="7834"/>
                  <a:pt x="9500" y="7789"/>
                </a:cubicBezTo>
                <a:cubicBezTo>
                  <a:pt x="9524" y="7749"/>
                  <a:pt x="9531" y="7708"/>
                  <a:pt x="9550" y="7665"/>
                </a:cubicBezTo>
                <a:cubicBezTo>
                  <a:pt x="9469" y="7665"/>
                  <a:pt x="9489" y="7679"/>
                  <a:pt x="9401" y="7714"/>
                </a:cubicBezTo>
                <a:cubicBezTo>
                  <a:pt x="9377" y="7723"/>
                  <a:pt x="9324" y="7766"/>
                  <a:pt x="9376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95840" y="1857240"/>
            <a:ext cx="1347840" cy="660600"/>
          </a:xfrm>
          <a:custGeom>
            <a:avLst/>
            <a:gdLst/>
            <a:ahLst/>
            <a:rect l="l" t="t" r="r" b="b"/>
            <a:pathLst>
              <a:path w="3747" h="1837">
                <a:moveTo>
                  <a:pt x="11286" y="5358"/>
                </a:moveTo>
                <a:cubicBezTo>
                  <a:pt x="11243" y="5315"/>
                  <a:pt x="11215" y="5276"/>
                  <a:pt x="11162" y="5259"/>
                </a:cubicBezTo>
                <a:cubicBezTo>
                  <a:pt x="11101" y="5240"/>
                  <a:pt x="10988" y="5275"/>
                  <a:pt x="10939" y="5308"/>
                </a:cubicBezTo>
                <a:cubicBezTo>
                  <a:pt x="10833" y="5379"/>
                  <a:pt x="10772" y="5497"/>
                  <a:pt x="10716" y="5606"/>
                </a:cubicBezTo>
                <a:cubicBezTo>
                  <a:pt x="10634" y="5764"/>
                  <a:pt x="10538" y="5991"/>
                  <a:pt x="10542" y="6176"/>
                </a:cubicBezTo>
                <a:cubicBezTo>
                  <a:pt x="10545" y="6326"/>
                  <a:pt x="10566" y="6529"/>
                  <a:pt x="10616" y="6672"/>
                </a:cubicBezTo>
                <a:cubicBezTo>
                  <a:pt x="10655" y="6783"/>
                  <a:pt x="10757" y="6907"/>
                  <a:pt x="10864" y="6945"/>
                </a:cubicBezTo>
                <a:cubicBezTo>
                  <a:pt x="10982" y="6986"/>
                  <a:pt x="11112" y="7013"/>
                  <a:pt x="11237" y="6995"/>
                </a:cubicBezTo>
                <a:cubicBezTo>
                  <a:pt x="11369" y="6976"/>
                  <a:pt x="11464" y="6936"/>
                  <a:pt x="11559" y="6846"/>
                </a:cubicBezTo>
                <a:cubicBezTo>
                  <a:pt x="11627" y="6781"/>
                  <a:pt x="11657" y="6750"/>
                  <a:pt x="11683" y="6672"/>
                </a:cubicBezTo>
              </a:path>
              <a:path w="3747" h="1837">
                <a:moveTo>
                  <a:pt x="11956" y="5308"/>
                </a:moveTo>
                <a:cubicBezTo>
                  <a:pt x="11847" y="5373"/>
                  <a:pt x="11830" y="5476"/>
                  <a:pt x="11782" y="5606"/>
                </a:cubicBezTo>
                <a:cubicBezTo>
                  <a:pt x="11716" y="5785"/>
                  <a:pt x="11646" y="6011"/>
                  <a:pt x="11658" y="6201"/>
                </a:cubicBezTo>
                <a:cubicBezTo>
                  <a:pt x="11666" y="6328"/>
                  <a:pt x="11690" y="6513"/>
                  <a:pt x="11757" y="6623"/>
                </a:cubicBezTo>
                <a:cubicBezTo>
                  <a:pt x="11825" y="6735"/>
                  <a:pt x="11938" y="6842"/>
                  <a:pt x="12080" y="6821"/>
                </a:cubicBezTo>
                <a:cubicBezTo>
                  <a:pt x="12225" y="6799"/>
                  <a:pt x="12291" y="6663"/>
                  <a:pt x="12353" y="6548"/>
                </a:cubicBezTo>
                <a:cubicBezTo>
                  <a:pt x="12464" y="6344"/>
                  <a:pt x="12486" y="6152"/>
                  <a:pt x="12526" y="5928"/>
                </a:cubicBezTo>
                <a:cubicBezTo>
                  <a:pt x="12550" y="5791"/>
                  <a:pt x="12551" y="5617"/>
                  <a:pt x="12502" y="5482"/>
                </a:cubicBezTo>
                <a:cubicBezTo>
                  <a:pt x="12466" y="5382"/>
                  <a:pt x="12415" y="5280"/>
                  <a:pt x="12303" y="5259"/>
                </a:cubicBezTo>
                <a:cubicBezTo>
                  <a:pt x="12199" y="5239"/>
                  <a:pt x="12118" y="5264"/>
                  <a:pt x="12030" y="5308"/>
                </a:cubicBezTo>
                <a:cubicBezTo>
                  <a:pt x="12014" y="5316"/>
                  <a:pt x="11997" y="5325"/>
                  <a:pt x="11981" y="5333"/>
                </a:cubicBezTo>
              </a:path>
              <a:path w="3747" h="1837">
                <a:moveTo>
                  <a:pt x="13469" y="5283"/>
                </a:moveTo>
                <a:cubicBezTo>
                  <a:pt x="13370" y="5154"/>
                  <a:pt x="13419" y="5159"/>
                  <a:pt x="13246" y="5159"/>
                </a:cubicBezTo>
                <a:cubicBezTo>
                  <a:pt x="13125" y="5159"/>
                  <a:pt x="13026" y="5227"/>
                  <a:pt x="12923" y="5283"/>
                </a:cubicBezTo>
                <a:cubicBezTo>
                  <a:pt x="12815" y="5342"/>
                  <a:pt x="12824" y="5417"/>
                  <a:pt x="12849" y="5531"/>
                </a:cubicBezTo>
                <a:cubicBezTo>
                  <a:pt x="12872" y="5637"/>
                  <a:pt x="12970" y="5757"/>
                  <a:pt x="13047" y="5829"/>
                </a:cubicBezTo>
                <a:cubicBezTo>
                  <a:pt x="13186" y="5959"/>
                  <a:pt x="13299" y="6056"/>
                  <a:pt x="13395" y="6226"/>
                </a:cubicBezTo>
                <a:cubicBezTo>
                  <a:pt x="13457" y="6335"/>
                  <a:pt x="13466" y="6454"/>
                  <a:pt x="13419" y="6573"/>
                </a:cubicBezTo>
                <a:cubicBezTo>
                  <a:pt x="13379" y="6675"/>
                  <a:pt x="13313" y="6790"/>
                  <a:pt x="13221" y="6846"/>
                </a:cubicBezTo>
                <a:cubicBezTo>
                  <a:pt x="13148" y="6891"/>
                  <a:pt x="13029" y="6831"/>
                  <a:pt x="12973" y="6772"/>
                </a:cubicBezTo>
                <a:cubicBezTo>
                  <a:pt x="12886" y="6681"/>
                  <a:pt x="12839" y="6592"/>
                  <a:pt x="12799" y="6474"/>
                </a:cubicBezTo>
                <a:cubicBezTo>
                  <a:pt x="12759" y="6355"/>
                  <a:pt x="12798" y="6411"/>
                  <a:pt x="12849" y="6300"/>
                </a:cubicBezTo>
              </a:path>
              <a:path w="3747" h="1837">
                <a:moveTo>
                  <a:pt x="13667" y="5482"/>
                </a:moveTo>
                <a:cubicBezTo>
                  <a:pt x="13735" y="5695"/>
                  <a:pt x="13778" y="5912"/>
                  <a:pt x="13841" y="6127"/>
                </a:cubicBezTo>
                <a:cubicBezTo>
                  <a:pt x="13890" y="6294"/>
                  <a:pt x="13969" y="6423"/>
                  <a:pt x="14089" y="6548"/>
                </a:cubicBezTo>
                <a:cubicBezTo>
                  <a:pt x="14115" y="6576"/>
                  <a:pt x="14169" y="6652"/>
                  <a:pt x="14213" y="6648"/>
                </a:cubicBezTo>
                <a:cubicBezTo>
                  <a:pt x="14238" y="6648"/>
                  <a:pt x="14246" y="6648"/>
                  <a:pt x="14238" y="6623"/>
                </a:cubicBezTo>
              </a:path>
              <a:path w="3747" h="1837">
                <a:moveTo>
                  <a:pt x="14288" y="5581"/>
                </a:moveTo>
                <a:cubicBezTo>
                  <a:pt x="14288" y="5564"/>
                  <a:pt x="14288" y="5548"/>
                  <a:pt x="14288" y="5531"/>
                </a:cubicBezTo>
                <a:cubicBezTo>
                  <a:pt x="14272" y="5603"/>
                  <a:pt x="14247" y="5687"/>
                  <a:pt x="14213" y="5755"/>
                </a:cubicBezTo>
                <a:cubicBezTo>
                  <a:pt x="14117" y="5949"/>
                  <a:pt x="14018" y="6146"/>
                  <a:pt x="13940" y="6350"/>
                </a:cubicBezTo>
                <a:cubicBezTo>
                  <a:pt x="13874" y="6521"/>
                  <a:pt x="13828" y="6710"/>
                  <a:pt x="13742" y="6871"/>
                </a:cubicBezTo>
                <a:cubicBezTo>
                  <a:pt x="13703" y="6944"/>
                  <a:pt x="13670" y="6979"/>
                  <a:pt x="13593" y="6995"/>
                </a:cubicBezTo>
                <a:cubicBezTo>
                  <a:pt x="13535" y="6995"/>
                  <a:pt x="13510" y="6995"/>
                  <a:pt x="13469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.  Cosx + Sinx Tan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446200" y="1490760"/>
            <a:ext cx="903600" cy="331560"/>
          </a:xfrm>
          <a:custGeom>
            <a:avLst/>
            <a:gdLst/>
            <a:ahLst/>
            <a:rect l="l" t="t" r="r" b="b"/>
            <a:pathLst>
              <a:path w="2507" h="919">
                <a:moveTo>
                  <a:pt x="7243" y="4266"/>
                </a:moveTo>
                <a:cubicBezTo>
                  <a:pt x="7278" y="4327"/>
                  <a:pt x="7314" y="4360"/>
                  <a:pt x="7268" y="4291"/>
                </a:cubicBezTo>
                <a:cubicBezTo>
                  <a:pt x="7243" y="4253"/>
                  <a:pt x="7227" y="4227"/>
                  <a:pt x="7193" y="4192"/>
                </a:cubicBezTo>
                <a:cubicBezTo>
                  <a:pt x="7155" y="4153"/>
                  <a:pt x="7147" y="4142"/>
                  <a:pt x="7094" y="4142"/>
                </a:cubicBezTo>
                <a:cubicBezTo>
                  <a:pt x="7041" y="4142"/>
                  <a:pt x="7033" y="4154"/>
                  <a:pt x="6995" y="4192"/>
                </a:cubicBezTo>
                <a:cubicBezTo>
                  <a:pt x="6953" y="4234"/>
                  <a:pt x="6928" y="4266"/>
                  <a:pt x="6896" y="4316"/>
                </a:cubicBezTo>
                <a:cubicBezTo>
                  <a:pt x="6850" y="4388"/>
                  <a:pt x="6810" y="4456"/>
                  <a:pt x="6796" y="4539"/>
                </a:cubicBezTo>
                <a:cubicBezTo>
                  <a:pt x="6781" y="4628"/>
                  <a:pt x="6785" y="4757"/>
                  <a:pt x="6821" y="4837"/>
                </a:cubicBezTo>
                <a:cubicBezTo>
                  <a:pt x="6848" y="4898"/>
                  <a:pt x="6888" y="4933"/>
                  <a:pt x="6921" y="4986"/>
                </a:cubicBezTo>
                <a:cubicBezTo>
                  <a:pt x="6971" y="5065"/>
                  <a:pt x="7003" y="5060"/>
                  <a:pt x="7094" y="5060"/>
                </a:cubicBezTo>
                <a:cubicBezTo>
                  <a:pt x="7193" y="5060"/>
                  <a:pt x="7265" y="5030"/>
                  <a:pt x="7342" y="4986"/>
                </a:cubicBezTo>
                <a:cubicBezTo>
                  <a:pt x="7359" y="4978"/>
                  <a:pt x="7375" y="4969"/>
                  <a:pt x="7392" y="4961"/>
                </a:cubicBezTo>
              </a:path>
              <a:path w="2507" h="919">
                <a:moveTo>
                  <a:pt x="7665" y="4415"/>
                </a:moveTo>
                <a:cubicBezTo>
                  <a:pt x="7639" y="4517"/>
                  <a:pt x="7615" y="4608"/>
                  <a:pt x="7615" y="4713"/>
                </a:cubicBezTo>
                <a:cubicBezTo>
                  <a:pt x="7615" y="4760"/>
                  <a:pt x="7640" y="4846"/>
                  <a:pt x="7665" y="4887"/>
                </a:cubicBezTo>
                <a:cubicBezTo>
                  <a:pt x="7688" y="4925"/>
                  <a:pt x="7748" y="4981"/>
                  <a:pt x="7789" y="4986"/>
                </a:cubicBezTo>
                <a:cubicBezTo>
                  <a:pt x="7823" y="4990"/>
                  <a:pt x="7909" y="4956"/>
                  <a:pt x="7938" y="4936"/>
                </a:cubicBezTo>
                <a:cubicBezTo>
                  <a:pt x="7979" y="4908"/>
                  <a:pt x="8014" y="4830"/>
                  <a:pt x="8037" y="4787"/>
                </a:cubicBezTo>
                <a:cubicBezTo>
                  <a:pt x="8075" y="4717"/>
                  <a:pt x="8062" y="4642"/>
                  <a:pt x="8062" y="4564"/>
                </a:cubicBezTo>
                <a:cubicBezTo>
                  <a:pt x="8062" y="4535"/>
                  <a:pt x="8026" y="4463"/>
                  <a:pt x="8012" y="4440"/>
                </a:cubicBezTo>
                <a:cubicBezTo>
                  <a:pt x="7992" y="4406"/>
                  <a:pt x="7924" y="4368"/>
                  <a:pt x="7888" y="4366"/>
                </a:cubicBezTo>
                <a:cubicBezTo>
                  <a:pt x="7805" y="4360"/>
                  <a:pt x="7758" y="4398"/>
                  <a:pt x="7689" y="4415"/>
                </a:cubicBezTo>
                <a:cubicBezTo>
                  <a:pt x="7609" y="4435"/>
                  <a:pt x="7640" y="4435"/>
                  <a:pt x="7590" y="4490"/>
                </a:cubicBezTo>
                <a:cubicBezTo>
                  <a:pt x="7559" y="4524"/>
                  <a:pt x="7548" y="4550"/>
                  <a:pt x="7590" y="4564"/>
                </a:cubicBezTo>
              </a:path>
              <a:path w="2507" h="919">
                <a:moveTo>
                  <a:pt x="8632" y="4192"/>
                </a:moveTo>
                <a:cubicBezTo>
                  <a:pt x="8558" y="4215"/>
                  <a:pt x="8483" y="4275"/>
                  <a:pt x="8409" y="4291"/>
                </a:cubicBezTo>
                <a:cubicBezTo>
                  <a:pt x="8348" y="4304"/>
                  <a:pt x="8293" y="4327"/>
                  <a:pt x="8235" y="4366"/>
                </a:cubicBezTo>
                <a:cubicBezTo>
                  <a:pt x="8198" y="4391"/>
                  <a:pt x="8171" y="4427"/>
                  <a:pt x="8161" y="4465"/>
                </a:cubicBezTo>
                <a:cubicBezTo>
                  <a:pt x="8193" y="4473"/>
                  <a:pt x="8227" y="4479"/>
                  <a:pt x="8260" y="4490"/>
                </a:cubicBezTo>
                <a:cubicBezTo>
                  <a:pt x="8348" y="4520"/>
                  <a:pt x="8421" y="4521"/>
                  <a:pt x="8508" y="4564"/>
                </a:cubicBezTo>
                <a:cubicBezTo>
                  <a:pt x="8575" y="4598"/>
                  <a:pt x="8601" y="4615"/>
                  <a:pt x="8607" y="4688"/>
                </a:cubicBezTo>
                <a:cubicBezTo>
                  <a:pt x="8610" y="4727"/>
                  <a:pt x="8613" y="4782"/>
                  <a:pt x="8582" y="4812"/>
                </a:cubicBezTo>
                <a:cubicBezTo>
                  <a:pt x="8517" y="4874"/>
                  <a:pt x="8449" y="4879"/>
                  <a:pt x="8384" y="4911"/>
                </a:cubicBezTo>
                <a:cubicBezTo>
                  <a:pt x="8339" y="4934"/>
                  <a:pt x="8314" y="4942"/>
                  <a:pt x="8260" y="4911"/>
                </a:cubicBezTo>
                <a:cubicBezTo>
                  <a:pt x="8226" y="4891"/>
                  <a:pt x="8235" y="4870"/>
                  <a:pt x="8235" y="4837"/>
                </a:cubicBezTo>
              </a:path>
              <a:path w="2507" h="919">
                <a:moveTo>
                  <a:pt x="8756" y="4415"/>
                </a:moveTo>
                <a:cubicBezTo>
                  <a:pt x="8780" y="4471"/>
                  <a:pt x="8799" y="4512"/>
                  <a:pt x="8830" y="4564"/>
                </a:cubicBezTo>
                <a:cubicBezTo>
                  <a:pt x="8866" y="4624"/>
                  <a:pt x="8919" y="4696"/>
                  <a:pt x="8979" y="4738"/>
                </a:cubicBezTo>
                <a:cubicBezTo>
                  <a:pt x="9040" y="4781"/>
                  <a:pt x="9088" y="4817"/>
                  <a:pt x="9153" y="4862"/>
                </a:cubicBezTo>
                <a:cubicBezTo>
                  <a:pt x="9192" y="4889"/>
                  <a:pt x="9218" y="4892"/>
                  <a:pt x="9252" y="4911"/>
                </a:cubicBezTo>
                <a:cubicBezTo>
                  <a:pt x="9299" y="4937"/>
                  <a:pt x="9302" y="4950"/>
                  <a:pt x="9302" y="4887"/>
                </a:cubicBezTo>
              </a:path>
              <a:path w="2507" h="919">
                <a:moveTo>
                  <a:pt x="9227" y="4390"/>
                </a:moveTo>
                <a:cubicBezTo>
                  <a:pt x="9145" y="4490"/>
                  <a:pt x="9086" y="4597"/>
                  <a:pt x="9004" y="4688"/>
                </a:cubicBezTo>
                <a:cubicBezTo>
                  <a:pt x="8951" y="4747"/>
                  <a:pt x="8886" y="4839"/>
                  <a:pt x="8830" y="4887"/>
                </a:cubicBezTo>
                <a:cubicBezTo>
                  <a:pt x="8789" y="4922"/>
                  <a:pt x="8746" y="4946"/>
                  <a:pt x="8706" y="4986"/>
                </a:cubicBezTo>
                <a:cubicBezTo>
                  <a:pt x="8640" y="5053"/>
                  <a:pt x="8689" y="4991"/>
                  <a:pt x="8682" y="4986"/>
                </a:cubicBezTo>
                <a:cubicBezTo>
                  <a:pt x="8674" y="4986"/>
                  <a:pt x="8665" y="4986"/>
                  <a:pt x="8657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1571760"/>
            <a:ext cx="249120" cy="250560"/>
          </a:xfrm>
          <a:custGeom>
            <a:avLst/>
            <a:gdLst/>
            <a:ahLst/>
            <a:rect l="l" t="t" r="r" b="b"/>
            <a:pathLst>
              <a:path w="695" h="695">
                <a:moveTo>
                  <a:pt x="10864" y="4366"/>
                </a:moveTo>
                <a:cubicBezTo>
                  <a:pt x="10864" y="4525"/>
                  <a:pt x="10868" y="4692"/>
                  <a:pt x="10840" y="4837"/>
                </a:cubicBezTo>
                <a:cubicBezTo>
                  <a:pt x="10826" y="4911"/>
                  <a:pt x="10837" y="4970"/>
                  <a:pt x="10815" y="5035"/>
                </a:cubicBezTo>
                <a:cubicBezTo>
                  <a:pt x="10802" y="5072"/>
                  <a:pt x="10816" y="5043"/>
                  <a:pt x="10840" y="5035"/>
                </a:cubicBezTo>
              </a:path>
              <a:path w="695" h="695">
                <a:moveTo>
                  <a:pt x="10468" y="4738"/>
                </a:moveTo>
                <a:cubicBezTo>
                  <a:pt x="10515" y="4738"/>
                  <a:pt x="10547" y="4760"/>
                  <a:pt x="10592" y="4762"/>
                </a:cubicBezTo>
                <a:cubicBezTo>
                  <a:pt x="10688" y="4766"/>
                  <a:pt x="10753" y="4752"/>
                  <a:pt x="10840" y="4738"/>
                </a:cubicBezTo>
                <a:cubicBezTo>
                  <a:pt x="10895" y="4729"/>
                  <a:pt x="11146" y="4715"/>
                  <a:pt x="11162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8880" y="1535040"/>
            <a:ext cx="2768400" cy="903240"/>
          </a:xfrm>
          <a:custGeom>
            <a:avLst/>
            <a:gdLst/>
            <a:ahLst/>
            <a:rect l="l" t="t" r="r" b="b"/>
            <a:pathLst>
              <a:path w="7690" h="2507">
                <a:moveTo>
                  <a:pt x="12204" y="4415"/>
                </a:moveTo>
                <a:cubicBezTo>
                  <a:pt x="12212" y="4415"/>
                  <a:pt x="12221" y="4415"/>
                  <a:pt x="12229" y="4415"/>
                </a:cubicBezTo>
                <a:cubicBezTo>
                  <a:pt x="12216" y="4377"/>
                  <a:pt x="12207" y="4387"/>
                  <a:pt x="12179" y="4366"/>
                </a:cubicBezTo>
                <a:cubicBezTo>
                  <a:pt x="12145" y="4341"/>
                  <a:pt x="12102" y="4325"/>
                  <a:pt x="12055" y="4341"/>
                </a:cubicBezTo>
                <a:cubicBezTo>
                  <a:pt x="11999" y="4360"/>
                  <a:pt x="11979" y="4394"/>
                  <a:pt x="11931" y="4415"/>
                </a:cubicBezTo>
                <a:cubicBezTo>
                  <a:pt x="11917" y="4421"/>
                  <a:pt x="11865" y="4455"/>
                  <a:pt x="11881" y="4490"/>
                </a:cubicBezTo>
                <a:cubicBezTo>
                  <a:pt x="11895" y="4521"/>
                  <a:pt x="11922" y="4553"/>
                  <a:pt x="11956" y="4564"/>
                </a:cubicBezTo>
                <a:cubicBezTo>
                  <a:pt x="12022" y="4586"/>
                  <a:pt x="12067" y="4606"/>
                  <a:pt x="12129" y="4638"/>
                </a:cubicBezTo>
                <a:cubicBezTo>
                  <a:pt x="12174" y="4662"/>
                  <a:pt x="12248" y="4696"/>
                  <a:pt x="12278" y="4738"/>
                </a:cubicBezTo>
                <a:cubicBezTo>
                  <a:pt x="12290" y="4754"/>
                  <a:pt x="12333" y="4843"/>
                  <a:pt x="12328" y="4862"/>
                </a:cubicBezTo>
                <a:cubicBezTo>
                  <a:pt x="12305" y="4941"/>
                  <a:pt x="12277" y="4950"/>
                  <a:pt x="12204" y="4986"/>
                </a:cubicBezTo>
                <a:cubicBezTo>
                  <a:pt x="12129" y="5023"/>
                  <a:pt x="12088" y="5035"/>
                  <a:pt x="12005" y="5035"/>
                </a:cubicBezTo>
                <a:cubicBezTo>
                  <a:pt x="11940" y="5035"/>
                  <a:pt x="11913" y="5027"/>
                  <a:pt x="11881" y="5011"/>
                </a:cubicBezTo>
                <a:cubicBezTo>
                  <a:pt x="11845" y="4993"/>
                  <a:pt x="11852" y="5002"/>
                  <a:pt x="11881" y="4961"/>
                </a:cubicBezTo>
              </a:path>
              <a:path w="7690" h="2507">
                <a:moveTo>
                  <a:pt x="12502" y="4539"/>
                </a:moveTo>
                <a:cubicBezTo>
                  <a:pt x="12509" y="4615"/>
                  <a:pt x="12526" y="4659"/>
                  <a:pt x="12526" y="4738"/>
                </a:cubicBezTo>
                <a:cubicBezTo>
                  <a:pt x="12526" y="4837"/>
                  <a:pt x="12522" y="4927"/>
                  <a:pt x="12551" y="5011"/>
                </a:cubicBezTo>
                <a:cubicBezTo>
                  <a:pt x="12568" y="5061"/>
                  <a:pt x="12551" y="4983"/>
                  <a:pt x="12551" y="4961"/>
                </a:cubicBezTo>
              </a:path>
              <a:path w="7690" h="2507">
                <a:moveTo>
                  <a:pt x="12551" y="4341"/>
                </a:moveTo>
                <a:cubicBezTo>
                  <a:pt x="12551" y="4316"/>
                  <a:pt x="12551" y="4308"/>
                  <a:pt x="12551" y="4291"/>
                </a:cubicBezTo>
                <a:cubicBezTo>
                  <a:pt x="12591" y="4278"/>
                  <a:pt x="12561" y="4279"/>
                  <a:pt x="12601" y="4266"/>
                </a:cubicBezTo>
              </a:path>
              <a:path w="7690" h="2507">
                <a:moveTo>
                  <a:pt x="12700" y="4713"/>
                </a:moveTo>
                <a:cubicBezTo>
                  <a:pt x="12719" y="4803"/>
                  <a:pt x="12725" y="4870"/>
                  <a:pt x="12725" y="4961"/>
                </a:cubicBezTo>
                <a:cubicBezTo>
                  <a:pt x="12725" y="5001"/>
                  <a:pt x="12750" y="5015"/>
                  <a:pt x="12750" y="5060"/>
                </a:cubicBezTo>
                <a:cubicBezTo>
                  <a:pt x="12750" y="5101"/>
                  <a:pt x="12750" y="5027"/>
                  <a:pt x="12750" y="4986"/>
                </a:cubicBezTo>
                <a:cubicBezTo>
                  <a:pt x="12750" y="4934"/>
                  <a:pt x="12774" y="4893"/>
                  <a:pt x="12774" y="4837"/>
                </a:cubicBezTo>
                <a:cubicBezTo>
                  <a:pt x="12774" y="4783"/>
                  <a:pt x="12793" y="4709"/>
                  <a:pt x="12824" y="4663"/>
                </a:cubicBezTo>
                <a:cubicBezTo>
                  <a:pt x="12873" y="4590"/>
                  <a:pt x="12907" y="4575"/>
                  <a:pt x="12973" y="4539"/>
                </a:cubicBezTo>
                <a:cubicBezTo>
                  <a:pt x="13005" y="4522"/>
                  <a:pt x="13042" y="4502"/>
                  <a:pt x="13072" y="4539"/>
                </a:cubicBezTo>
                <a:cubicBezTo>
                  <a:pt x="13140" y="4622"/>
                  <a:pt x="13141" y="4636"/>
                  <a:pt x="13171" y="4738"/>
                </a:cubicBezTo>
                <a:cubicBezTo>
                  <a:pt x="13194" y="4817"/>
                  <a:pt x="13221" y="4850"/>
                  <a:pt x="13221" y="4936"/>
                </a:cubicBezTo>
                <a:cubicBezTo>
                  <a:pt x="13221" y="4997"/>
                  <a:pt x="13255" y="5033"/>
                  <a:pt x="13271" y="5085"/>
                </a:cubicBezTo>
                <a:cubicBezTo>
                  <a:pt x="13282" y="5122"/>
                  <a:pt x="13284" y="5120"/>
                  <a:pt x="13295" y="5085"/>
                </a:cubicBezTo>
              </a:path>
              <a:path w="7690" h="2507">
                <a:moveTo>
                  <a:pt x="13395" y="4663"/>
                </a:moveTo>
                <a:cubicBezTo>
                  <a:pt x="13440" y="4724"/>
                  <a:pt x="13457" y="4767"/>
                  <a:pt x="13494" y="4837"/>
                </a:cubicBezTo>
                <a:cubicBezTo>
                  <a:pt x="13534" y="4912"/>
                  <a:pt x="13559" y="4931"/>
                  <a:pt x="13618" y="4986"/>
                </a:cubicBezTo>
                <a:cubicBezTo>
                  <a:pt x="13660" y="5025"/>
                  <a:pt x="13707" y="5096"/>
                  <a:pt x="13767" y="5110"/>
                </a:cubicBezTo>
                <a:cubicBezTo>
                  <a:pt x="13803" y="5119"/>
                  <a:pt x="13876" y="5149"/>
                  <a:pt x="13915" y="5135"/>
                </a:cubicBezTo>
                <a:cubicBezTo>
                  <a:pt x="13954" y="5121"/>
                  <a:pt x="14020" y="5104"/>
                  <a:pt x="14039" y="5060"/>
                </a:cubicBezTo>
                <a:cubicBezTo>
                  <a:pt x="14039" y="5052"/>
                  <a:pt x="14039" y="5043"/>
                  <a:pt x="14039" y="5035"/>
                </a:cubicBezTo>
              </a:path>
              <a:path w="7690" h="2507">
                <a:moveTo>
                  <a:pt x="13866" y="4614"/>
                </a:moveTo>
                <a:cubicBezTo>
                  <a:pt x="13783" y="4703"/>
                  <a:pt x="13761" y="4773"/>
                  <a:pt x="13692" y="4862"/>
                </a:cubicBezTo>
                <a:cubicBezTo>
                  <a:pt x="13648" y="4919"/>
                  <a:pt x="13595" y="5014"/>
                  <a:pt x="13543" y="5060"/>
                </a:cubicBezTo>
                <a:cubicBezTo>
                  <a:pt x="13488" y="5108"/>
                  <a:pt x="13420" y="5131"/>
                  <a:pt x="13395" y="5209"/>
                </a:cubicBezTo>
                <a:cubicBezTo>
                  <a:pt x="13395" y="5237"/>
                  <a:pt x="13397" y="5243"/>
                  <a:pt x="13419" y="5209"/>
                </a:cubicBezTo>
              </a:path>
              <a:path w="7690" h="2507">
                <a:moveTo>
                  <a:pt x="14412" y="5035"/>
                </a:moveTo>
                <a:cubicBezTo>
                  <a:pt x="14412" y="5080"/>
                  <a:pt x="14417" y="5036"/>
                  <a:pt x="14436" y="5011"/>
                </a:cubicBezTo>
              </a:path>
              <a:path w="7690" h="2507">
                <a:moveTo>
                  <a:pt x="15156" y="4589"/>
                </a:moveTo>
                <a:cubicBezTo>
                  <a:pt x="15125" y="4512"/>
                  <a:pt x="15135" y="4490"/>
                  <a:pt x="15056" y="4490"/>
                </a:cubicBezTo>
                <a:cubicBezTo>
                  <a:pt x="15005" y="4490"/>
                  <a:pt x="14973" y="4502"/>
                  <a:pt x="14932" y="4514"/>
                </a:cubicBezTo>
                <a:cubicBezTo>
                  <a:pt x="14906" y="4522"/>
                  <a:pt x="14847" y="4535"/>
                  <a:pt x="14833" y="4564"/>
                </a:cubicBezTo>
                <a:cubicBezTo>
                  <a:pt x="14812" y="4606"/>
                  <a:pt x="14842" y="4626"/>
                  <a:pt x="14858" y="4638"/>
                </a:cubicBezTo>
                <a:cubicBezTo>
                  <a:pt x="14901" y="4670"/>
                  <a:pt x="14968" y="4663"/>
                  <a:pt x="15007" y="4688"/>
                </a:cubicBezTo>
                <a:cubicBezTo>
                  <a:pt x="15066" y="4725"/>
                  <a:pt x="15224" y="4838"/>
                  <a:pt x="15255" y="4911"/>
                </a:cubicBezTo>
                <a:cubicBezTo>
                  <a:pt x="15265" y="4934"/>
                  <a:pt x="15297" y="5005"/>
                  <a:pt x="15280" y="5035"/>
                </a:cubicBezTo>
                <a:cubicBezTo>
                  <a:pt x="15260" y="5070"/>
                  <a:pt x="15194" y="5126"/>
                  <a:pt x="15156" y="5135"/>
                </a:cubicBezTo>
                <a:cubicBezTo>
                  <a:pt x="15083" y="5152"/>
                  <a:pt x="15008" y="5159"/>
                  <a:pt x="14932" y="5159"/>
                </a:cubicBezTo>
                <a:cubicBezTo>
                  <a:pt x="14896" y="5159"/>
                  <a:pt x="14861" y="5137"/>
                  <a:pt x="14858" y="5110"/>
                </a:cubicBezTo>
                <a:cubicBezTo>
                  <a:pt x="14858" y="5082"/>
                  <a:pt x="14860" y="5071"/>
                  <a:pt x="14883" y="5060"/>
                </a:cubicBezTo>
              </a:path>
              <a:path w="7690" h="2507">
                <a:moveTo>
                  <a:pt x="15354" y="4564"/>
                </a:moveTo>
                <a:cubicBezTo>
                  <a:pt x="15379" y="4644"/>
                  <a:pt x="15425" y="4724"/>
                  <a:pt x="15404" y="4812"/>
                </a:cubicBezTo>
                <a:cubicBezTo>
                  <a:pt x="15387" y="4883"/>
                  <a:pt x="15379" y="4934"/>
                  <a:pt x="15379" y="5011"/>
                </a:cubicBezTo>
                <a:cubicBezTo>
                  <a:pt x="15379" y="5052"/>
                  <a:pt x="15379" y="5094"/>
                  <a:pt x="15379" y="5135"/>
                </a:cubicBezTo>
                <a:cubicBezTo>
                  <a:pt x="15389" y="5093"/>
                  <a:pt x="15397" y="5083"/>
                  <a:pt x="15404" y="5035"/>
                </a:cubicBezTo>
              </a:path>
              <a:path w="7690" h="2507">
                <a:moveTo>
                  <a:pt x="15478" y="4415"/>
                </a:moveTo>
                <a:cubicBezTo>
                  <a:pt x="15520" y="4374"/>
                  <a:pt x="15528" y="4350"/>
                  <a:pt x="15553" y="4390"/>
                </a:cubicBezTo>
              </a:path>
              <a:path w="7690" h="2507">
                <a:moveTo>
                  <a:pt x="15726" y="4911"/>
                </a:moveTo>
                <a:cubicBezTo>
                  <a:pt x="15732" y="4994"/>
                  <a:pt x="15751" y="5054"/>
                  <a:pt x="15751" y="5135"/>
                </a:cubicBezTo>
                <a:cubicBezTo>
                  <a:pt x="15751" y="5159"/>
                  <a:pt x="15751" y="5168"/>
                  <a:pt x="15751" y="5184"/>
                </a:cubicBezTo>
                <a:cubicBezTo>
                  <a:pt x="15711" y="5171"/>
                  <a:pt x="15726" y="5136"/>
                  <a:pt x="15726" y="5085"/>
                </a:cubicBezTo>
                <a:cubicBezTo>
                  <a:pt x="15726" y="5018"/>
                  <a:pt x="15740" y="4973"/>
                  <a:pt x="15751" y="4911"/>
                </a:cubicBezTo>
                <a:cubicBezTo>
                  <a:pt x="15765" y="4829"/>
                  <a:pt x="15787" y="4785"/>
                  <a:pt x="15825" y="4713"/>
                </a:cubicBezTo>
                <a:cubicBezTo>
                  <a:pt x="15866" y="4635"/>
                  <a:pt x="15882" y="4615"/>
                  <a:pt x="15949" y="4564"/>
                </a:cubicBezTo>
                <a:cubicBezTo>
                  <a:pt x="16000" y="4525"/>
                  <a:pt x="16047" y="4531"/>
                  <a:pt x="16098" y="4564"/>
                </a:cubicBezTo>
                <a:cubicBezTo>
                  <a:pt x="16169" y="4611"/>
                  <a:pt x="16227" y="4699"/>
                  <a:pt x="16247" y="4787"/>
                </a:cubicBezTo>
                <a:cubicBezTo>
                  <a:pt x="16268" y="4880"/>
                  <a:pt x="16244" y="4976"/>
                  <a:pt x="16272" y="5060"/>
                </a:cubicBezTo>
                <a:cubicBezTo>
                  <a:pt x="16289" y="5111"/>
                  <a:pt x="16272" y="5056"/>
                  <a:pt x="16272" y="5035"/>
                </a:cubicBezTo>
              </a:path>
              <a:path w="7690" h="2507">
                <a:moveTo>
                  <a:pt x="16446" y="4614"/>
                </a:moveTo>
                <a:cubicBezTo>
                  <a:pt x="16487" y="4689"/>
                  <a:pt x="16513" y="4756"/>
                  <a:pt x="16545" y="4837"/>
                </a:cubicBezTo>
                <a:cubicBezTo>
                  <a:pt x="16580" y="4926"/>
                  <a:pt x="16615" y="4997"/>
                  <a:pt x="16694" y="5060"/>
                </a:cubicBezTo>
                <a:cubicBezTo>
                  <a:pt x="16757" y="5110"/>
                  <a:pt x="16865" y="5155"/>
                  <a:pt x="16942" y="5159"/>
                </a:cubicBezTo>
                <a:cubicBezTo>
                  <a:pt x="16997" y="5162"/>
                  <a:pt x="17048" y="5168"/>
                  <a:pt x="17090" y="5135"/>
                </a:cubicBezTo>
                <a:cubicBezTo>
                  <a:pt x="17098" y="5127"/>
                  <a:pt x="17107" y="5118"/>
                  <a:pt x="17115" y="5110"/>
                </a:cubicBezTo>
              </a:path>
              <a:path w="7690" h="2507">
                <a:moveTo>
                  <a:pt x="16991" y="4762"/>
                </a:moveTo>
                <a:cubicBezTo>
                  <a:pt x="16927" y="4827"/>
                  <a:pt x="16858" y="4930"/>
                  <a:pt x="16793" y="4986"/>
                </a:cubicBezTo>
                <a:cubicBezTo>
                  <a:pt x="16743" y="5030"/>
                  <a:pt x="16695" y="5064"/>
                  <a:pt x="16644" y="5110"/>
                </a:cubicBezTo>
                <a:cubicBezTo>
                  <a:pt x="16612" y="5139"/>
                  <a:pt x="16588" y="5141"/>
                  <a:pt x="16545" y="5159"/>
                </a:cubicBezTo>
              </a:path>
              <a:path w="7690" h="2507">
                <a:moveTo>
                  <a:pt x="14784" y="5507"/>
                </a:moveTo>
                <a:cubicBezTo>
                  <a:pt x="15247" y="5507"/>
                  <a:pt x="15714" y="5495"/>
                  <a:pt x="16173" y="5531"/>
                </a:cubicBezTo>
                <a:cubicBezTo>
                  <a:pt x="16297" y="5541"/>
                  <a:pt x="16422" y="5551"/>
                  <a:pt x="16545" y="5556"/>
                </a:cubicBezTo>
                <a:cubicBezTo>
                  <a:pt x="16612" y="5559"/>
                  <a:pt x="16629" y="5565"/>
                  <a:pt x="16694" y="5581"/>
                </a:cubicBezTo>
              </a:path>
              <a:path w="7690" h="2507">
                <a:moveTo>
                  <a:pt x="14932" y="6052"/>
                </a:moveTo>
                <a:cubicBezTo>
                  <a:pt x="14942" y="6145"/>
                  <a:pt x="14957" y="6104"/>
                  <a:pt x="14957" y="6176"/>
                </a:cubicBezTo>
                <a:cubicBezTo>
                  <a:pt x="14957" y="6222"/>
                  <a:pt x="14944" y="6168"/>
                  <a:pt x="14932" y="6152"/>
                </a:cubicBezTo>
                <a:cubicBezTo>
                  <a:pt x="14903" y="6113"/>
                  <a:pt x="14857" y="6094"/>
                  <a:pt x="14833" y="6052"/>
                </a:cubicBezTo>
                <a:cubicBezTo>
                  <a:pt x="14813" y="6016"/>
                  <a:pt x="14789" y="6028"/>
                  <a:pt x="14734" y="6028"/>
                </a:cubicBezTo>
                <a:cubicBezTo>
                  <a:pt x="14677" y="6028"/>
                  <a:pt x="14632" y="6067"/>
                  <a:pt x="14585" y="6102"/>
                </a:cubicBezTo>
                <a:cubicBezTo>
                  <a:pt x="14536" y="6139"/>
                  <a:pt x="14513" y="6223"/>
                  <a:pt x="14486" y="6276"/>
                </a:cubicBezTo>
                <a:cubicBezTo>
                  <a:pt x="14448" y="6351"/>
                  <a:pt x="14436" y="6391"/>
                  <a:pt x="14436" y="6474"/>
                </a:cubicBezTo>
                <a:cubicBezTo>
                  <a:pt x="14436" y="6543"/>
                  <a:pt x="14423" y="6611"/>
                  <a:pt x="14461" y="6672"/>
                </a:cubicBezTo>
                <a:cubicBezTo>
                  <a:pt x="14491" y="6721"/>
                  <a:pt x="14539" y="6729"/>
                  <a:pt x="14585" y="6747"/>
                </a:cubicBezTo>
                <a:cubicBezTo>
                  <a:pt x="14667" y="6780"/>
                  <a:pt x="14726" y="6772"/>
                  <a:pt x="14808" y="6722"/>
                </a:cubicBezTo>
                <a:cubicBezTo>
                  <a:pt x="14864" y="6688"/>
                  <a:pt x="14895" y="6621"/>
                  <a:pt x="14932" y="6573"/>
                </a:cubicBezTo>
                <a:cubicBezTo>
                  <a:pt x="14940" y="6565"/>
                  <a:pt x="14949" y="6556"/>
                  <a:pt x="14957" y="6548"/>
                </a:cubicBezTo>
              </a:path>
              <a:path w="7690" h="2507">
                <a:moveTo>
                  <a:pt x="15032" y="6276"/>
                </a:moveTo>
                <a:cubicBezTo>
                  <a:pt x="15032" y="6378"/>
                  <a:pt x="15000" y="6557"/>
                  <a:pt x="15056" y="6648"/>
                </a:cubicBezTo>
                <a:cubicBezTo>
                  <a:pt x="15076" y="6680"/>
                  <a:pt x="15121" y="6719"/>
                  <a:pt x="15156" y="6722"/>
                </a:cubicBezTo>
                <a:cubicBezTo>
                  <a:pt x="15206" y="6726"/>
                  <a:pt x="15315" y="6718"/>
                  <a:pt x="15354" y="6697"/>
                </a:cubicBezTo>
                <a:cubicBezTo>
                  <a:pt x="15404" y="6670"/>
                  <a:pt x="15450" y="6594"/>
                  <a:pt x="15478" y="6548"/>
                </a:cubicBezTo>
                <a:cubicBezTo>
                  <a:pt x="15510" y="6496"/>
                  <a:pt x="15553" y="6414"/>
                  <a:pt x="15528" y="6350"/>
                </a:cubicBezTo>
                <a:cubicBezTo>
                  <a:pt x="15501" y="6281"/>
                  <a:pt x="15491" y="6273"/>
                  <a:pt x="15429" y="6226"/>
                </a:cubicBezTo>
                <a:cubicBezTo>
                  <a:pt x="15363" y="6176"/>
                  <a:pt x="15310" y="6176"/>
                  <a:pt x="15230" y="6176"/>
                </a:cubicBezTo>
                <a:cubicBezTo>
                  <a:pt x="15170" y="6176"/>
                  <a:pt x="15127" y="6210"/>
                  <a:pt x="15081" y="6251"/>
                </a:cubicBezTo>
                <a:cubicBezTo>
                  <a:pt x="15041" y="6287"/>
                  <a:pt x="15011" y="6320"/>
                  <a:pt x="15007" y="6375"/>
                </a:cubicBezTo>
                <a:cubicBezTo>
                  <a:pt x="15003" y="6427"/>
                  <a:pt x="14999" y="6461"/>
                  <a:pt x="15032" y="6499"/>
                </a:cubicBezTo>
                <a:cubicBezTo>
                  <a:pt x="15054" y="6522"/>
                  <a:pt x="15059" y="6530"/>
                  <a:pt x="15081" y="6524"/>
                </a:cubicBezTo>
              </a:path>
              <a:path w="7690" h="2507">
                <a:moveTo>
                  <a:pt x="15850" y="6127"/>
                </a:moveTo>
                <a:cubicBezTo>
                  <a:pt x="15795" y="6103"/>
                  <a:pt x="15755" y="6100"/>
                  <a:pt x="15701" y="6127"/>
                </a:cubicBezTo>
                <a:cubicBezTo>
                  <a:pt x="15667" y="6144"/>
                  <a:pt x="15644" y="6215"/>
                  <a:pt x="15627" y="6226"/>
                </a:cubicBezTo>
                <a:cubicBezTo>
                  <a:pt x="15602" y="6226"/>
                  <a:pt x="15594" y="6226"/>
                  <a:pt x="15602" y="6251"/>
                </a:cubicBezTo>
                <a:cubicBezTo>
                  <a:pt x="15640" y="6288"/>
                  <a:pt x="15681" y="6323"/>
                  <a:pt x="15726" y="6350"/>
                </a:cubicBezTo>
                <a:cubicBezTo>
                  <a:pt x="15793" y="6390"/>
                  <a:pt x="15843" y="6417"/>
                  <a:pt x="15900" y="6474"/>
                </a:cubicBezTo>
                <a:cubicBezTo>
                  <a:pt x="15951" y="6525"/>
                  <a:pt x="15959" y="6553"/>
                  <a:pt x="15949" y="6598"/>
                </a:cubicBezTo>
                <a:cubicBezTo>
                  <a:pt x="15941" y="6632"/>
                  <a:pt x="15912" y="6664"/>
                  <a:pt x="15875" y="6672"/>
                </a:cubicBezTo>
                <a:cubicBezTo>
                  <a:pt x="15800" y="6687"/>
                  <a:pt x="15732" y="6697"/>
                  <a:pt x="15652" y="6697"/>
                </a:cubicBezTo>
                <a:cubicBezTo>
                  <a:pt x="15572" y="6697"/>
                  <a:pt x="15604" y="6678"/>
                  <a:pt x="15652" y="6623"/>
                </a:cubicBezTo>
              </a:path>
              <a:path w="7690" h="2507">
                <a:moveTo>
                  <a:pt x="16222" y="6152"/>
                </a:moveTo>
                <a:cubicBezTo>
                  <a:pt x="16249" y="6246"/>
                  <a:pt x="16278" y="6294"/>
                  <a:pt x="16321" y="6375"/>
                </a:cubicBezTo>
                <a:cubicBezTo>
                  <a:pt x="16361" y="6450"/>
                  <a:pt x="16406" y="6477"/>
                  <a:pt x="16470" y="6524"/>
                </a:cubicBezTo>
                <a:cubicBezTo>
                  <a:pt x="16520" y="6561"/>
                  <a:pt x="16583" y="6604"/>
                  <a:pt x="16644" y="6623"/>
                </a:cubicBezTo>
                <a:cubicBezTo>
                  <a:pt x="16689" y="6637"/>
                  <a:pt x="16733" y="6613"/>
                  <a:pt x="16768" y="6598"/>
                </a:cubicBezTo>
                <a:cubicBezTo>
                  <a:pt x="16809" y="6578"/>
                  <a:pt x="16825" y="6580"/>
                  <a:pt x="16818" y="6548"/>
                </a:cubicBezTo>
              </a:path>
              <a:path w="7690" h="2507">
                <a:moveTo>
                  <a:pt x="16743" y="6077"/>
                </a:moveTo>
                <a:cubicBezTo>
                  <a:pt x="16637" y="6138"/>
                  <a:pt x="16586" y="6176"/>
                  <a:pt x="16520" y="6276"/>
                </a:cubicBezTo>
                <a:cubicBezTo>
                  <a:pt x="16456" y="6373"/>
                  <a:pt x="16352" y="6523"/>
                  <a:pt x="16272" y="6598"/>
                </a:cubicBezTo>
                <a:cubicBezTo>
                  <a:pt x="16230" y="6637"/>
                  <a:pt x="16191" y="6665"/>
                  <a:pt x="16173" y="6722"/>
                </a:cubicBezTo>
                <a:cubicBezTo>
                  <a:pt x="16161" y="6760"/>
                  <a:pt x="16174" y="6730"/>
                  <a:pt x="16197" y="6722"/>
                </a:cubicBezTo>
              </a:path>
              <a:path w="7690" h="2507">
                <a:moveTo>
                  <a:pt x="17711" y="5283"/>
                </a:moveTo>
                <a:cubicBezTo>
                  <a:pt x="17780" y="5276"/>
                  <a:pt x="17816" y="5259"/>
                  <a:pt x="17884" y="5259"/>
                </a:cubicBezTo>
                <a:cubicBezTo>
                  <a:pt x="17975" y="5259"/>
                  <a:pt x="18066" y="5259"/>
                  <a:pt x="18157" y="5259"/>
                </a:cubicBezTo>
              </a:path>
              <a:path w="7690" h="2507">
                <a:moveTo>
                  <a:pt x="17711" y="5482"/>
                </a:moveTo>
                <a:cubicBezTo>
                  <a:pt x="17759" y="5519"/>
                  <a:pt x="17847" y="5520"/>
                  <a:pt x="17909" y="5507"/>
                </a:cubicBezTo>
                <a:cubicBezTo>
                  <a:pt x="17994" y="5489"/>
                  <a:pt x="18068" y="5465"/>
                  <a:pt x="18157" y="5457"/>
                </a:cubicBezTo>
              </a:path>
              <a:path w="7690" h="2507">
                <a:moveTo>
                  <a:pt x="18728" y="4638"/>
                </a:moveTo>
                <a:cubicBezTo>
                  <a:pt x="18751" y="4591"/>
                  <a:pt x="18775" y="4515"/>
                  <a:pt x="18827" y="4490"/>
                </a:cubicBezTo>
                <a:cubicBezTo>
                  <a:pt x="18870" y="4470"/>
                  <a:pt x="18937" y="4460"/>
                  <a:pt x="18976" y="4440"/>
                </a:cubicBezTo>
                <a:cubicBezTo>
                  <a:pt x="19047" y="4404"/>
                  <a:pt x="19066" y="4430"/>
                  <a:pt x="19124" y="4440"/>
                </a:cubicBezTo>
                <a:cubicBezTo>
                  <a:pt x="19183" y="4450"/>
                  <a:pt x="19209" y="4451"/>
                  <a:pt x="19224" y="4514"/>
                </a:cubicBezTo>
                <a:cubicBezTo>
                  <a:pt x="19239" y="4579"/>
                  <a:pt x="19223" y="4656"/>
                  <a:pt x="19199" y="4713"/>
                </a:cubicBezTo>
                <a:cubicBezTo>
                  <a:pt x="19184" y="4748"/>
                  <a:pt x="19134" y="4801"/>
                  <a:pt x="19124" y="4837"/>
                </a:cubicBezTo>
                <a:cubicBezTo>
                  <a:pt x="19108" y="4898"/>
                  <a:pt x="19097" y="4933"/>
                  <a:pt x="19050" y="4986"/>
                </a:cubicBezTo>
                <a:cubicBezTo>
                  <a:pt x="19009" y="5032"/>
                  <a:pt x="18988" y="5087"/>
                  <a:pt x="18951" y="5135"/>
                </a:cubicBezTo>
                <a:cubicBezTo>
                  <a:pt x="18908" y="5192"/>
                  <a:pt x="18889" y="5221"/>
                  <a:pt x="18852" y="5283"/>
                </a:cubicBezTo>
                <a:cubicBezTo>
                  <a:pt x="18834" y="5314"/>
                  <a:pt x="18785" y="5345"/>
                  <a:pt x="18777" y="5358"/>
                </a:cubicBezTo>
                <a:cubicBezTo>
                  <a:pt x="18758" y="5387"/>
                  <a:pt x="18757" y="5420"/>
                  <a:pt x="18752" y="5457"/>
                </a:cubicBezTo>
                <a:cubicBezTo>
                  <a:pt x="18818" y="5457"/>
                  <a:pt x="18924" y="5426"/>
                  <a:pt x="18976" y="5432"/>
                </a:cubicBezTo>
                <a:cubicBezTo>
                  <a:pt x="19042" y="5439"/>
                  <a:pt x="19101" y="5457"/>
                  <a:pt x="19174" y="5457"/>
                </a:cubicBezTo>
                <a:cubicBezTo>
                  <a:pt x="19248" y="5457"/>
                  <a:pt x="19305" y="5473"/>
                  <a:pt x="19372" y="5482"/>
                </a:cubicBezTo>
                <a:cubicBezTo>
                  <a:pt x="19406" y="5486"/>
                  <a:pt x="19547" y="5499"/>
                  <a:pt x="19546" y="5457"/>
                </a:cubicBezTo>
                <a:cubicBezTo>
                  <a:pt x="19538" y="5457"/>
                  <a:pt x="19529" y="5457"/>
                  <a:pt x="19521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4240" y="2776680"/>
            <a:ext cx="1152720" cy="295200"/>
          </a:xfrm>
          <a:custGeom>
            <a:avLst/>
            <a:gdLst/>
            <a:ahLst/>
            <a:rect l="l" t="t" r="r" b="b"/>
            <a:pathLst>
              <a:path w="3201" h="820">
                <a:moveTo>
                  <a:pt x="8830" y="7789"/>
                </a:moveTo>
                <a:cubicBezTo>
                  <a:pt x="8830" y="7830"/>
                  <a:pt x="8830" y="7838"/>
                  <a:pt x="8830" y="7863"/>
                </a:cubicBezTo>
                <a:cubicBezTo>
                  <a:pt x="8870" y="7843"/>
                  <a:pt x="8820" y="7833"/>
                  <a:pt x="8806" y="7789"/>
                </a:cubicBezTo>
                <a:cubicBezTo>
                  <a:pt x="8796" y="7758"/>
                  <a:pt x="8804" y="7725"/>
                  <a:pt x="8781" y="7714"/>
                </a:cubicBezTo>
                <a:cubicBezTo>
                  <a:pt x="8761" y="7704"/>
                  <a:pt x="8693" y="7748"/>
                  <a:pt x="8682" y="7764"/>
                </a:cubicBezTo>
                <a:cubicBezTo>
                  <a:pt x="8641" y="7824"/>
                  <a:pt x="8593" y="7853"/>
                  <a:pt x="8558" y="7913"/>
                </a:cubicBezTo>
                <a:cubicBezTo>
                  <a:pt x="8508" y="7999"/>
                  <a:pt x="8494" y="8087"/>
                  <a:pt x="8483" y="8186"/>
                </a:cubicBezTo>
                <a:cubicBezTo>
                  <a:pt x="8476" y="8244"/>
                  <a:pt x="8475" y="8309"/>
                  <a:pt x="8508" y="8359"/>
                </a:cubicBezTo>
                <a:cubicBezTo>
                  <a:pt x="8544" y="8412"/>
                  <a:pt x="8573" y="8409"/>
                  <a:pt x="8632" y="8409"/>
                </a:cubicBezTo>
                <a:cubicBezTo>
                  <a:pt x="8707" y="8409"/>
                  <a:pt x="8745" y="8406"/>
                  <a:pt x="8806" y="8359"/>
                </a:cubicBezTo>
                <a:cubicBezTo>
                  <a:pt x="8814" y="8351"/>
                  <a:pt x="8822" y="8342"/>
                  <a:pt x="8830" y="8334"/>
                </a:cubicBezTo>
              </a:path>
              <a:path w="3201" h="820">
                <a:moveTo>
                  <a:pt x="9004" y="8012"/>
                </a:moveTo>
                <a:cubicBezTo>
                  <a:pt x="9004" y="8118"/>
                  <a:pt x="9011" y="8218"/>
                  <a:pt x="9029" y="8310"/>
                </a:cubicBezTo>
                <a:cubicBezTo>
                  <a:pt x="9040" y="8370"/>
                  <a:pt x="9085" y="8411"/>
                  <a:pt x="9153" y="8434"/>
                </a:cubicBezTo>
                <a:cubicBezTo>
                  <a:pt x="9219" y="8456"/>
                  <a:pt x="9295" y="8411"/>
                  <a:pt x="9351" y="8384"/>
                </a:cubicBezTo>
                <a:cubicBezTo>
                  <a:pt x="9418" y="8352"/>
                  <a:pt x="9472" y="8304"/>
                  <a:pt x="9500" y="8235"/>
                </a:cubicBezTo>
                <a:cubicBezTo>
                  <a:pt x="9527" y="8170"/>
                  <a:pt x="9570" y="8086"/>
                  <a:pt x="9550" y="8012"/>
                </a:cubicBezTo>
                <a:cubicBezTo>
                  <a:pt x="9533" y="7952"/>
                  <a:pt x="9475" y="7917"/>
                  <a:pt x="9426" y="7888"/>
                </a:cubicBezTo>
                <a:cubicBezTo>
                  <a:pt x="9352" y="7843"/>
                  <a:pt x="9266" y="7816"/>
                  <a:pt x="9178" y="7838"/>
                </a:cubicBezTo>
                <a:cubicBezTo>
                  <a:pt x="9115" y="7854"/>
                  <a:pt x="9054" y="7868"/>
                  <a:pt x="9004" y="7913"/>
                </a:cubicBezTo>
                <a:cubicBezTo>
                  <a:pt x="8956" y="7956"/>
                  <a:pt x="8954" y="7973"/>
                  <a:pt x="8954" y="8037"/>
                </a:cubicBezTo>
                <a:cubicBezTo>
                  <a:pt x="8954" y="8083"/>
                  <a:pt x="8948" y="8101"/>
                  <a:pt x="8979" y="8136"/>
                </a:cubicBezTo>
                <a:cubicBezTo>
                  <a:pt x="8987" y="8144"/>
                  <a:pt x="8996" y="8153"/>
                  <a:pt x="9004" y="8161"/>
                </a:cubicBezTo>
              </a:path>
              <a:path w="3201" h="820">
                <a:moveTo>
                  <a:pt x="9823" y="7863"/>
                </a:moveTo>
                <a:cubicBezTo>
                  <a:pt x="9768" y="7863"/>
                  <a:pt x="9697" y="7859"/>
                  <a:pt x="9649" y="7888"/>
                </a:cubicBezTo>
                <a:cubicBezTo>
                  <a:pt x="9622" y="7904"/>
                  <a:pt x="9579" y="7951"/>
                  <a:pt x="9599" y="7987"/>
                </a:cubicBezTo>
                <a:cubicBezTo>
                  <a:pt x="9623" y="8031"/>
                  <a:pt x="9682" y="8064"/>
                  <a:pt x="9723" y="8086"/>
                </a:cubicBezTo>
                <a:cubicBezTo>
                  <a:pt x="9811" y="8132"/>
                  <a:pt x="9900" y="8166"/>
                  <a:pt x="9947" y="8260"/>
                </a:cubicBezTo>
                <a:cubicBezTo>
                  <a:pt x="9966" y="8299"/>
                  <a:pt x="9943" y="8325"/>
                  <a:pt x="9922" y="8334"/>
                </a:cubicBezTo>
                <a:cubicBezTo>
                  <a:pt x="9847" y="8368"/>
                  <a:pt x="9835" y="8384"/>
                  <a:pt x="9748" y="8384"/>
                </a:cubicBezTo>
                <a:cubicBezTo>
                  <a:pt x="9698" y="8384"/>
                  <a:pt x="9649" y="8384"/>
                  <a:pt x="9599" y="8384"/>
                </a:cubicBezTo>
                <a:cubicBezTo>
                  <a:pt x="9599" y="8342"/>
                  <a:pt x="9612" y="8314"/>
                  <a:pt x="9649" y="8285"/>
                </a:cubicBezTo>
                <a:cubicBezTo>
                  <a:pt x="9666" y="8277"/>
                  <a:pt x="9682" y="8268"/>
                  <a:pt x="9699" y="8260"/>
                </a:cubicBezTo>
              </a:path>
              <a:path w="3201" h="820">
                <a:moveTo>
                  <a:pt x="10071" y="8012"/>
                </a:moveTo>
                <a:cubicBezTo>
                  <a:pt x="10097" y="8080"/>
                  <a:pt x="10111" y="8122"/>
                  <a:pt x="10145" y="8186"/>
                </a:cubicBezTo>
                <a:cubicBezTo>
                  <a:pt x="10186" y="8263"/>
                  <a:pt x="10219" y="8310"/>
                  <a:pt x="10294" y="8359"/>
                </a:cubicBezTo>
                <a:cubicBezTo>
                  <a:pt x="10365" y="8406"/>
                  <a:pt x="10459" y="8454"/>
                  <a:pt x="10542" y="8458"/>
                </a:cubicBezTo>
                <a:cubicBezTo>
                  <a:pt x="10625" y="8462"/>
                  <a:pt x="10616" y="8427"/>
                  <a:pt x="10616" y="8359"/>
                </a:cubicBezTo>
              </a:path>
              <a:path w="3201" h="820">
                <a:moveTo>
                  <a:pt x="10468" y="7962"/>
                </a:moveTo>
                <a:cubicBezTo>
                  <a:pt x="10419" y="8039"/>
                  <a:pt x="10368" y="8111"/>
                  <a:pt x="10319" y="8186"/>
                </a:cubicBezTo>
                <a:cubicBezTo>
                  <a:pt x="10272" y="8258"/>
                  <a:pt x="10210" y="8309"/>
                  <a:pt x="10170" y="8384"/>
                </a:cubicBezTo>
                <a:cubicBezTo>
                  <a:pt x="10147" y="8428"/>
                  <a:pt x="10035" y="8448"/>
                  <a:pt x="10071" y="8483"/>
                </a:cubicBezTo>
                <a:cubicBezTo>
                  <a:pt x="10096" y="8483"/>
                  <a:pt x="10104" y="8483"/>
                  <a:pt x="10120" y="8483"/>
                </a:cubicBezTo>
              </a:path>
              <a:path w="3201" h="820">
                <a:moveTo>
                  <a:pt x="11460" y="7888"/>
                </a:moveTo>
                <a:cubicBezTo>
                  <a:pt x="11438" y="7967"/>
                  <a:pt x="11420" y="8058"/>
                  <a:pt x="11410" y="8136"/>
                </a:cubicBezTo>
                <a:cubicBezTo>
                  <a:pt x="11400" y="8213"/>
                  <a:pt x="11435" y="8280"/>
                  <a:pt x="11435" y="8359"/>
                </a:cubicBezTo>
                <a:cubicBezTo>
                  <a:pt x="11435" y="8376"/>
                  <a:pt x="11447" y="8498"/>
                  <a:pt x="11460" y="8508"/>
                </a:cubicBezTo>
                <a:cubicBezTo>
                  <a:pt x="11483" y="8526"/>
                  <a:pt x="11485" y="8538"/>
                  <a:pt x="11485" y="8508"/>
                </a:cubicBezTo>
              </a:path>
              <a:path w="3201" h="820">
                <a:moveTo>
                  <a:pt x="11237" y="8310"/>
                </a:moveTo>
                <a:cubicBezTo>
                  <a:pt x="11318" y="8310"/>
                  <a:pt x="11380" y="8293"/>
                  <a:pt x="11460" y="8285"/>
                </a:cubicBezTo>
                <a:cubicBezTo>
                  <a:pt x="11543" y="8276"/>
                  <a:pt x="11602" y="8262"/>
                  <a:pt x="11683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687760"/>
            <a:ext cx="1768320" cy="884160"/>
          </a:xfrm>
          <a:custGeom>
            <a:avLst/>
            <a:gdLst/>
            <a:ahLst/>
            <a:rect l="l" t="t" r="r" b="b"/>
            <a:pathLst>
              <a:path w="4912" h="2457">
                <a:moveTo>
                  <a:pt x="13022" y="7888"/>
                </a:moveTo>
                <a:cubicBezTo>
                  <a:pt x="13022" y="7896"/>
                  <a:pt x="13022" y="7905"/>
                  <a:pt x="13022" y="7913"/>
                </a:cubicBezTo>
                <a:cubicBezTo>
                  <a:pt x="13031" y="7885"/>
                  <a:pt x="13058" y="7865"/>
                  <a:pt x="12998" y="7838"/>
                </a:cubicBezTo>
                <a:cubicBezTo>
                  <a:pt x="12926" y="7805"/>
                  <a:pt x="12817" y="7852"/>
                  <a:pt x="12750" y="7863"/>
                </a:cubicBezTo>
                <a:cubicBezTo>
                  <a:pt x="12695" y="7872"/>
                  <a:pt x="12645" y="7878"/>
                  <a:pt x="12601" y="7913"/>
                </a:cubicBezTo>
                <a:cubicBezTo>
                  <a:pt x="12549" y="7955"/>
                  <a:pt x="12592" y="7977"/>
                  <a:pt x="12626" y="8012"/>
                </a:cubicBezTo>
                <a:cubicBezTo>
                  <a:pt x="12673" y="8060"/>
                  <a:pt x="12763" y="8041"/>
                  <a:pt x="12824" y="8086"/>
                </a:cubicBezTo>
                <a:cubicBezTo>
                  <a:pt x="12891" y="8135"/>
                  <a:pt x="12955" y="8162"/>
                  <a:pt x="12998" y="8235"/>
                </a:cubicBezTo>
                <a:cubicBezTo>
                  <a:pt x="13027" y="8285"/>
                  <a:pt x="13008" y="8340"/>
                  <a:pt x="12973" y="8384"/>
                </a:cubicBezTo>
                <a:cubicBezTo>
                  <a:pt x="12931" y="8436"/>
                  <a:pt x="12861" y="8455"/>
                  <a:pt x="12799" y="8458"/>
                </a:cubicBezTo>
                <a:cubicBezTo>
                  <a:pt x="12727" y="8462"/>
                  <a:pt x="12660" y="8467"/>
                  <a:pt x="12601" y="8434"/>
                </a:cubicBezTo>
                <a:cubicBezTo>
                  <a:pt x="12569" y="8416"/>
                  <a:pt x="12510" y="8402"/>
                  <a:pt x="12502" y="8384"/>
                </a:cubicBezTo>
                <a:cubicBezTo>
                  <a:pt x="12502" y="8344"/>
                  <a:pt x="12512" y="8325"/>
                  <a:pt x="12551" y="8310"/>
                </a:cubicBezTo>
              </a:path>
              <a:path w="4912" h="2457">
                <a:moveTo>
                  <a:pt x="13221" y="8012"/>
                </a:moveTo>
                <a:cubicBezTo>
                  <a:pt x="13221" y="8101"/>
                  <a:pt x="13201" y="8174"/>
                  <a:pt x="13196" y="8260"/>
                </a:cubicBezTo>
                <a:cubicBezTo>
                  <a:pt x="13193" y="8309"/>
                  <a:pt x="13196" y="8516"/>
                  <a:pt x="13196" y="8483"/>
                </a:cubicBezTo>
                <a:cubicBezTo>
                  <a:pt x="13196" y="8442"/>
                  <a:pt x="13196" y="8434"/>
                  <a:pt x="13196" y="8409"/>
                </a:cubicBezTo>
              </a:path>
              <a:path w="4912" h="2457">
                <a:moveTo>
                  <a:pt x="13246" y="7689"/>
                </a:moveTo>
                <a:cubicBezTo>
                  <a:pt x="13262" y="7681"/>
                  <a:pt x="13279" y="7673"/>
                  <a:pt x="13295" y="7665"/>
                </a:cubicBezTo>
              </a:path>
              <a:path w="4912" h="2457">
                <a:moveTo>
                  <a:pt x="13419" y="8235"/>
                </a:moveTo>
                <a:cubicBezTo>
                  <a:pt x="13419" y="8351"/>
                  <a:pt x="13423" y="8397"/>
                  <a:pt x="13395" y="8483"/>
                </a:cubicBezTo>
                <a:cubicBezTo>
                  <a:pt x="13395" y="8491"/>
                  <a:pt x="13395" y="8500"/>
                  <a:pt x="13395" y="8508"/>
                </a:cubicBezTo>
                <a:cubicBezTo>
                  <a:pt x="13395" y="8426"/>
                  <a:pt x="13406" y="8361"/>
                  <a:pt x="13419" y="8285"/>
                </a:cubicBezTo>
                <a:cubicBezTo>
                  <a:pt x="13431" y="8215"/>
                  <a:pt x="13428" y="8154"/>
                  <a:pt x="13444" y="8086"/>
                </a:cubicBezTo>
                <a:cubicBezTo>
                  <a:pt x="13457" y="8029"/>
                  <a:pt x="13479" y="7983"/>
                  <a:pt x="13519" y="7938"/>
                </a:cubicBezTo>
                <a:cubicBezTo>
                  <a:pt x="13561" y="7890"/>
                  <a:pt x="13629" y="7908"/>
                  <a:pt x="13667" y="7913"/>
                </a:cubicBezTo>
                <a:cubicBezTo>
                  <a:pt x="13739" y="7923"/>
                  <a:pt x="13796" y="7984"/>
                  <a:pt x="13816" y="8062"/>
                </a:cubicBezTo>
                <a:cubicBezTo>
                  <a:pt x="13837" y="8148"/>
                  <a:pt x="13841" y="8244"/>
                  <a:pt x="13841" y="8334"/>
                </a:cubicBezTo>
                <a:cubicBezTo>
                  <a:pt x="13841" y="8362"/>
                  <a:pt x="13841" y="8534"/>
                  <a:pt x="13841" y="8483"/>
                </a:cubicBezTo>
                <a:cubicBezTo>
                  <a:pt x="13841" y="8458"/>
                  <a:pt x="13841" y="8434"/>
                  <a:pt x="13841" y="8409"/>
                </a:cubicBezTo>
              </a:path>
              <a:path w="4912" h="2457">
                <a:moveTo>
                  <a:pt x="13915" y="7516"/>
                </a:moveTo>
                <a:cubicBezTo>
                  <a:pt x="13999" y="7486"/>
                  <a:pt x="14086" y="7429"/>
                  <a:pt x="14163" y="7491"/>
                </a:cubicBezTo>
                <a:cubicBezTo>
                  <a:pt x="14224" y="7540"/>
                  <a:pt x="14212" y="7559"/>
                  <a:pt x="14163" y="7615"/>
                </a:cubicBezTo>
                <a:cubicBezTo>
                  <a:pt x="14132" y="7650"/>
                  <a:pt x="14060" y="7719"/>
                  <a:pt x="14015" y="7739"/>
                </a:cubicBezTo>
                <a:cubicBezTo>
                  <a:pt x="13991" y="7750"/>
                  <a:pt x="13964" y="7788"/>
                  <a:pt x="14015" y="7813"/>
                </a:cubicBezTo>
                <a:cubicBezTo>
                  <a:pt x="14067" y="7839"/>
                  <a:pt x="14128" y="7838"/>
                  <a:pt x="14188" y="7838"/>
                </a:cubicBezTo>
                <a:cubicBezTo>
                  <a:pt x="14213" y="7838"/>
                  <a:pt x="14238" y="7838"/>
                  <a:pt x="14263" y="7838"/>
                </a:cubicBezTo>
              </a:path>
              <a:path w="4912" h="2457">
                <a:moveTo>
                  <a:pt x="14486" y="7987"/>
                </a:moveTo>
                <a:cubicBezTo>
                  <a:pt x="14536" y="8113"/>
                  <a:pt x="14564" y="8225"/>
                  <a:pt x="14660" y="8310"/>
                </a:cubicBezTo>
                <a:cubicBezTo>
                  <a:pt x="14727" y="8369"/>
                  <a:pt x="14740" y="8430"/>
                  <a:pt x="14833" y="8458"/>
                </a:cubicBezTo>
                <a:cubicBezTo>
                  <a:pt x="14895" y="8477"/>
                  <a:pt x="14876" y="8477"/>
                  <a:pt x="14932" y="8458"/>
                </a:cubicBezTo>
                <a:cubicBezTo>
                  <a:pt x="14957" y="8458"/>
                  <a:pt x="14965" y="8458"/>
                  <a:pt x="14957" y="8434"/>
                </a:cubicBezTo>
              </a:path>
              <a:path w="4912" h="2457">
                <a:moveTo>
                  <a:pt x="14734" y="8012"/>
                </a:moveTo>
                <a:cubicBezTo>
                  <a:pt x="14655" y="8067"/>
                  <a:pt x="14503" y="8157"/>
                  <a:pt x="14436" y="8235"/>
                </a:cubicBezTo>
                <a:cubicBezTo>
                  <a:pt x="14384" y="8296"/>
                  <a:pt x="14326" y="8326"/>
                  <a:pt x="14263" y="8384"/>
                </a:cubicBezTo>
                <a:cubicBezTo>
                  <a:pt x="14233" y="8414"/>
                  <a:pt x="14219" y="8425"/>
                  <a:pt x="14188" y="8434"/>
                </a:cubicBezTo>
              </a:path>
              <a:path w="4912" h="2457">
                <a:moveTo>
                  <a:pt x="12576" y="8682"/>
                </a:moveTo>
                <a:cubicBezTo>
                  <a:pt x="13147" y="8682"/>
                  <a:pt x="13881" y="8682"/>
                  <a:pt x="14362" y="8682"/>
                </a:cubicBezTo>
              </a:path>
              <a:path w="4912" h="2457">
                <a:moveTo>
                  <a:pt x="13221" y="9203"/>
                </a:moveTo>
                <a:cubicBezTo>
                  <a:pt x="13221" y="9236"/>
                  <a:pt x="13221" y="9269"/>
                  <a:pt x="13221" y="9302"/>
                </a:cubicBezTo>
                <a:cubicBezTo>
                  <a:pt x="13221" y="9347"/>
                  <a:pt x="13219" y="9278"/>
                  <a:pt x="13196" y="9252"/>
                </a:cubicBezTo>
                <a:cubicBezTo>
                  <a:pt x="13165" y="9218"/>
                  <a:pt x="13133" y="9199"/>
                  <a:pt x="13097" y="9178"/>
                </a:cubicBezTo>
                <a:cubicBezTo>
                  <a:pt x="13022" y="9135"/>
                  <a:pt x="12996" y="9167"/>
                  <a:pt x="12923" y="9203"/>
                </a:cubicBezTo>
                <a:cubicBezTo>
                  <a:pt x="12845" y="9242"/>
                  <a:pt x="12799" y="9277"/>
                  <a:pt x="12750" y="9351"/>
                </a:cubicBezTo>
                <a:cubicBezTo>
                  <a:pt x="12707" y="9416"/>
                  <a:pt x="12687" y="9503"/>
                  <a:pt x="12675" y="9575"/>
                </a:cubicBezTo>
                <a:cubicBezTo>
                  <a:pt x="12667" y="9625"/>
                  <a:pt x="12712" y="9715"/>
                  <a:pt x="12750" y="9748"/>
                </a:cubicBezTo>
                <a:cubicBezTo>
                  <a:pt x="12825" y="9813"/>
                  <a:pt x="12901" y="9819"/>
                  <a:pt x="12998" y="9823"/>
                </a:cubicBezTo>
                <a:cubicBezTo>
                  <a:pt x="13068" y="9826"/>
                  <a:pt x="13119" y="9790"/>
                  <a:pt x="13171" y="9748"/>
                </a:cubicBezTo>
              </a:path>
              <a:path w="4912" h="2457">
                <a:moveTo>
                  <a:pt x="13395" y="9327"/>
                </a:moveTo>
                <a:cubicBezTo>
                  <a:pt x="13377" y="9426"/>
                  <a:pt x="13370" y="9501"/>
                  <a:pt x="13370" y="9599"/>
                </a:cubicBezTo>
                <a:cubicBezTo>
                  <a:pt x="13370" y="9665"/>
                  <a:pt x="13373" y="9677"/>
                  <a:pt x="13419" y="9723"/>
                </a:cubicBezTo>
                <a:cubicBezTo>
                  <a:pt x="13477" y="9781"/>
                  <a:pt x="13510" y="9790"/>
                  <a:pt x="13593" y="9748"/>
                </a:cubicBezTo>
                <a:cubicBezTo>
                  <a:pt x="13646" y="9721"/>
                  <a:pt x="13686" y="9674"/>
                  <a:pt x="13717" y="9624"/>
                </a:cubicBezTo>
                <a:cubicBezTo>
                  <a:pt x="13756" y="9560"/>
                  <a:pt x="13748" y="9508"/>
                  <a:pt x="13717" y="9451"/>
                </a:cubicBezTo>
                <a:cubicBezTo>
                  <a:pt x="13680" y="9381"/>
                  <a:pt x="13654" y="9301"/>
                  <a:pt x="13568" y="9277"/>
                </a:cubicBezTo>
                <a:cubicBezTo>
                  <a:pt x="13501" y="9258"/>
                  <a:pt x="13424" y="9290"/>
                  <a:pt x="13370" y="9327"/>
                </a:cubicBezTo>
                <a:cubicBezTo>
                  <a:pt x="13348" y="9342"/>
                  <a:pt x="13281" y="9395"/>
                  <a:pt x="13295" y="9426"/>
                </a:cubicBezTo>
                <a:cubicBezTo>
                  <a:pt x="13305" y="9449"/>
                  <a:pt x="13350" y="9461"/>
                  <a:pt x="13370" y="9475"/>
                </a:cubicBezTo>
              </a:path>
              <a:path w="4912" h="2457">
                <a:moveTo>
                  <a:pt x="14039" y="9252"/>
                </a:moveTo>
                <a:cubicBezTo>
                  <a:pt x="13988" y="9263"/>
                  <a:pt x="13939" y="9279"/>
                  <a:pt x="13891" y="9302"/>
                </a:cubicBezTo>
                <a:cubicBezTo>
                  <a:pt x="13867" y="9313"/>
                  <a:pt x="13772" y="9357"/>
                  <a:pt x="13791" y="9401"/>
                </a:cubicBezTo>
                <a:cubicBezTo>
                  <a:pt x="13812" y="9448"/>
                  <a:pt x="13851" y="9486"/>
                  <a:pt x="13891" y="9525"/>
                </a:cubicBezTo>
                <a:cubicBezTo>
                  <a:pt x="13937" y="9571"/>
                  <a:pt x="14037" y="9655"/>
                  <a:pt x="14064" y="9723"/>
                </a:cubicBezTo>
                <a:cubicBezTo>
                  <a:pt x="14089" y="9784"/>
                  <a:pt x="14009" y="9820"/>
                  <a:pt x="13965" y="9823"/>
                </a:cubicBezTo>
                <a:cubicBezTo>
                  <a:pt x="13889" y="9828"/>
                  <a:pt x="13837" y="9814"/>
                  <a:pt x="13767" y="9798"/>
                </a:cubicBezTo>
                <a:cubicBezTo>
                  <a:pt x="13703" y="9783"/>
                  <a:pt x="13759" y="9745"/>
                  <a:pt x="13791" y="9723"/>
                </a:cubicBezTo>
              </a:path>
              <a:path w="4912" h="2457">
                <a:moveTo>
                  <a:pt x="14263" y="9401"/>
                </a:moveTo>
                <a:cubicBezTo>
                  <a:pt x="14296" y="9516"/>
                  <a:pt x="14325" y="9556"/>
                  <a:pt x="14387" y="9649"/>
                </a:cubicBezTo>
                <a:cubicBezTo>
                  <a:pt x="14432" y="9717"/>
                  <a:pt x="14466" y="9782"/>
                  <a:pt x="14536" y="9823"/>
                </a:cubicBezTo>
                <a:cubicBezTo>
                  <a:pt x="14595" y="9858"/>
                  <a:pt x="14615" y="9872"/>
                  <a:pt x="14684" y="9872"/>
                </a:cubicBezTo>
                <a:cubicBezTo>
                  <a:pt x="14724" y="9872"/>
                  <a:pt x="14743" y="9861"/>
                  <a:pt x="14759" y="9823"/>
                </a:cubicBezTo>
              </a:path>
              <a:path w="4912" h="2457">
                <a:moveTo>
                  <a:pt x="14585" y="9401"/>
                </a:moveTo>
                <a:cubicBezTo>
                  <a:pt x="14505" y="9504"/>
                  <a:pt x="14443" y="9623"/>
                  <a:pt x="14362" y="9723"/>
                </a:cubicBezTo>
                <a:cubicBezTo>
                  <a:pt x="14301" y="9797"/>
                  <a:pt x="14237" y="9820"/>
                  <a:pt x="14163" y="9872"/>
                </a:cubicBezTo>
                <a:cubicBezTo>
                  <a:pt x="14125" y="9899"/>
                  <a:pt x="14134" y="9938"/>
                  <a:pt x="14114" y="9897"/>
                </a:cubicBezTo>
              </a:path>
              <a:path w="4912" h="2457">
                <a:moveTo>
                  <a:pt x="15453" y="8508"/>
                </a:moveTo>
                <a:cubicBezTo>
                  <a:pt x="15606" y="8508"/>
                  <a:pt x="15755" y="8502"/>
                  <a:pt x="15900" y="8533"/>
                </a:cubicBezTo>
                <a:cubicBezTo>
                  <a:pt x="15933" y="8533"/>
                  <a:pt x="15949" y="8533"/>
                  <a:pt x="15974" y="8533"/>
                </a:cubicBezTo>
              </a:path>
              <a:path w="4912" h="2457">
                <a:moveTo>
                  <a:pt x="15503" y="8756"/>
                </a:moveTo>
                <a:cubicBezTo>
                  <a:pt x="15638" y="8756"/>
                  <a:pt x="15768" y="8763"/>
                  <a:pt x="15900" y="8731"/>
                </a:cubicBezTo>
                <a:cubicBezTo>
                  <a:pt x="15925" y="8723"/>
                  <a:pt x="15949" y="8714"/>
                  <a:pt x="15974" y="8706"/>
                </a:cubicBezTo>
              </a:path>
              <a:path w="4912" h="2457">
                <a:moveTo>
                  <a:pt x="16421" y="8012"/>
                </a:moveTo>
                <a:cubicBezTo>
                  <a:pt x="16452" y="7862"/>
                  <a:pt x="16442" y="7836"/>
                  <a:pt x="16570" y="7764"/>
                </a:cubicBezTo>
                <a:cubicBezTo>
                  <a:pt x="16628" y="7731"/>
                  <a:pt x="16704" y="7697"/>
                  <a:pt x="16768" y="7689"/>
                </a:cubicBezTo>
                <a:cubicBezTo>
                  <a:pt x="16848" y="7679"/>
                  <a:pt x="16945" y="7682"/>
                  <a:pt x="17016" y="7714"/>
                </a:cubicBezTo>
                <a:cubicBezTo>
                  <a:pt x="17064" y="7735"/>
                  <a:pt x="17063" y="7733"/>
                  <a:pt x="17066" y="7789"/>
                </a:cubicBezTo>
                <a:cubicBezTo>
                  <a:pt x="17069" y="7864"/>
                  <a:pt x="17065" y="7902"/>
                  <a:pt x="17041" y="7962"/>
                </a:cubicBezTo>
                <a:cubicBezTo>
                  <a:pt x="17003" y="8057"/>
                  <a:pt x="16973" y="8082"/>
                  <a:pt x="16917" y="8161"/>
                </a:cubicBezTo>
                <a:cubicBezTo>
                  <a:pt x="16880" y="8213"/>
                  <a:pt x="16850" y="8281"/>
                  <a:pt x="16818" y="8334"/>
                </a:cubicBezTo>
                <a:cubicBezTo>
                  <a:pt x="16787" y="8386"/>
                  <a:pt x="16758" y="8437"/>
                  <a:pt x="16718" y="8483"/>
                </a:cubicBezTo>
                <a:cubicBezTo>
                  <a:pt x="16686" y="8519"/>
                  <a:pt x="16673" y="8550"/>
                  <a:pt x="16644" y="8582"/>
                </a:cubicBezTo>
                <a:cubicBezTo>
                  <a:pt x="16609" y="8620"/>
                  <a:pt x="16625" y="8634"/>
                  <a:pt x="16619" y="8682"/>
                </a:cubicBezTo>
                <a:cubicBezTo>
                  <a:pt x="16717" y="8682"/>
                  <a:pt x="16807" y="8690"/>
                  <a:pt x="16892" y="8706"/>
                </a:cubicBezTo>
                <a:cubicBezTo>
                  <a:pt x="17023" y="8731"/>
                  <a:pt x="17197" y="8705"/>
                  <a:pt x="17314" y="8682"/>
                </a:cubicBezTo>
                <a:cubicBezTo>
                  <a:pt x="17344" y="8676"/>
                  <a:pt x="17410" y="8682"/>
                  <a:pt x="17413" y="8657"/>
                </a:cubicBezTo>
                <a:cubicBezTo>
                  <a:pt x="17413" y="8632"/>
                  <a:pt x="17413" y="8624"/>
                  <a:pt x="17388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22960" y="4384800"/>
            <a:ext cx="1332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4784" y="12204"/>
                </a:moveTo>
                <a:cubicBezTo>
                  <a:pt x="14892" y="12204"/>
                  <a:pt x="15007" y="12222"/>
                  <a:pt x="15106" y="12179"/>
                </a:cubicBezTo>
              </a:path>
              <a:path w="373" h="249">
                <a:moveTo>
                  <a:pt x="14808" y="12402"/>
                </a:moveTo>
                <a:cubicBezTo>
                  <a:pt x="14878" y="12428"/>
                  <a:pt x="14931" y="12427"/>
                  <a:pt x="15007" y="12427"/>
                </a:cubicBezTo>
                <a:cubicBezTo>
                  <a:pt x="15074" y="12427"/>
                  <a:pt x="15108" y="12423"/>
                  <a:pt x="15156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4133880"/>
            <a:ext cx="293760" cy="314280"/>
          </a:xfrm>
          <a:custGeom>
            <a:avLst/>
            <a:gdLst/>
            <a:ahLst/>
            <a:rect l="l" t="t" r="r" b="b"/>
            <a:pathLst>
              <a:path w="820" h="869">
                <a:moveTo>
                  <a:pt x="15701" y="11609"/>
                </a:moveTo>
                <a:cubicBezTo>
                  <a:pt x="15774" y="11557"/>
                  <a:pt x="15838" y="11490"/>
                  <a:pt x="15925" y="11485"/>
                </a:cubicBezTo>
                <a:cubicBezTo>
                  <a:pt x="15997" y="11481"/>
                  <a:pt x="16065" y="11478"/>
                  <a:pt x="16123" y="11509"/>
                </a:cubicBezTo>
                <a:cubicBezTo>
                  <a:pt x="16148" y="11522"/>
                  <a:pt x="16211" y="11545"/>
                  <a:pt x="16222" y="11584"/>
                </a:cubicBezTo>
                <a:cubicBezTo>
                  <a:pt x="16239" y="11644"/>
                  <a:pt x="16206" y="11711"/>
                  <a:pt x="16197" y="11757"/>
                </a:cubicBezTo>
                <a:cubicBezTo>
                  <a:pt x="16184" y="11819"/>
                  <a:pt x="16170" y="11854"/>
                  <a:pt x="16123" y="11906"/>
                </a:cubicBezTo>
                <a:cubicBezTo>
                  <a:pt x="16084" y="11949"/>
                  <a:pt x="16103" y="11990"/>
                  <a:pt x="16049" y="12030"/>
                </a:cubicBezTo>
                <a:cubicBezTo>
                  <a:pt x="16002" y="12065"/>
                  <a:pt x="15949" y="12122"/>
                  <a:pt x="15900" y="12154"/>
                </a:cubicBezTo>
                <a:cubicBezTo>
                  <a:pt x="15861" y="12179"/>
                  <a:pt x="15851" y="12193"/>
                  <a:pt x="15825" y="12229"/>
                </a:cubicBezTo>
                <a:cubicBezTo>
                  <a:pt x="15807" y="12253"/>
                  <a:pt x="15808" y="12230"/>
                  <a:pt x="15801" y="12278"/>
                </a:cubicBezTo>
                <a:cubicBezTo>
                  <a:pt x="15848" y="12283"/>
                  <a:pt x="15881" y="12296"/>
                  <a:pt x="15925" y="12303"/>
                </a:cubicBezTo>
                <a:cubicBezTo>
                  <a:pt x="16029" y="12321"/>
                  <a:pt x="16143" y="12313"/>
                  <a:pt x="16247" y="12328"/>
                </a:cubicBezTo>
                <a:cubicBezTo>
                  <a:pt x="16322" y="12339"/>
                  <a:pt x="16399" y="12342"/>
                  <a:pt x="16470" y="12353"/>
                </a:cubicBezTo>
                <a:cubicBezTo>
                  <a:pt x="16547" y="12365"/>
                  <a:pt x="16498" y="12337"/>
                  <a:pt x="16495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5018040"/>
            <a:ext cx="1687680" cy="376200"/>
          </a:xfrm>
          <a:custGeom>
            <a:avLst/>
            <a:gdLst/>
            <a:ahLst/>
            <a:rect l="l" t="t" r="r" b="b"/>
            <a:pathLst>
              <a:path w="4689" h="1043">
                <a:moveTo>
                  <a:pt x="12353" y="14015"/>
                </a:moveTo>
                <a:cubicBezTo>
                  <a:pt x="12386" y="14047"/>
                  <a:pt x="12397" y="14079"/>
                  <a:pt x="12427" y="14089"/>
                </a:cubicBezTo>
                <a:cubicBezTo>
                  <a:pt x="12416" y="14045"/>
                  <a:pt x="12382" y="14003"/>
                  <a:pt x="12353" y="13990"/>
                </a:cubicBezTo>
                <a:cubicBezTo>
                  <a:pt x="12296" y="13964"/>
                  <a:pt x="12267" y="13965"/>
                  <a:pt x="12204" y="13965"/>
                </a:cubicBezTo>
                <a:cubicBezTo>
                  <a:pt x="12144" y="13965"/>
                  <a:pt x="12075" y="13950"/>
                  <a:pt x="12030" y="13990"/>
                </a:cubicBezTo>
                <a:cubicBezTo>
                  <a:pt x="12005" y="14012"/>
                  <a:pt x="11960" y="14049"/>
                  <a:pt x="11981" y="14089"/>
                </a:cubicBezTo>
                <a:cubicBezTo>
                  <a:pt x="11999" y="14123"/>
                  <a:pt x="12034" y="14153"/>
                  <a:pt x="12055" y="14163"/>
                </a:cubicBezTo>
                <a:cubicBezTo>
                  <a:pt x="12113" y="14190"/>
                  <a:pt x="12143" y="14243"/>
                  <a:pt x="12204" y="14263"/>
                </a:cubicBezTo>
                <a:cubicBezTo>
                  <a:pt x="12261" y="14282"/>
                  <a:pt x="12349" y="14347"/>
                  <a:pt x="12402" y="14387"/>
                </a:cubicBezTo>
                <a:cubicBezTo>
                  <a:pt x="12459" y="14430"/>
                  <a:pt x="12452" y="14487"/>
                  <a:pt x="12477" y="14536"/>
                </a:cubicBezTo>
                <a:cubicBezTo>
                  <a:pt x="12494" y="14569"/>
                  <a:pt x="12525" y="14614"/>
                  <a:pt x="12502" y="14660"/>
                </a:cubicBezTo>
                <a:cubicBezTo>
                  <a:pt x="12474" y="14714"/>
                  <a:pt x="12409" y="14734"/>
                  <a:pt x="12353" y="14734"/>
                </a:cubicBezTo>
                <a:cubicBezTo>
                  <a:pt x="12290" y="14734"/>
                  <a:pt x="12256" y="14725"/>
                  <a:pt x="12204" y="14709"/>
                </a:cubicBezTo>
                <a:cubicBezTo>
                  <a:pt x="12189" y="14704"/>
                  <a:pt x="12142" y="14686"/>
                  <a:pt x="12129" y="14660"/>
                </a:cubicBezTo>
                <a:cubicBezTo>
                  <a:pt x="12113" y="14628"/>
                  <a:pt x="12105" y="14633"/>
                  <a:pt x="12105" y="14585"/>
                </a:cubicBezTo>
                <a:cubicBezTo>
                  <a:pt x="12105" y="14577"/>
                  <a:pt x="12105" y="14568"/>
                  <a:pt x="12105" y="14560"/>
                </a:cubicBezTo>
              </a:path>
              <a:path w="4689" h="1043">
                <a:moveTo>
                  <a:pt x="12601" y="14436"/>
                </a:moveTo>
                <a:cubicBezTo>
                  <a:pt x="12682" y="14436"/>
                  <a:pt x="12731" y="14432"/>
                  <a:pt x="12799" y="14412"/>
                </a:cubicBezTo>
                <a:cubicBezTo>
                  <a:pt x="12851" y="14397"/>
                  <a:pt x="12849" y="14376"/>
                  <a:pt x="12874" y="14337"/>
                </a:cubicBezTo>
                <a:cubicBezTo>
                  <a:pt x="12899" y="14298"/>
                  <a:pt x="12898" y="14287"/>
                  <a:pt x="12898" y="14238"/>
                </a:cubicBezTo>
                <a:cubicBezTo>
                  <a:pt x="12898" y="14187"/>
                  <a:pt x="12895" y="14144"/>
                  <a:pt x="12849" y="14114"/>
                </a:cubicBezTo>
                <a:cubicBezTo>
                  <a:pt x="12821" y="14096"/>
                  <a:pt x="12804" y="14074"/>
                  <a:pt x="12774" y="14089"/>
                </a:cubicBezTo>
                <a:cubicBezTo>
                  <a:pt x="12748" y="14103"/>
                  <a:pt x="12689" y="14131"/>
                  <a:pt x="12675" y="14163"/>
                </a:cubicBezTo>
                <a:cubicBezTo>
                  <a:pt x="12660" y="14197"/>
                  <a:pt x="12633" y="14254"/>
                  <a:pt x="12626" y="14288"/>
                </a:cubicBezTo>
                <a:cubicBezTo>
                  <a:pt x="12612" y="14361"/>
                  <a:pt x="12639" y="14420"/>
                  <a:pt x="12650" y="14486"/>
                </a:cubicBezTo>
                <a:cubicBezTo>
                  <a:pt x="12660" y="14546"/>
                  <a:pt x="12686" y="14582"/>
                  <a:pt x="12725" y="14635"/>
                </a:cubicBezTo>
                <a:cubicBezTo>
                  <a:pt x="12753" y="14672"/>
                  <a:pt x="12811" y="14703"/>
                  <a:pt x="12849" y="14709"/>
                </a:cubicBezTo>
                <a:cubicBezTo>
                  <a:pt x="12874" y="14709"/>
                  <a:pt x="12898" y="14709"/>
                  <a:pt x="12923" y="14709"/>
                </a:cubicBezTo>
              </a:path>
              <a:path w="4689" h="1043">
                <a:moveTo>
                  <a:pt x="13271" y="14114"/>
                </a:moveTo>
                <a:cubicBezTo>
                  <a:pt x="13287" y="14114"/>
                  <a:pt x="13304" y="14114"/>
                  <a:pt x="13320" y="14114"/>
                </a:cubicBezTo>
                <a:cubicBezTo>
                  <a:pt x="13282" y="14101"/>
                  <a:pt x="13300" y="14089"/>
                  <a:pt x="13246" y="14089"/>
                </a:cubicBezTo>
                <a:cubicBezTo>
                  <a:pt x="13182" y="14089"/>
                  <a:pt x="13203" y="14118"/>
                  <a:pt x="13171" y="14139"/>
                </a:cubicBezTo>
                <a:cubicBezTo>
                  <a:pt x="13143" y="14158"/>
                  <a:pt x="13092" y="14171"/>
                  <a:pt x="13072" y="14213"/>
                </a:cubicBezTo>
                <a:cubicBezTo>
                  <a:pt x="13041" y="14279"/>
                  <a:pt x="13022" y="14316"/>
                  <a:pt x="13022" y="14387"/>
                </a:cubicBezTo>
                <a:cubicBezTo>
                  <a:pt x="13022" y="14444"/>
                  <a:pt x="13060" y="14474"/>
                  <a:pt x="13097" y="14511"/>
                </a:cubicBezTo>
                <a:cubicBezTo>
                  <a:pt x="13119" y="14533"/>
                  <a:pt x="13192" y="14602"/>
                  <a:pt x="13221" y="14610"/>
                </a:cubicBezTo>
                <a:cubicBezTo>
                  <a:pt x="13280" y="14627"/>
                  <a:pt x="13355" y="14635"/>
                  <a:pt x="13419" y="14635"/>
                </a:cubicBezTo>
                <a:cubicBezTo>
                  <a:pt x="13476" y="14635"/>
                  <a:pt x="13494" y="14623"/>
                  <a:pt x="13519" y="14610"/>
                </a:cubicBezTo>
                <a:cubicBezTo>
                  <a:pt x="13543" y="14610"/>
                  <a:pt x="13551" y="14610"/>
                  <a:pt x="13543" y="14585"/>
                </a:cubicBezTo>
              </a:path>
              <a:path w="4689" h="1043">
                <a:moveTo>
                  <a:pt x="14114" y="14238"/>
                </a:moveTo>
                <a:cubicBezTo>
                  <a:pt x="14123" y="14299"/>
                  <a:pt x="14135" y="14312"/>
                  <a:pt x="14163" y="14362"/>
                </a:cubicBezTo>
                <a:cubicBezTo>
                  <a:pt x="14192" y="14414"/>
                  <a:pt x="14223" y="14466"/>
                  <a:pt x="14263" y="14511"/>
                </a:cubicBezTo>
                <a:cubicBezTo>
                  <a:pt x="14310" y="14563"/>
                  <a:pt x="14344" y="14609"/>
                  <a:pt x="14387" y="14660"/>
                </a:cubicBezTo>
                <a:cubicBezTo>
                  <a:pt x="14436" y="14718"/>
                  <a:pt x="14495" y="14769"/>
                  <a:pt x="14560" y="14808"/>
                </a:cubicBezTo>
                <a:cubicBezTo>
                  <a:pt x="14600" y="14832"/>
                  <a:pt x="14645" y="14890"/>
                  <a:pt x="14684" y="14908"/>
                </a:cubicBezTo>
                <a:cubicBezTo>
                  <a:pt x="14717" y="14908"/>
                  <a:pt x="14734" y="14908"/>
                  <a:pt x="14759" y="14908"/>
                </a:cubicBezTo>
              </a:path>
              <a:path w="4689" h="1043">
                <a:moveTo>
                  <a:pt x="14486" y="14238"/>
                </a:moveTo>
                <a:cubicBezTo>
                  <a:pt x="14438" y="14301"/>
                  <a:pt x="14378" y="14369"/>
                  <a:pt x="14337" y="14436"/>
                </a:cubicBezTo>
                <a:cubicBezTo>
                  <a:pt x="14302" y="14494"/>
                  <a:pt x="14278" y="14556"/>
                  <a:pt x="14238" y="14610"/>
                </a:cubicBezTo>
                <a:cubicBezTo>
                  <a:pt x="14204" y="14655"/>
                  <a:pt x="14154" y="14690"/>
                  <a:pt x="14114" y="14734"/>
                </a:cubicBezTo>
                <a:cubicBezTo>
                  <a:pt x="14086" y="14765"/>
                  <a:pt x="14051" y="14796"/>
                  <a:pt x="14039" y="14833"/>
                </a:cubicBezTo>
                <a:cubicBezTo>
                  <a:pt x="14018" y="14895"/>
                  <a:pt x="14055" y="14884"/>
                  <a:pt x="14089" y="14858"/>
                </a:cubicBezTo>
              </a:path>
              <a:path w="4689" h="1043">
                <a:moveTo>
                  <a:pt x="14932" y="14337"/>
                </a:moveTo>
                <a:cubicBezTo>
                  <a:pt x="14996" y="14323"/>
                  <a:pt x="15075" y="14300"/>
                  <a:pt x="15131" y="14288"/>
                </a:cubicBezTo>
                <a:cubicBezTo>
                  <a:pt x="15159" y="14282"/>
                  <a:pt x="15200" y="14288"/>
                  <a:pt x="15230" y="14288"/>
                </a:cubicBezTo>
              </a:path>
              <a:path w="4689" h="1043">
                <a:moveTo>
                  <a:pt x="14957" y="14536"/>
                </a:moveTo>
                <a:cubicBezTo>
                  <a:pt x="15078" y="14561"/>
                  <a:pt x="15114" y="14552"/>
                  <a:pt x="15230" y="14536"/>
                </a:cubicBezTo>
                <a:cubicBezTo>
                  <a:pt x="15275" y="14530"/>
                  <a:pt x="15310" y="14520"/>
                  <a:pt x="15354" y="14511"/>
                </a:cubicBezTo>
              </a:path>
              <a:path w="4689" h="1043">
                <a:moveTo>
                  <a:pt x="15850" y="13940"/>
                </a:moveTo>
                <a:cubicBezTo>
                  <a:pt x="15939" y="13940"/>
                  <a:pt x="16023" y="13954"/>
                  <a:pt x="16098" y="13965"/>
                </a:cubicBezTo>
                <a:cubicBezTo>
                  <a:pt x="16145" y="13972"/>
                  <a:pt x="16184" y="13967"/>
                  <a:pt x="16222" y="13990"/>
                </a:cubicBezTo>
                <a:cubicBezTo>
                  <a:pt x="16259" y="14013"/>
                  <a:pt x="16278" y="14023"/>
                  <a:pt x="16297" y="14064"/>
                </a:cubicBezTo>
                <a:cubicBezTo>
                  <a:pt x="16315" y="14102"/>
                  <a:pt x="16330" y="14167"/>
                  <a:pt x="16321" y="14213"/>
                </a:cubicBezTo>
                <a:cubicBezTo>
                  <a:pt x="16313" y="14252"/>
                  <a:pt x="16299" y="14269"/>
                  <a:pt x="16297" y="14312"/>
                </a:cubicBezTo>
                <a:cubicBezTo>
                  <a:pt x="16294" y="14368"/>
                  <a:pt x="16273" y="14408"/>
                  <a:pt x="16247" y="14461"/>
                </a:cubicBezTo>
                <a:cubicBezTo>
                  <a:pt x="16229" y="14496"/>
                  <a:pt x="16226" y="14528"/>
                  <a:pt x="16197" y="14560"/>
                </a:cubicBezTo>
                <a:cubicBezTo>
                  <a:pt x="16171" y="14589"/>
                  <a:pt x="16145" y="14626"/>
                  <a:pt x="16123" y="14660"/>
                </a:cubicBezTo>
                <a:cubicBezTo>
                  <a:pt x="16101" y="14693"/>
                  <a:pt x="16077" y="14747"/>
                  <a:pt x="16049" y="14784"/>
                </a:cubicBezTo>
                <a:cubicBezTo>
                  <a:pt x="16024" y="14817"/>
                  <a:pt x="16004" y="14828"/>
                  <a:pt x="15974" y="14858"/>
                </a:cubicBezTo>
                <a:cubicBezTo>
                  <a:pt x="15954" y="14878"/>
                  <a:pt x="15956" y="14901"/>
                  <a:pt x="15925" y="14932"/>
                </a:cubicBezTo>
                <a:cubicBezTo>
                  <a:pt x="15948" y="14956"/>
                  <a:pt x="15934" y="14970"/>
                  <a:pt x="15974" y="14982"/>
                </a:cubicBezTo>
                <a:cubicBezTo>
                  <a:pt x="16100" y="15018"/>
                  <a:pt x="16276" y="14972"/>
                  <a:pt x="16396" y="14957"/>
                </a:cubicBezTo>
                <a:cubicBezTo>
                  <a:pt x="16488" y="14945"/>
                  <a:pt x="16586" y="14967"/>
                  <a:pt x="16644" y="14932"/>
                </a:cubicBezTo>
                <a:cubicBezTo>
                  <a:pt x="16669" y="14932"/>
                  <a:pt x="16677" y="14932"/>
                  <a:pt x="16644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37080" y="5545080"/>
            <a:ext cx="1508040" cy="662040"/>
          </a:xfrm>
          <a:custGeom>
            <a:avLst/>
            <a:gdLst/>
            <a:ahLst/>
            <a:rect l="l" t="t" r="r" b="b"/>
            <a:pathLst>
              <a:path w="4193" h="1836">
                <a:moveTo>
                  <a:pt x="13022" y="15404"/>
                </a:moveTo>
                <a:cubicBezTo>
                  <a:pt x="13022" y="15462"/>
                  <a:pt x="13022" y="15519"/>
                  <a:pt x="13022" y="15577"/>
                </a:cubicBezTo>
                <a:cubicBezTo>
                  <a:pt x="12999" y="15554"/>
                  <a:pt x="13015" y="15581"/>
                  <a:pt x="12998" y="15553"/>
                </a:cubicBezTo>
                <a:cubicBezTo>
                  <a:pt x="12971" y="15509"/>
                  <a:pt x="12983" y="15507"/>
                  <a:pt x="12923" y="15503"/>
                </a:cubicBezTo>
                <a:cubicBezTo>
                  <a:pt x="12868" y="15500"/>
                  <a:pt x="12841" y="15519"/>
                  <a:pt x="12799" y="15528"/>
                </a:cubicBezTo>
                <a:cubicBezTo>
                  <a:pt x="12708" y="15546"/>
                  <a:pt x="12705" y="15593"/>
                  <a:pt x="12650" y="15677"/>
                </a:cubicBezTo>
                <a:cubicBezTo>
                  <a:pt x="12607" y="15743"/>
                  <a:pt x="12601" y="15770"/>
                  <a:pt x="12601" y="15850"/>
                </a:cubicBezTo>
                <a:cubicBezTo>
                  <a:pt x="12601" y="15935"/>
                  <a:pt x="12613" y="15995"/>
                  <a:pt x="12626" y="16073"/>
                </a:cubicBezTo>
                <a:cubicBezTo>
                  <a:pt x="12642" y="16167"/>
                  <a:pt x="12672" y="16194"/>
                  <a:pt x="12725" y="16272"/>
                </a:cubicBezTo>
                <a:cubicBezTo>
                  <a:pt x="12770" y="16338"/>
                  <a:pt x="12786" y="16349"/>
                  <a:pt x="12849" y="16396"/>
                </a:cubicBezTo>
                <a:cubicBezTo>
                  <a:pt x="12902" y="16436"/>
                  <a:pt x="12933" y="16466"/>
                  <a:pt x="12998" y="16470"/>
                </a:cubicBezTo>
                <a:cubicBezTo>
                  <a:pt x="13056" y="16473"/>
                  <a:pt x="13098" y="16470"/>
                  <a:pt x="13146" y="16446"/>
                </a:cubicBezTo>
                <a:cubicBezTo>
                  <a:pt x="13185" y="16427"/>
                  <a:pt x="13226" y="16335"/>
                  <a:pt x="13246" y="16297"/>
                </a:cubicBezTo>
                <a:cubicBezTo>
                  <a:pt x="13275" y="16242"/>
                  <a:pt x="13277" y="16196"/>
                  <a:pt x="13320" y="16148"/>
                </a:cubicBezTo>
                <a:cubicBezTo>
                  <a:pt x="13348" y="16117"/>
                  <a:pt x="13363" y="16064"/>
                  <a:pt x="13370" y="16024"/>
                </a:cubicBezTo>
                <a:cubicBezTo>
                  <a:pt x="13377" y="15985"/>
                  <a:pt x="13377" y="15939"/>
                  <a:pt x="13370" y="15999"/>
                </a:cubicBezTo>
                <a:cubicBezTo>
                  <a:pt x="13358" y="16096"/>
                  <a:pt x="13365" y="16209"/>
                  <a:pt x="13395" y="16297"/>
                </a:cubicBezTo>
                <a:cubicBezTo>
                  <a:pt x="13423" y="16379"/>
                  <a:pt x="13446" y="16402"/>
                  <a:pt x="13519" y="16446"/>
                </a:cubicBezTo>
                <a:cubicBezTo>
                  <a:pt x="13570" y="16476"/>
                  <a:pt x="13605" y="16508"/>
                  <a:pt x="13667" y="16495"/>
                </a:cubicBezTo>
                <a:cubicBezTo>
                  <a:pt x="13736" y="16481"/>
                  <a:pt x="13745" y="16451"/>
                  <a:pt x="13767" y="16396"/>
                </a:cubicBezTo>
                <a:cubicBezTo>
                  <a:pt x="13799" y="16316"/>
                  <a:pt x="13816" y="16291"/>
                  <a:pt x="13816" y="16197"/>
                </a:cubicBezTo>
                <a:cubicBezTo>
                  <a:pt x="13816" y="16128"/>
                  <a:pt x="13799" y="16012"/>
                  <a:pt x="13767" y="15949"/>
                </a:cubicBezTo>
                <a:cubicBezTo>
                  <a:pt x="13729" y="15873"/>
                  <a:pt x="13677" y="15810"/>
                  <a:pt x="13618" y="15751"/>
                </a:cubicBezTo>
                <a:cubicBezTo>
                  <a:pt x="13590" y="15723"/>
                  <a:pt x="13527" y="15673"/>
                  <a:pt x="13494" y="15677"/>
                </a:cubicBezTo>
                <a:cubicBezTo>
                  <a:pt x="13457" y="15682"/>
                  <a:pt x="13423" y="15701"/>
                  <a:pt x="13395" y="15726"/>
                </a:cubicBezTo>
                <a:cubicBezTo>
                  <a:pt x="13340" y="15776"/>
                  <a:pt x="13345" y="15802"/>
                  <a:pt x="13345" y="15875"/>
                </a:cubicBezTo>
                <a:cubicBezTo>
                  <a:pt x="13345" y="15938"/>
                  <a:pt x="13348" y="15992"/>
                  <a:pt x="13370" y="16049"/>
                </a:cubicBezTo>
                <a:cubicBezTo>
                  <a:pt x="13406" y="16143"/>
                  <a:pt x="13428" y="16162"/>
                  <a:pt x="13519" y="16197"/>
                </a:cubicBezTo>
              </a:path>
              <a:path w="4193" h="1836">
                <a:moveTo>
                  <a:pt x="14163" y="15751"/>
                </a:moveTo>
                <a:cubicBezTo>
                  <a:pt x="14113" y="15701"/>
                  <a:pt x="14105" y="15677"/>
                  <a:pt x="14039" y="15677"/>
                </a:cubicBezTo>
                <a:cubicBezTo>
                  <a:pt x="13990" y="15677"/>
                  <a:pt x="13952" y="15667"/>
                  <a:pt x="13915" y="15701"/>
                </a:cubicBezTo>
                <a:cubicBezTo>
                  <a:pt x="13882" y="15731"/>
                  <a:pt x="13891" y="15759"/>
                  <a:pt x="13891" y="15801"/>
                </a:cubicBezTo>
                <a:cubicBezTo>
                  <a:pt x="13891" y="15838"/>
                  <a:pt x="13939" y="15896"/>
                  <a:pt x="13965" y="15925"/>
                </a:cubicBezTo>
                <a:cubicBezTo>
                  <a:pt x="14001" y="15964"/>
                  <a:pt x="14050" y="15985"/>
                  <a:pt x="14089" y="16024"/>
                </a:cubicBezTo>
                <a:cubicBezTo>
                  <a:pt x="14122" y="16057"/>
                  <a:pt x="14155" y="16090"/>
                  <a:pt x="14188" y="16123"/>
                </a:cubicBezTo>
                <a:cubicBezTo>
                  <a:pt x="14224" y="16159"/>
                  <a:pt x="14254" y="16203"/>
                  <a:pt x="14263" y="16247"/>
                </a:cubicBezTo>
                <a:cubicBezTo>
                  <a:pt x="14277" y="16317"/>
                  <a:pt x="14253" y="16382"/>
                  <a:pt x="14238" y="16446"/>
                </a:cubicBezTo>
                <a:cubicBezTo>
                  <a:pt x="14223" y="16509"/>
                  <a:pt x="14139" y="16477"/>
                  <a:pt x="14089" y="16470"/>
                </a:cubicBezTo>
                <a:cubicBezTo>
                  <a:pt x="14019" y="16460"/>
                  <a:pt x="14021" y="16457"/>
                  <a:pt x="13965" y="16421"/>
                </a:cubicBezTo>
                <a:cubicBezTo>
                  <a:pt x="13905" y="16383"/>
                  <a:pt x="13927" y="16396"/>
                  <a:pt x="13891" y="16346"/>
                </a:cubicBezTo>
              </a:path>
              <a:path w="4193" h="1836">
                <a:moveTo>
                  <a:pt x="14387" y="15850"/>
                </a:moveTo>
                <a:cubicBezTo>
                  <a:pt x="14395" y="15925"/>
                  <a:pt x="14403" y="15962"/>
                  <a:pt x="14436" y="16024"/>
                </a:cubicBezTo>
                <a:cubicBezTo>
                  <a:pt x="14488" y="16122"/>
                  <a:pt x="14535" y="16214"/>
                  <a:pt x="14610" y="16297"/>
                </a:cubicBezTo>
                <a:cubicBezTo>
                  <a:pt x="14684" y="16378"/>
                  <a:pt x="14753" y="16444"/>
                  <a:pt x="14833" y="16520"/>
                </a:cubicBezTo>
                <a:cubicBezTo>
                  <a:pt x="14888" y="16572"/>
                  <a:pt x="14958" y="16621"/>
                  <a:pt x="15032" y="16644"/>
                </a:cubicBezTo>
                <a:cubicBezTo>
                  <a:pt x="15040" y="16644"/>
                  <a:pt x="15048" y="16644"/>
                  <a:pt x="15056" y="16644"/>
                </a:cubicBezTo>
              </a:path>
              <a:path w="4193" h="1836">
                <a:moveTo>
                  <a:pt x="14883" y="15652"/>
                </a:moveTo>
                <a:cubicBezTo>
                  <a:pt x="14809" y="15703"/>
                  <a:pt x="14783" y="15731"/>
                  <a:pt x="14734" y="15801"/>
                </a:cubicBezTo>
                <a:cubicBezTo>
                  <a:pt x="14688" y="15866"/>
                  <a:pt x="14621" y="15956"/>
                  <a:pt x="14585" y="16024"/>
                </a:cubicBezTo>
                <a:cubicBezTo>
                  <a:pt x="14540" y="16108"/>
                  <a:pt x="14500" y="16182"/>
                  <a:pt x="14461" y="16272"/>
                </a:cubicBezTo>
                <a:cubicBezTo>
                  <a:pt x="14424" y="16357"/>
                  <a:pt x="14390" y="16437"/>
                  <a:pt x="14362" y="16520"/>
                </a:cubicBezTo>
                <a:cubicBezTo>
                  <a:pt x="14346" y="16567"/>
                  <a:pt x="14309" y="16623"/>
                  <a:pt x="14362" y="16669"/>
                </a:cubicBezTo>
                <a:cubicBezTo>
                  <a:pt x="14387" y="16669"/>
                  <a:pt x="14395" y="16669"/>
                  <a:pt x="14412" y="16669"/>
                </a:cubicBezTo>
              </a:path>
              <a:path w="4193" h="1836">
                <a:moveTo>
                  <a:pt x="15056" y="15900"/>
                </a:moveTo>
                <a:cubicBezTo>
                  <a:pt x="15128" y="15882"/>
                  <a:pt x="15212" y="15895"/>
                  <a:pt x="15280" y="15875"/>
                </a:cubicBezTo>
                <a:cubicBezTo>
                  <a:pt x="15329" y="15850"/>
                  <a:pt x="15346" y="15841"/>
                  <a:pt x="15379" y="15825"/>
                </a:cubicBezTo>
              </a:path>
              <a:path w="4193" h="1836">
                <a:moveTo>
                  <a:pt x="15106" y="16049"/>
                </a:moveTo>
                <a:cubicBezTo>
                  <a:pt x="15199" y="16111"/>
                  <a:pt x="15307" y="16177"/>
                  <a:pt x="15429" y="16148"/>
                </a:cubicBezTo>
                <a:cubicBezTo>
                  <a:pt x="15445" y="16140"/>
                  <a:pt x="15462" y="16131"/>
                  <a:pt x="15478" y="16123"/>
                </a:cubicBezTo>
              </a:path>
              <a:path w="4193" h="1836">
                <a:moveTo>
                  <a:pt x="16073" y="15453"/>
                </a:moveTo>
                <a:cubicBezTo>
                  <a:pt x="16073" y="15582"/>
                  <a:pt x="16078" y="15703"/>
                  <a:pt x="16098" y="15825"/>
                </a:cubicBezTo>
                <a:cubicBezTo>
                  <a:pt x="16111" y="15900"/>
                  <a:pt x="16096" y="15951"/>
                  <a:pt x="16123" y="16024"/>
                </a:cubicBezTo>
              </a:path>
              <a:path w="4193" h="1836">
                <a:moveTo>
                  <a:pt x="15825" y="16197"/>
                </a:moveTo>
                <a:cubicBezTo>
                  <a:pt x="16014" y="16197"/>
                  <a:pt x="16223" y="16182"/>
                  <a:pt x="16396" y="16222"/>
                </a:cubicBezTo>
                <a:cubicBezTo>
                  <a:pt x="16404" y="16222"/>
                  <a:pt x="16413" y="16222"/>
                  <a:pt x="16421" y="16222"/>
                </a:cubicBezTo>
              </a:path>
              <a:path w="4193" h="1836">
                <a:moveTo>
                  <a:pt x="16049" y="16495"/>
                </a:moveTo>
                <a:cubicBezTo>
                  <a:pt x="16056" y="16517"/>
                  <a:pt x="16087" y="16540"/>
                  <a:pt x="16123" y="16520"/>
                </a:cubicBezTo>
                <a:cubicBezTo>
                  <a:pt x="16174" y="16491"/>
                  <a:pt x="16209" y="16495"/>
                  <a:pt x="16272" y="16495"/>
                </a:cubicBezTo>
                <a:cubicBezTo>
                  <a:pt x="16333" y="16495"/>
                  <a:pt x="16375" y="16535"/>
                  <a:pt x="16421" y="16545"/>
                </a:cubicBezTo>
                <a:cubicBezTo>
                  <a:pt x="16500" y="16562"/>
                  <a:pt x="16472" y="16565"/>
                  <a:pt x="16520" y="16619"/>
                </a:cubicBezTo>
                <a:cubicBezTo>
                  <a:pt x="16555" y="16658"/>
                  <a:pt x="16555" y="16679"/>
                  <a:pt x="16520" y="16718"/>
                </a:cubicBezTo>
                <a:cubicBezTo>
                  <a:pt x="16479" y="16764"/>
                  <a:pt x="16417" y="16780"/>
                  <a:pt x="16371" y="16818"/>
                </a:cubicBezTo>
                <a:cubicBezTo>
                  <a:pt x="16301" y="16875"/>
                  <a:pt x="16285" y="16877"/>
                  <a:pt x="16247" y="16942"/>
                </a:cubicBezTo>
                <a:cubicBezTo>
                  <a:pt x="16219" y="16989"/>
                  <a:pt x="16197" y="16981"/>
                  <a:pt x="16197" y="17041"/>
                </a:cubicBezTo>
                <a:cubicBezTo>
                  <a:pt x="16197" y="17081"/>
                  <a:pt x="16203" y="17121"/>
                  <a:pt x="16247" y="17140"/>
                </a:cubicBezTo>
                <a:cubicBezTo>
                  <a:pt x="16281" y="17155"/>
                  <a:pt x="16358" y="17183"/>
                  <a:pt x="16396" y="17190"/>
                </a:cubicBezTo>
                <a:cubicBezTo>
                  <a:pt x="16460" y="17201"/>
                  <a:pt x="16531" y="17211"/>
                  <a:pt x="16594" y="17214"/>
                </a:cubicBezTo>
                <a:cubicBezTo>
                  <a:pt x="16650" y="17217"/>
                  <a:pt x="16688" y="17239"/>
                  <a:pt x="16743" y="17239"/>
                </a:cubicBezTo>
                <a:cubicBezTo>
                  <a:pt x="16786" y="17239"/>
                  <a:pt x="16781" y="17249"/>
                  <a:pt x="16793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0000" y="6242040"/>
            <a:ext cx="1731960" cy="561960"/>
          </a:xfrm>
          <a:custGeom>
            <a:avLst/>
            <a:gdLst/>
            <a:ahLst/>
            <a:rect l="l" t="t" r="r" b="b"/>
            <a:pathLst>
              <a:path w="4813" h="1564">
                <a:moveTo>
                  <a:pt x="12998" y="17388"/>
                </a:moveTo>
                <a:cubicBezTo>
                  <a:pt x="13011" y="17425"/>
                  <a:pt x="13040" y="17477"/>
                  <a:pt x="13047" y="17512"/>
                </a:cubicBezTo>
                <a:cubicBezTo>
                  <a:pt x="13061" y="17584"/>
                  <a:pt x="13082" y="17645"/>
                  <a:pt x="13122" y="17711"/>
                </a:cubicBezTo>
                <a:cubicBezTo>
                  <a:pt x="13182" y="17811"/>
                  <a:pt x="13230" y="17910"/>
                  <a:pt x="13295" y="18008"/>
                </a:cubicBezTo>
                <a:cubicBezTo>
                  <a:pt x="13365" y="18113"/>
                  <a:pt x="13446" y="18206"/>
                  <a:pt x="13519" y="18306"/>
                </a:cubicBezTo>
                <a:cubicBezTo>
                  <a:pt x="13565" y="18369"/>
                  <a:pt x="13623" y="18424"/>
                  <a:pt x="13667" y="18479"/>
                </a:cubicBezTo>
                <a:cubicBezTo>
                  <a:pt x="13683" y="18499"/>
                  <a:pt x="13716" y="18593"/>
                  <a:pt x="13767" y="18554"/>
                </a:cubicBezTo>
                <a:cubicBezTo>
                  <a:pt x="13775" y="18537"/>
                  <a:pt x="13783" y="18521"/>
                  <a:pt x="13791" y="18504"/>
                </a:cubicBezTo>
              </a:path>
              <a:path w="4813" h="1564">
                <a:moveTo>
                  <a:pt x="13543" y="17487"/>
                </a:moveTo>
                <a:cubicBezTo>
                  <a:pt x="13498" y="17571"/>
                  <a:pt x="13452" y="17646"/>
                  <a:pt x="13419" y="17735"/>
                </a:cubicBezTo>
                <a:cubicBezTo>
                  <a:pt x="13391" y="17811"/>
                  <a:pt x="13379" y="17949"/>
                  <a:pt x="13320" y="18008"/>
                </a:cubicBezTo>
                <a:cubicBezTo>
                  <a:pt x="13246" y="18083"/>
                  <a:pt x="13254" y="18165"/>
                  <a:pt x="13196" y="18256"/>
                </a:cubicBezTo>
                <a:cubicBezTo>
                  <a:pt x="13153" y="18324"/>
                  <a:pt x="13110" y="18381"/>
                  <a:pt x="13072" y="18455"/>
                </a:cubicBezTo>
                <a:cubicBezTo>
                  <a:pt x="13054" y="18490"/>
                  <a:pt x="13027" y="18568"/>
                  <a:pt x="13022" y="18579"/>
                </a:cubicBezTo>
                <a:cubicBezTo>
                  <a:pt x="13006" y="18616"/>
                  <a:pt x="13038" y="18607"/>
                  <a:pt x="13047" y="18579"/>
                </a:cubicBezTo>
              </a:path>
              <a:path w="4813" h="1564">
                <a:moveTo>
                  <a:pt x="13816" y="17859"/>
                </a:moveTo>
                <a:cubicBezTo>
                  <a:pt x="13902" y="17841"/>
                  <a:pt x="13983" y="17829"/>
                  <a:pt x="14064" y="17810"/>
                </a:cubicBezTo>
                <a:cubicBezTo>
                  <a:pt x="14109" y="17800"/>
                  <a:pt x="14167" y="17810"/>
                  <a:pt x="14213" y="17810"/>
                </a:cubicBezTo>
              </a:path>
              <a:path w="4813" h="1564">
                <a:moveTo>
                  <a:pt x="13891" y="18008"/>
                </a:moveTo>
                <a:cubicBezTo>
                  <a:pt x="13972" y="18030"/>
                  <a:pt x="14031" y="18033"/>
                  <a:pt x="14114" y="18033"/>
                </a:cubicBezTo>
                <a:cubicBezTo>
                  <a:pt x="14203" y="18033"/>
                  <a:pt x="14279" y="18039"/>
                  <a:pt x="14362" y="18008"/>
                </a:cubicBezTo>
              </a:path>
              <a:path w="4813" h="1564">
                <a:moveTo>
                  <a:pt x="14684" y="17438"/>
                </a:moveTo>
                <a:cubicBezTo>
                  <a:pt x="14747" y="17406"/>
                  <a:pt x="14815" y="17374"/>
                  <a:pt x="14883" y="17363"/>
                </a:cubicBezTo>
                <a:cubicBezTo>
                  <a:pt x="14985" y="17346"/>
                  <a:pt x="15101" y="17363"/>
                  <a:pt x="15205" y="17363"/>
                </a:cubicBezTo>
              </a:path>
              <a:path w="4813" h="1564">
                <a:moveTo>
                  <a:pt x="14858" y="17487"/>
                </a:moveTo>
                <a:cubicBezTo>
                  <a:pt x="14850" y="17594"/>
                  <a:pt x="14842" y="17639"/>
                  <a:pt x="14858" y="17735"/>
                </a:cubicBezTo>
                <a:cubicBezTo>
                  <a:pt x="14867" y="17787"/>
                  <a:pt x="14835" y="17844"/>
                  <a:pt x="14883" y="17859"/>
                </a:cubicBezTo>
              </a:path>
              <a:path w="4813" h="1564">
                <a:moveTo>
                  <a:pt x="14932" y="17438"/>
                </a:moveTo>
                <a:cubicBezTo>
                  <a:pt x="14956" y="17500"/>
                  <a:pt x="14953" y="17557"/>
                  <a:pt x="14982" y="17611"/>
                </a:cubicBezTo>
                <a:cubicBezTo>
                  <a:pt x="15011" y="17666"/>
                  <a:pt x="15002" y="17734"/>
                  <a:pt x="15032" y="17785"/>
                </a:cubicBezTo>
                <a:cubicBezTo>
                  <a:pt x="15056" y="17810"/>
                  <a:pt x="15064" y="17819"/>
                  <a:pt x="15081" y="17835"/>
                </a:cubicBezTo>
              </a:path>
              <a:path w="4813" h="1564">
                <a:moveTo>
                  <a:pt x="15329" y="17338"/>
                </a:moveTo>
                <a:cubicBezTo>
                  <a:pt x="15293" y="17428"/>
                  <a:pt x="15262" y="17519"/>
                  <a:pt x="15230" y="17611"/>
                </a:cubicBezTo>
                <a:cubicBezTo>
                  <a:pt x="15184" y="17742"/>
                  <a:pt x="15143" y="17875"/>
                  <a:pt x="15106" y="18008"/>
                </a:cubicBezTo>
                <a:cubicBezTo>
                  <a:pt x="15072" y="18131"/>
                  <a:pt x="15079" y="18257"/>
                  <a:pt x="15056" y="18380"/>
                </a:cubicBezTo>
                <a:cubicBezTo>
                  <a:pt x="15040" y="18467"/>
                  <a:pt x="15032" y="18539"/>
                  <a:pt x="15032" y="18628"/>
                </a:cubicBezTo>
                <a:cubicBezTo>
                  <a:pt x="15032" y="18639"/>
                  <a:pt x="15032" y="18745"/>
                  <a:pt x="15032" y="18678"/>
                </a:cubicBezTo>
                <a:cubicBezTo>
                  <a:pt x="15032" y="18644"/>
                  <a:pt x="15063" y="18610"/>
                  <a:pt x="15081" y="18579"/>
                </a:cubicBezTo>
              </a:path>
              <a:path w="4813" h="1564">
                <a:moveTo>
                  <a:pt x="15255" y="18157"/>
                </a:moveTo>
                <a:cubicBezTo>
                  <a:pt x="15384" y="18041"/>
                  <a:pt x="15315" y="18133"/>
                  <a:pt x="15404" y="18083"/>
                </a:cubicBezTo>
                <a:cubicBezTo>
                  <a:pt x="15466" y="18049"/>
                  <a:pt x="15443" y="18063"/>
                  <a:pt x="15503" y="18083"/>
                </a:cubicBezTo>
                <a:cubicBezTo>
                  <a:pt x="15536" y="18094"/>
                  <a:pt x="15573" y="18088"/>
                  <a:pt x="15602" y="18107"/>
                </a:cubicBezTo>
                <a:cubicBezTo>
                  <a:pt x="15619" y="18118"/>
                  <a:pt x="15661" y="18187"/>
                  <a:pt x="15652" y="18207"/>
                </a:cubicBezTo>
                <a:cubicBezTo>
                  <a:pt x="15629" y="18257"/>
                  <a:pt x="15619" y="18308"/>
                  <a:pt x="15577" y="18355"/>
                </a:cubicBezTo>
                <a:cubicBezTo>
                  <a:pt x="15565" y="18368"/>
                  <a:pt x="15508" y="18427"/>
                  <a:pt x="15503" y="18430"/>
                </a:cubicBezTo>
                <a:cubicBezTo>
                  <a:pt x="15495" y="18430"/>
                  <a:pt x="15486" y="18430"/>
                  <a:pt x="15478" y="18430"/>
                </a:cubicBezTo>
                <a:cubicBezTo>
                  <a:pt x="15535" y="18430"/>
                  <a:pt x="15584" y="18418"/>
                  <a:pt x="15627" y="18455"/>
                </a:cubicBezTo>
                <a:cubicBezTo>
                  <a:pt x="15666" y="18489"/>
                  <a:pt x="15692" y="18535"/>
                  <a:pt x="15701" y="18579"/>
                </a:cubicBezTo>
                <a:cubicBezTo>
                  <a:pt x="15712" y="18638"/>
                  <a:pt x="15691" y="18682"/>
                  <a:pt x="15677" y="18728"/>
                </a:cubicBezTo>
                <a:cubicBezTo>
                  <a:pt x="15663" y="18775"/>
                  <a:pt x="15631" y="18788"/>
                  <a:pt x="15577" y="18802"/>
                </a:cubicBezTo>
                <a:cubicBezTo>
                  <a:pt x="15523" y="18816"/>
                  <a:pt x="15497" y="18782"/>
                  <a:pt x="15453" y="18777"/>
                </a:cubicBezTo>
                <a:cubicBezTo>
                  <a:pt x="15410" y="18772"/>
                  <a:pt x="15385" y="18734"/>
                  <a:pt x="15354" y="18703"/>
                </a:cubicBezTo>
                <a:cubicBezTo>
                  <a:pt x="15324" y="18673"/>
                  <a:pt x="15329" y="18668"/>
                  <a:pt x="15329" y="18628"/>
                </a:cubicBezTo>
              </a:path>
              <a:path w="4813" h="1564">
                <a:moveTo>
                  <a:pt x="15974" y="18455"/>
                </a:moveTo>
                <a:cubicBezTo>
                  <a:pt x="15968" y="18519"/>
                  <a:pt x="15966" y="18590"/>
                  <a:pt x="15949" y="18653"/>
                </a:cubicBezTo>
                <a:cubicBezTo>
                  <a:pt x="15934" y="18709"/>
                  <a:pt x="15910" y="18778"/>
                  <a:pt x="15900" y="18827"/>
                </a:cubicBezTo>
                <a:cubicBezTo>
                  <a:pt x="15900" y="18868"/>
                  <a:pt x="15900" y="18876"/>
                  <a:pt x="15900" y="18901"/>
                </a:cubicBezTo>
              </a:path>
              <a:path w="4813" h="1564">
                <a:moveTo>
                  <a:pt x="16197" y="17760"/>
                </a:moveTo>
                <a:cubicBezTo>
                  <a:pt x="16276" y="17682"/>
                  <a:pt x="16257" y="17712"/>
                  <a:pt x="16346" y="17686"/>
                </a:cubicBezTo>
                <a:cubicBezTo>
                  <a:pt x="16409" y="17667"/>
                  <a:pt x="16452" y="17661"/>
                  <a:pt x="16520" y="17661"/>
                </a:cubicBezTo>
              </a:path>
              <a:path w="4813" h="1564">
                <a:moveTo>
                  <a:pt x="16173" y="17611"/>
                </a:moveTo>
                <a:cubicBezTo>
                  <a:pt x="16155" y="17677"/>
                  <a:pt x="16148" y="17719"/>
                  <a:pt x="16148" y="17785"/>
                </a:cubicBezTo>
                <a:cubicBezTo>
                  <a:pt x="16148" y="17825"/>
                  <a:pt x="16154" y="17865"/>
                  <a:pt x="16197" y="17884"/>
                </a:cubicBezTo>
                <a:cubicBezTo>
                  <a:pt x="16212" y="17891"/>
                  <a:pt x="16286" y="17907"/>
                  <a:pt x="16297" y="17909"/>
                </a:cubicBezTo>
                <a:cubicBezTo>
                  <a:pt x="16356" y="17922"/>
                  <a:pt x="16375" y="17893"/>
                  <a:pt x="16421" y="17934"/>
                </a:cubicBezTo>
                <a:cubicBezTo>
                  <a:pt x="16443" y="17953"/>
                  <a:pt x="16516" y="17996"/>
                  <a:pt x="16520" y="18008"/>
                </a:cubicBezTo>
                <a:cubicBezTo>
                  <a:pt x="16539" y="18064"/>
                  <a:pt x="16528" y="18182"/>
                  <a:pt x="16495" y="18231"/>
                </a:cubicBezTo>
                <a:cubicBezTo>
                  <a:pt x="16466" y="18274"/>
                  <a:pt x="16421" y="18301"/>
                  <a:pt x="16371" y="18306"/>
                </a:cubicBezTo>
                <a:cubicBezTo>
                  <a:pt x="16314" y="18312"/>
                  <a:pt x="16283" y="18288"/>
                  <a:pt x="16272" y="18231"/>
                </a:cubicBezTo>
                <a:cubicBezTo>
                  <a:pt x="16272" y="18223"/>
                  <a:pt x="16272" y="18215"/>
                  <a:pt x="16272" y="18207"/>
                </a:cubicBezTo>
              </a:path>
              <a:path w="4813" h="1564">
                <a:moveTo>
                  <a:pt x="16644" y="17636"/>
                </a:moveTo>
                <a:cubicBezTo>
                  <a:pt x="16719" y="17613"/>
                  <a:pt x="16793" y="17602"/>
                  <a:pt x="16867" y="17587"/>
                </a:cubicBezTo>
                <a:cubicBezTo>
                  <a:pt x="16931" y="17574"/>
                  <a:pt x="16964" y="17601"/>
                  <a:pt x="17016" y="17562"/>
                </a:cubicBezTo>
              </a:path>
              <a:path w="4813" h="1564">
                <a:moveTo>
                  <a:pt x="16768" y="17711"/>
                </a:moveTo>
                <a:cubicBezTo>
                  <a:pt x="16755" y="17825"/>
                  <a:pt x="16768" y="17857"/>
                  <a:pt x="16768" y="17959"/>
                </a:cubicBezTo>
                <a:cubicBezTo>
                  <a:pt x="16768" y="18011"/>
                  <a:pt x="16781" y="18046"/>
                  <a:pt x="16818" y="18058"/>
                </a:cubicBezTo>
              </a:path>
              <a:path w="4813" h="1564">
                <a:moveTo>
                  <a:pt x="16892" y="17587"/>
                </a:moveTo>
                <a:cubicBezTo>
                  <a:pt x="16905" y="17639"/>
                  <a:pt x="16917" y="17672"/>
                  <a:pt x="16917" y="17735"/>
                </a:cubicBezTo>
                <a:cubicBezTo>
                  <a:pt x="16917" y="17840"/>
                  <a:pt x="16948" y="17907"/>
                  <a:pt x="16966" y="18008"/>
                </a:cubicBezTo>
                <a:cubicBezTo>
                  <a:pt x="16966" y="18053"/>
                  <a:pt x="16963" y="18066"/>
                  <a:pt x="16991" y="18083"/>
                </a:cubicBezTo>
              </a:path>
              <a:path w="4813" h="1564">
                <a:moveTo>
                  <a:pt x="17462" y="17388"/>
                </a:moveTo>
                <a:cubicBezTo>
                  <a:pt x="17431" y="17506"/>
                  <a:pt x="17403" y="17616"/>
                  <a:pt x="17363" y="17735"/>
                </a:cubicBezTo>
                <a:cubicBezTo>
                  <a:pt x="17317" y="17874"/>
                  <a:pt x="17298" y="18022"/>
                  <a:pt x="17239" y="18157"/>
                </a:cubicBezTo>
                <a:cubicBezTo>
                  <a:pt x="17193" y="18262"/>
                  <a:pt x="17132" y="18388"/>
                  <a:pt x="17115" y="18504"/>
                </a:cubicBezTo>
                <a:cubicBezTo>
                  <a:pt x="17104" y="18577"/>
                  <a:pt x="17101" y="18662"/>
                  <a:pt x="17066" y="18728"/>
                </a:cubicBezTo>
                <a:cubicBezTo>
                  <a:pt x="17053" y="18753"/>
                  <a:pt x="17061" y="18732"/>
                  <a:pt x="17041" y="18752"/>
                </a:cubicBezTo>
              </a:path>
              <a:path w="4813" h="1564">
                <a:moveTo>
                  <a:pt x="17438" y="18083"/>
                </a:moveTo>
                <a:cubicBezTo>
                  <a:pt x="17497" y="18041"/>
                  <a:pt x="17520" y="18008"/>
                  <a:pt x="17587" y="18008"/>
                </a:cubicBezTo>
                <a:cubicBezTo>
                  <a:pt x="17633" y="18008"/>
                  <a:pt x="17689" y="18035"/>
                  <a:pt x="17711" y="18083"/>
                </a:cubicBezTo>
                <a:cubicBezTo>
                  <a:pt x="17722" y="18106"/>
                  <a:pt x="17675" y="18210"/>
                  <a:pt x="17661" y="18231"/>
                </a:cubicBezTo>
                <a:cubicBezTo>
                  <a:pt x="17629" y="18278"/>
                  <a:pt x="17576" y="18306"/>
                  <a:pt x="17537" y="18331"/>
                </a:cubicBezTo>
                <a:cubicBezTo>
                  <a:pt x="17470" y="18374"/>
                  <a:pt x="17482" y="18361"/>
                  <a:pt x="17537" y="18355"/>
                </a:cubicBezTo>
                <a:cubicBezTo>
                  <a:pt x="17596" y="18348"/>
                  <a:pt x="17638" y="18366"/>
                  <a:pt x="17686" y="18380"/>
                </a:cubicBezTo>
                <a:cubicBezTo>
                  <a:pt x="17728" y="18393"/>
                  <a:pt x="17767" y="18434"/>
                  <a:pt x="17785" y="18479"/>
                </a:cubicBezTo>
                <a:cubicBezTo>
                  <a:pt x="17812" y="18545"/>
                  <a:pt x="17796" y="18553"/>
                  <a:pt x="17785" y="18604"/>
                </a:cubicBezTo>
                <a:cubicBezTo>
                  <a:pt x="17771" y="18667"/>
                  <a:pt x="17772" y="18675"/>
                  <a:pt x="17735" y="18703"/>
                </a:cubicBezTo>
                <a:cubicBezTo>
                  <a:pt x="17697" y="18732"/>
                  <a:pt x="17684" y="18728"/>
                  <a:pt x="17636" y="18728"/>
                </a:cubicBezTo>
                <a:cubicBezTo>
                  <a:pt x="17563" y="18728"/>
                  <a:pt x="17522" y="18723"/>
                  <a:pt x="17462" y="18703"/>
                </a:cubicBezTo>
                <a:cubicBezTo>
                  <a:pt x="17416" y="18687"/>
                  <a:pt x="17405" y="18715"/>
                  <a:pt x="17363" y="18678"/>
                </a:cubicBezTo>
                <a:cubicBezTo>
                  <a:pt x="17355" y="18670"/>
                  <a:pt x="17346" y="18661"/>
                  <a:pt x="17338" y="186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84720" y="4340160"/>
            <a:ext cx="1758960" cy="71640"/>
          </a:xfrm>
          <a:custGeom>
            <a:avLst/>
            <a:gdLst/>
            <a:ahLst/>
            <a:rect l="l" t="t" r="r" b="b"/>
            <a:pathLst>
              <a:path w="4888" h="200">
                <a:moveTo>
                  <a:pt x="9401" y="12055"/>
                </a:moveTo>
                <a:cubicBezTo>
                  <a:pt x="9438" y="12063"/>
                  <a:pt x="9466" y="12077"/>
                  <a:pt x="9500" y="12080"/>
                </a:cubicBezTo>
                <a:cubicBezTo>
                  <a:pt x="9768" y="12107"/>
                  <a:pt x="10053" y="12090"/>
                  <a:pt x="10319" y="12105"/>
                </a:cubicBezTo>
                <a:cubicBezTo>
                  <a:pt x="10527" y="12117"/>
                  <a:pt x="10735" y="12111"/>
                  <a:pt x="10939" y="12129"/>
                </a:cubicBezTo>
                <a:cubicBezTo>
                  <a:pt x="11095" y="12143"/>
                  <a:pt x="11256" y="12142"/>
                  <a:pt x="11410" y="12154"/>
                </a:cubicBezTo>
                <a:cubicBezTo>
                  <a:pt x="11625" y="12171"/>
                  <a:pt x="11841" y="12159"/>
                  <a:pt x="12055" y="12179"/>
                </a:cubicBezTo>
                <a:cubicBezTo>
                  <a:pt x="12212" y="12194"/>
                  <a:pt x="12366" y="12225"/>
                  <a:pt x="12526" y="12229"/>
                </a:cubicBezTo>
                <a:cubicBezTo>
                  <a:pt x="12692" y="12233"/>
                  <a:pt x="12854" y="12254"/>
                  <a:pt x="13022" y="12254"/>
                </a:cubicBezTo>
                <a:cubicBezTo>
                  <a:pt x="13354" y="12254"/>
                  <a:pt x="13689" y="12255"/>
                  <a:pt x="14015" y="12229"/>
                </a:cubicBezTo>
                <a:cubicBezTo>
                  <a:pt x="14107" y="12222"/>
                  <a:pt x="14185" y="12237"/>
                  <a:pt x="14263" y="12204"/>
                </a:cubicBezTo>
                <a:cubicBezTo>
                  <a:pt x="14288" y="12204"/>
                  <a:pt x="14296" y="12204"/>
                  <a:pt x="14288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240" y="2562120"/>
            <a:ext cx="930600" cy="1019160"/>
          </a:xfrm>
          <a:custGeom>
            <a:avLst/>
            <a:gdLst/>
            <a:ahLst/>
            <a:rect l="l" t="t" r="r" b="b"/>
            <a:pathLst>
              <a:path w="2581" h="2829">
                <a:moveTo>
                  <a:pt x="8111" y="8607"/>
                </a:moveTo>
                <a:cubicBezTo>
                  <a:pt x="8239" y="8607"/>
                  <a:pt x="8359" y="8618"/>
                  <a:pt x="8483" y="8632"/>
                </a:cubicBezTo>
                <a:cubicBezTo>
                  <a:pt x="8646" y="8651"/>
                  <a:pt x="8817" y="8641"/>
                  <a:pt x="8979" y="8657"/>
                </a:cubicBezTo>
                <a:cubicBezTo>
                  <a:pt x="9102" y="8669"/>
                  <a:pt x="9230" y="8672"/>
                  <a:pt x="9351" y="8682"/>
                </a:cubicBezTo>
                <a:cubicBezTo>
                  <a:pt x="9467" y="8692"/>
                  <a:pt x="9586" y="8696"/>
                  <a:pt x="9699" y="8706"/>
                </a:cubicBezTo>
                <a:cubicBezTo>
                  <a:pt x="9853" y="8720"/>
                  <a:pt x="10019" y="8726"/>
                  <a:pt x="10170" y="8756"/>
                </a:cubicBezTo>
                <a:cubicBezTo>
                  <a:pt x="10267" y="8775"/>
                  <a:pt x="10373" y="8794"/>
                  <a:pt x="10468" y="8806"/>
                </a:cubicBezTo>
                <a:cubicBezTo>
                  <a:pt x="10504" y="8811"/>
                  <a:pt x="10691" y="8825"/>
                  <a:pt x="10691" y="8781"/>
                </a:cubicBezTo>
                <a:cubicBezTo>
                  <a:pt x="10683" y="8781"/>
                  <a:pt x="10674" y="8781"/>
                  <a:pt x="10666" y="8781"/>
                </a:cubicBezTo>
              </a:path>
              <a:path w="2581" h="2829">
                <a:moveTo>
                  <a:pt x="9624" y="7193"/>
                </a:moveTo>
                <a:cubicBezTo>
                  <a:pt x="9663" y="7155"/>
                  <a:pt x="9694" y="7133"/>
                  <a:pt x="9748" y="7119"/>
                </a:cubicBezTo>
                <a:cubicBezTo>
                  <a:pt x="9811" y="7103"/>
                  <a:pt x="9950" y="7103"/>
                  <a:pt x="9996" y="7144"/>
                </a:cubicBezTo>
                <a:cubicBezTo>
                  <a:pt x="10030" y="7174"/>
                  <a:pt x="10021" y="7200"/>
                  <a:pt x="10021" y="7243"/>
                </a:cubicBezTo>
                <a:cubicBezTo>
                  <a:pt x="10021" y="7289"/>
                  <a:pt x="10001" y="7301"/>
                  <a:pt x="9996" y="7342"/>
                </a:cubicBezTo>
                <a:cubicBezTo>
                  <a:pt x="9992" y="7374"/>
                  <a:pt x="9993" y="7447"/>
                  <a:pt x="9971" y="7466"/>
                </a:cubicBezTo>
                <a:cubicBezTo>
                  <a:pt x="9941" y="7491"/>
                  <a:pt x="9920" y="7507"/>
                  <a:pt x="9897" y="7541"/>
                </a:cubicBezTo>
                <a:cubicBezTo>
                  <a:pt x="9873" y="7576"/>
                  <a:pt x="9849" y="7610"/>
                  <a:pt x="9823" y="7640"/>
                </a:cubicBezTo>
                <a:cubicBezTo>
                  <a:pt x="9795" y="7672"/>
                  <a:pt x="9730" y="7689"/>
                  <a:pt x="9773" y="7689"/>
                </a:cubicBezTo>
                <a:cubicBezTo>
                  <a:pt x="9913" y="7689"/>
                  <a:pt x="10071" y="7673"/>
                  <a:pt x="10195" y="7714"/>
                </a:cubicBezTo>
                <a:cubicBezTo>
                  <a:pt x="10217" y="7721"/>
                  <a:pt x="10280" y="7699"/>
                  <a:pt x="10244" y="7714"/>
                </a:cubicBezTo>
                <a:cubicBezTo>
                  <a:pt x="10236" y="7714"/>
                  <a:pt x="10228" y="7714"/>
                  <a:pt x="10220" y="7714"/>
                </a:cubicBezTo>
              </a:path>
              <a:path w="2581" h="2829">
                <a:moveTo>
                  <a:pt x="8781" y="9302"/>
                </a:moveTo>
                <a:cubicBezTo>
                  <a:pt x="8781" y="9266"/>
                  <a:pt x="8774" y="9230"/>
                  <a:pt x="8756" y="9203"/>
                </a:cubicBezTo>
                <a:cubicBezTo>
                  <a:pt x="8724" y="9155"/>
                  <a:pt x="8687" y="9171"/>
                  <a:pt x="8657" y="9178"/>
                </a:cubicBezTo>
                <a:cubicBezTo>
                  <a:pt x="8620" y="9186"/>
                  <a:pt x="8587" y="9201"/>
                  <a:pt x="8558" y="9227"/>
                </a:cubicBezTo>
                <a:cubicBezTo>
                  <a:pt x="8514" y="9266"/>
                  <a:pt x="8492" y="9305"/>
                  <a:pt x="8458" y="9351"/>
                </a:cubicBezTo>
                <a:cubicBezTo>
                  <a:pt x="8428" y="9391"/>
                  <a:pt x="8371" y="9449"/>
                  <a:pt x="8359" y="9500"/>
                </a:cubicBezTo>
                <a:cubicBezTo>
                  <a:pt x="8346" y="9554"/>
                  <a:pt x="8334" y="9590"/>
                  <a:pt x="8334" y="9649"/>
                </a:cubicBezTo>
                <a:cubicBezTo>
                  <a:pt x="8334" y="9700"/>
                  <a:pt x="8353" y="9759"/>
                  <a:pt x="8384" y="9798"/>
                </a:cubicBezTo>
                <a:cubicBezTo>
                  <a:pt x="8416" y="9838"/>
                  <a:pt x="8487" y="9828"/>
                  <a:pt x="8533" y="9847"/>
                </a:cubicBezTo>
                <a:cubicBezTo>
                  <a:pt x="8599" y="9874"/>
                  <a:pt x="8637" y="9869"/>
                  <a:pt x="8706" y="9847"/>
                </a:cubicBezTo>
                <a:cubicBezTo>
                  <a:pt x="8723" y="9839"/>
                  <a:pt x="8739" y="9831"/>
                  <a:pt x="8756" y="9823"/>
                </a:cubicBezTo>
              </a:path>
              <a:path w="2581" h="2829">
                <a:moveTo>
                  <a:pt x="8954" y="9475"/>
                </a:moveTo>
                <a:cubicBezTo>
                  <a:pt x="8932" y="9604"/>
                  <a:pt x="8944" y="9604"/>
                  <a:pt x="8954" y="9699"/>
                </a:cubicBezTo>
                <a:cubicBezTo>
                  <a:pt x="8958" y="9732"/>
                  <a:pt x="8996" y="9766"/>
                  <a:pt x="9029" y="9773"/>
                </a:cubicBezTo>
                <a:cubicBezTo>
                  <a:pt x="9067" y="9781"/>
                  <a:pt x="9144" y="9745"/>
                  <a:pt x="9178" y="9723"/>
                </a:cubicBezTo>
                <a:cubicBezTo>
                  <a:pt x="9213" y="9700"/>
                  <a:pt x="9269" y="9640"/>
                  <a:pt x="9277" y="9599"/>
                </a:cubicBezTo>
                <a:cubicBezTo>
                  <a:pt x="9287" y="9546"/>
                  <a:pt x="9282" y="9471"/>
                  <a:pt x="9252" y="9426"/>
                </a:cubicBezTo>
                <a:cubicBezTo>
                  <a:pt x="9234" y="9399"/>
                  <a:pt x="9159" y="9311"/>
                  <a:pt x="9128" y="9302"/>
                </a:cubicBezTo>
                <a:cubicBezTo>
                  <a:pt x="9066" y="9284"/>
                  <a:pt x="9025" y="9312"/>
                  <a:pt x="8979" y="9327"/>
                </a:cubicBezTo>
                <a:cubicBezTo>
                  <a:pt x="8931" y="9343"/>
                  <a:pt x="8920" y="9378"/>
                  <a:pt x="8905" y="9426"/>
                </a:cubicBezTo>
                <a:cubicBezTo>
                  <a:pt x="8894" y="9464"/>
                  <a:pt x="8880" y="9481"/>
                  <a:pt x="8880" y="9525"/>
                </a:cubicBezTo>
                <a:cubicBezTo>
                  <a:pt x="8880" y="9561"/>
                  <a:pt x="8887" y="9597"/>
                  <a:pt x="8905" y="9624"/>
                </a:cubicBezTo>
                <a:cubicBezTo>
                  <a:pt x="8927" y="9646"/>
                  <a:pt x="8932" y="9655"/>
                  <a:pt x="8954" y="9649"/>
                </a:cubicBezTo>
              </a:path>
              <a:path w="2581" h="2829">
                <a:moveTo>
                  <a:pt x="9624" y="9302"/>
                </a:moveTo>
                <a:cubicBezTo>
                  <a:pt x="9561" y="9302"/>
                  <a:pt x="9527" y="9309"/>
                  <a:pt x="9475" y="9327"/>
                </a:cubicBezTo>
                <a:cubicBezTo>
                  <a:pt x="9427" y="9343"/>
                  <a:pt x="9426" y="9348"/>
                  <a:pt x="9426" y="9401"/>
                </a:cubicBezTo>
                <a:cubicBezTo>
                  <a:pt x="9426" y="9453"/>
                  <a:pt x="9468" y="9447"/>
                  <a:pt x="9500" y="9475"/>
                </a:cubicBezTo>
                <a:cubicBezTo>
                  <a:pt x="9544" y="9514"/>
                  <a:pt x="9565" y="9554"/>
                  <a:pt x="9599" y="9599"/>
                </a:cubicBezTo>
                <a:cubicBezTo>
                  <a:pt x="9629" y="9639"/>
                  <a:pt x="9680" y="9677"/>
                  <a:pt x="9699" y="9723"/>
                </a:cubicBezTo>
                <a:cubicBezTo>
                  <a:pt x="9709" y="9747"/>
                  <a:pt x="9647" y="9839"/>
                  <a:pt x="9624" y="9847"/>
                </a:cubicBezTo>
                <a:cubicBezTo>
                  <a:pt x="9569" y="9867"/>
                  <a:pt x="9417" y="9859"/>
                  <a:pt x="9376" y="9823"/>
                </a:cubicBezTo>
                <a:cubicBezTo>
                  <a:pt x="9368" y="9815"/>
                  <a:pt x="9359" y="9806"/>
                  <a:pt x="9351" y="9798"/>
                </a:cubicBezTo>
              </a:path>
              <a:path w="2581" h="2829">
                <a:moveTo>
                  <a:pt x="9947" y="9475"/>
                </a:moveTo>
                <a:cubicBezTo>
                  <a:pt x="9947" y="9534"/>
                  <a:pt x="9969" y="9571"/>
                  <a:pt x="9996" y="9624"/>
                </a:cubicBezTo>
                <a:cubicBezTo>
                  <a:pt x="10036" y="9705"/>
                  <a:pt x="10024" y="9693"/>
                  <a:pt x="10096" y="9748"/>
                </a:cubicBezTo>
                <a:cubicBezTo>
                  <a:pt x="10150" y="9789"/>
                  <a:pt x="10192" y="9798"/>
                  <a:pt x="10244" y="9823"/>
                </a:cubicBezTo>
                <a:cubicBezTo>
                  <a:pt x="10301" y="9851"/>
                  <a:pt x="10338" y="9862"/>
                  <a:pt x="10368" y="9823"/>
                </a:cubicBezTo>
                <a:cubicBezTo>
                  <a:pt x="10391" y="9800"/>
                  <a:pt x="10399" y="9796"/>
                  <a:pt x="10393" y="9773"/>
                </a:cubicBezTo>
              </a:path>
              <a:path w="2581" h="2829">
                <a:moveTo>
                  <a:pt x="10220" y="9401"/>
                </a:moveTo>
                <a:cubicBezTo>
                  <a:pt x="10158" y="9474"/>
                  <a:pt x="10075" y="9532"/>
                  <a:pt x="10021" y="9599"/>
                </a:cubicBezTo>
                <a:cubicBezTo>
                  <a:pt x="9974" y="9657"/>
                  <a:pt x="9941" y="9687"/>
                  <a:pt x="9872" y="9723"/>
                </a:cubicBezTo>
                <a:cubicBezTo>
                  <a:pt x="9814" y="9753"/>
                  <a:pt x="9794" y="9801"/>
                  <a:pt x="9748" y="9847"/>
                </a:cubicBezTo>
                <a:cubicBezTo>
                  <a:pt x="9716" y="9879"/>
                  <a:pt x="9690" y="9875"/>
                  <a:pt x="9674" y="9922"/>
                </a:cubicBezTo>
                <a:cubicBezTo>
                  <a:pt x="9674" y="9930"/>
                  <a:pt x="9674" y="9939"/>
                  <a:pt x="9674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973680"/>
            <a:ext cx="1125720" cy="812520"/>
          </a:xfrm>
          <a:custGeom>
            <a:avLst/>
            <a:gdLst/>
            <a:ahLst/>
            <a:rect l="l" t="t" r="r" b="b"/>
            <a:pathLst>
              <a:path w="3126" h="2258">
                <a:moveTo>
                  <a:pt x="10319" y="12477"/>
                </a:moveTo>
                <a:cubicBezTo>
                  <a:pt x="10319" y="12502"/>
                  <a:pt x="10319" y="12526"/>
                  <a:pt x="10319" y="12551"/>
                </a:cubicBezTo>
                <a:cubicBezTo>
                  <a:pt x="10319" y="12515"/>
                  <a:pt x="10312" y="12479"/>
                  <a:pt x="10294" y="12452"/>
                </a:cubicBezTo>
                <a:cubicBezTo>
                  <a:pt x="10272" y="12419"/>
                  <a:pt x="10260" y="12391"/>
                  <a:pt x="10220" y="12378"/>
                </a:cubicBezTo>
                <a:cubicBezTo>
                  <a:pt x="10193" y="12369"/>
                  <a:pt x="10139" y="12410"/>
                  <a:pt x="10120" y="12427"/>
                </a:cubicBezTo>
                <a:cubicBezTo>
                  <a:pt x="10084" y="12459"/>
                  <a:pt x="10063" y="12487"/>
                  <a:pt x="10046" y="12526"/>
                </a:cubicBezTo>
                <a:cubicBezTo>
                  <a:pt x="10016" y="12595"/>
                  <a:pt x="9993" y="12658"/>
                  <a:pt x="9971" y="12725"/>
                </a:cubicBezTo>
                <a:cubicBezTo>
                  <a:pt x="9942" y="12813"/>
                  <a:pt x="9957" y="12837"/>
                  <a:pt x="9971" y="12923"/>
                </a:cubicBezTo>
                <a:cubicBezTo>
                  <a:pt x="9982" y="12989"/>
                  <a:pt x="10008" y="13030"/>
                  <a:pt x="10071" y="13072"/>
                </a:cubicBezTo>
                <a:cubicBezTo>
                  <a:pt x="10112" y="13100"/>
                  <a:pt x="10222" y="13151"/>
                  <a:pt x="10269" y="13146"/>
                </a:cubicBezTo>
                <a:cubicBezTo>
                  <a:pt x="10318" y="13141"/>
                  <a:pt x="10453" y="13119"/>
                  <a:pt x="10492" y="13097"/>
                </a:cubicBezTo>
                <a:cubicBezTo>
                  <a:pt x="10525" y="13072"/>
                  <a:pt x="10559" y="13047"/>
                  <a:pt x="10592" y="13022"/>
                </a:cubicBezTo>
              </a:path>
              <a:path w="3126" h="2258">
                <a:moveTo>
                  <a:pt x="10740" y="12601"/>
                </a:moveTo>
                <a:cubicBezTo>
                  <a:pt x="10725" y="12651"/>
                  <a:pt x="10712" y="12733"/>
                  <a:pt x="10691" y="12774"/>
                </a:cubicBezTo>
                <a:cubicBezTo>
                  <a:pt x="10665" y="12825"/>
                  <a:pt x="10666" y="12861"/>
                  <a:pt x="10666" y="12923"/>
                </a:cubicBezTo>
                <a:cubicBezTo>
                  <a:pt x="10666" y="12994"/>
                  <a:pt x="10667" y="12998"/>
                  <a:pt x="10716" y="13047"/>
                </a:cubicBezTo>
                <a:cubicBezTo>
                  <a:pt x="10750" y="13082"/>
                  <a:pt x="10870" y="13084"/>
                  <a:pt x="10914" y="13072"/>
                </a:cubicBezTo>
                <a:cubicBezTo>
                  <a:pt x="10957" y="13060"/>
                  <a:pt x="11036" y="12983"/>
                  <a:pt x="11063" y="12948"/>
                </a:cubicBezTo>
                <a:cubicBezTo>
                  <a:pt x="11106" y="12893"/>
                  <a:pt x="11167" y="12801"/>
                  <a:pt x="11137" y="12725"/>
                </a:cubicBezTo>
                <a:cubicBezTo>
                  <a:pt x="11110" y="12655"/>
                  <a:pt x="11096" y="12627"/>
                  <a:pt x="11038" y="12576"/>
                </a:cubicBezTo>
                <a:cubicBezTo>
                  <a:pt x="10976" y="12521"/>
                  <a:pt x="10948" y="12491"/>
                  <a:pt x="10864" y="12477"/>
                </a:cubicBezTo>
                <a:cubicBezTo>
                  <a:pt x="10813" y="12468"/>
                  <a:pt x="10733" y="12482"/>
                  <a:pt x="10691" y="12502"/>
                </a:cubicBezTo>
                <a:cubicBezTo>
                  <a:pt x="10654" y="12520"/>
                  <a:pt x="10600" y="12561"/>
                  <a:pt x="10592" y="12601"/>
                </a:cubicBezTo>
                <a:cubicBezTo>
                  <a:pt x="10575" y="12682"/>
                  <a:pt x="10572" y="12670"/>
                  <a:pt x="10592" y="12750"/>
                </a:cubicBezTo>
                <a:cubicBezTo>
                  <a:pt x="10607" y="12810"/>
                  <a:pt x="10639" y="12839"/>
                  <a:pt x="10691" y="12874"/>
                </a:cubicBezTo>
                <a:cubicBezTo>
                  <a:pt x="10716" y="12890"/>
                  <a:pt x="10740" y="12907"/>
                  <a:pt x="10765" y="12923"/>
                </a:cubicBezTo>
              </a:path>
              <a:path w="3126" h="2258">
                <a:moveTo>
                  <a:pt x="11534" y="12576"/>
                </a:moveTo>
                <a:cubicBezTo>
                  <a:pt x="11494" y="12541"/>
                  <a:pt x="11448" y="12499"/>
                  <a:pt x="11385" y="12526"/>
                </a:cubicBezTo>
                <a:cubicBezTo>
                  <a:pt x="11375" y="12530"/>
                  <a:pt x="11287" y="12574"/>
                  <a:pt x="11286" y="12576"/>
                </a:cubicBezTo>
                <a:cubicBezTo>
                  <a:pt x="11270" y="12599"/>
                  <a:pt x="11302" y="12661"/>
                  <a:pt x="11311" y="12675"/>
                </a:cubicBezTo>
                <a:cubicBezTo>
                  <a:pt x="11328" y="12700"/>
                  <a:pt x="11406" y="12740"/>
                  <a:pt x="11435" y="12750"/>
                </a:cubicBezTo>
                <a:cubicBezTo>
                  <a:pt x="11520" y="12779"/>
                  <a:pt x="11521" y="12830"/>
                  <a:pt x="11584" y="12874"/>
                </a:cubicBezTo>
                <a:cubicBezTo>
                  <a:pt x="11623" y="12901"/>
                  <a:pt x="11669" y="12969"/>
                  <a:pt x="11683" y="13022"/>
                </a:cubicBezTo>
                <a:cubicBezTo>
                  <a:pt x="11694" y="13062"/>
                  <a:pt x="11677" y="13140"/>
                  <a:pt x="11658" y="13171"/>
                </a:cubicBezTo>
                <a:cubicBezTo>
                  <a:pt x="11639" y="13203"/>
                  <a:pt x="11568" y="13219"/>
                  <a:pt x="11534" y="13221"/>
                </a:cubicBezTo>
                <a:cubicBezTo>
                  <a:pt x="11448" y="13227"/>
                  <a:pt x="11447" y="13189"/>
                  <a:pt x="11385" y="13171"/>
                </a:cubicBezTo>
                <a:cubicBezTo>
                  <a:pt x="11341" y="13158"/>
                  <a:pt x="11286" y="13153"/>
                  <a:pt x="11261" y="13097"/>
                </a:cubicBezTo>
                <a:cubicBezTo>
                  <a:pt x="11254" y="13081"/>
                  <a:pt x="11261" y="13040"/>
                  <a:pt x="11261" y="13022"/>
                </a:cubicBezTo>
              </a:path>
              <a:path w="3126" h="2258">
                <a:moveTo>
                  <a:pt x="12402" y="12675"/>
                </a:moveTo>
                <a:cubicBezTo>
                  <a:pt x="12436" y="12760"/>
                  <a:pt x="12476" y="12799"/>
                  <a:pt x="12526" y="12874"/>
                </a:cubicBezTo>
                <a:cubicBezTo>
                  <a:pt x="12591" y="12971"/>
                  <a:pt x="12664" y="13044"/>
                  <a:pt x="12750" y="13122"/>
                </a:cubicBezTo>
                <a:cubicBezTo>
                  <a:pt x="12807" y="13174"/>
                  <a:pt x="12857" y="13232"/>
                  <a:pt x="12923" y="13271"/>
                </a:cubicBezTo>
                <a:cubicBezTo>
                  <a:pt x="12973" y="13301"/>
                  <a:pt x="13005" y="13308"/>
                  <a:pt x="13047" y="13271"/>
                </a:cubicBezTo>
                <a:cubicBezTo>
                  <a:pt x="13070" y="13248"/>
                  <a:pt x="13078" y="13244"/>
                  <a:pt x="13072" y="13221"/>
                </a:cubicBezTo>
              </a:path>
              <a:path w="3126" h="2258">
                <a:moveTo>
                  <a:pt x="12824" y="12650"/>
                </a:moveTo>
                <a:cubicBezTo>
                  <a:pt x="12742" y="12733"/>
                  <a:pt x="12659" y="12816"/>
                  <a:pt x="12576" y="12898"/>
                </a:cubicBezTo>
                <a:cubicBezTo>
                  <a:pt x="12512" y="12961"/>
                  <a:pt x="12468" y="13010"/>
                  <a:pt x="12402" y="13072"/>
                </a:cubicBezTo>
                <a:cubicBezTo>
                  <a:pt x="12359" y="13112"/>
                  <a:pt x="12330" y="13156"/>
                  <a:pt x="12303" y="13196"/>
                </a:cubicBezTo>
                <a:cubicBezTo>
                  <a:pt x="12271" y="13245"/>
                  <a:pt x="12324" y="13221"/>
                  <a:pt x="12378" y="13221"/>
                </a:cubicBezTo>
              </a:path>
              <a:path w="3126" h="2258">
                <a:moveTo>
                  <a:pt x="11410" y="11038"/>
                </a:moveTo>
                <a:cubicBezTo>
                  <a:pt x="11410" y="11089"/>
                  <a:pt x="11421" y="11096"/>
                  <a:pt x="11435" y="11137"/>
                </a:cubicBezTo>
                <a:cubicBezTo>
                  <a:pt x="11469" y="11238"/>
                  <a:pt x="11443" y="11405"/>
                  <a:pt x="11460" y="11509"/>
                </a:cubicBezTo>
                <a:cubicBezTo>
                  <a:pt x="11473" y="11588"/>
                  <a:pt x="11466" y="11656"/>
                  <a:pt x="11485" y="11733"/>
                </a:cubicBezTo>
                <a:cubicBezTo>
                  <a:pt x="11500" y="11793"/>
                  <a:pt x="11493" y="11847"/>
                  <a:pt x="11509" y="11881"/>
                </a:cubicBezTo>
                <a:cubicBezTo>
                  <a:pt x="11509" y="11889"/>
                  <a:pt x="11509" y="11898"/>
                  <a:pt x="11509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3.  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= Sin 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321000" y="1482840"/>
            <a:ext cx="2751120" cy="561960"/>
          </a:xfrm>
          <a:custGeom>
            <a:avLst/>
            <a:gdLst/>
            <a:ahLst/>
            <a:rect l="l" t="t" r="r" b="b"/>
            <a:pathLst>
              <a:path w="7641" h="1563">
                <a:moveTo>
                  <a:pt x="9773" y="4738"/>
                </a:moveTo>
                <a:cubicBezTo>
                  <a:pt x="9735" y="4709"/>
                  <a:pt x="9722" y="4713"/>
                  <a:pt x="9674" y="4713"/>
                </a:cubicBezTo>
                <a:cubicBezTo>
                  <a:pt x="9628" y="4713"/>
                  <a:pt x="9615" y="4733"/>
                  <a:pt x="9575" y="4738"/>
                </a:cubicBezTo>
                <a:cubicBezTo>
                  <a:pt x="9538" y="4742"/>
                  <a:pt x="9503" y="4762"/>
                  <a:pt x="9475" y="4787"/>
                </a:cubicBezTo>
                <a:cubicBezTo>
                  <a:pt x="9453" y="4807"/>
                  <a:pt x="9386" y="4856"/>
                  <a:pt x="9376" y="4862"/>
                </a:cubicBezTo>
                <a:cubicBezTo>
                  <a:pt x="9346" y="4879"/>
                  <a:pt x="9339" y="4876"/>
                  <a:pt x="9327" y="4911"/>
                </a:cubicBezTo>
                <a:cubicBezTo>
                  <a:pt x="9397" y="4911"/>
                  <a:pt x="9442" y="4917"/>
                  <a:pt x="9500" y="4936"/>
                </a:cubicBezTo>
                <a:cubicBezTo>
                  <a:pt x="9532" y="4947"/>
                  <a:pt x="9570" y="4951"/>
                  <a:pt x="9599" y="4961"/>
                </a:cubicBezTo>
                <a:cubicBezTo>
                  <a:pt x="9654" y="4980"/>
                  <a:pt x="9676" y="5005"/>
                  <a:pt x="9723" y="5035"/>
                </a:cubicBezTo>
                <a:cubicBezTo>
                  <a:pt x="9768" y="5064"/>
                  <a:pt x="9803" y="5107"/>
                  <a:pt x="9847" y="5135"/>
                </a:cubicBezTo>
                <a:cubicBezTo>
                  <a:pt x="9895" y="5165"/>
                  <a:pt x="9959" y="5201"/>
                  <a:pt x="9971" y="5259"/>
                </a:cubicBezTo>
                <a:cubicBezTo>
                  <a:pt x="9984" y="5319"/>
                  <a:pt x="9962" y="5338"/>
                  <a:pt x="9947" y="5383"/>
                </a:cubicBezTo>
                <a:cubicBezTo>
                  <a:pt x="9931" y="5433"/>
                  <a:pt x="9868" y="5448"/>
                  <a:pt x="9823" y="5482"/>
                </a:cubicBezTo>
                <a:cubicBezTo>
                  <a:pt x="9778" y="5516"/>
                  <a:pt x="9709" y="5528"/>
                  <a:pt x="9649" y="5531"/>
                </a:cubicBezTo>
                <a:cubicBezTo>
                  <a:pt x="9562" y="5536"/>
                  <a:pt x="9427" y="5554"/>
                  <a:pt x="9351" y="5507"/>
                </a:cubicBezTo>
                <a:cubicBezTo>
                  <a:pt x="9318" y="5487"/>
                  <a:pt x="9276" y="5469"/>
                  <a:pt x="9252" y="5432"/>
                </a:cubicBezTo>
                <a:cubicBezTo>
                  <a:pt x="9237" y="5409"/>
                  <a:pt x="9209" y="5340"/>
                  <a:pt x="9227" y="5308"/>
                </a:cubicBezTo>
                <a:cubicBezTo>
                  <a:pt x="9250" y="5285"/>
                  <a:pt x="9254" y="5277"/>
                  <a:pt x="9277" y="5283"/>
                </a:cubicBezTo>
              </a:path>
              <a:path w="7641" h="1563">
                <a:moveTo>
                  <a:pt x="10071" y="4862"/>
                </a:moveTo>
                <a:cubicBezTo>
                  <a:pt x="10071" y="4952"/>
                  <a:pt x="10082" y="5026"/>
                  <a:pt x="10096" y="5110"/>
                </a:cubicBezTo>
                <a:cubicBezTo>
                  <a:pt x="10113" y="5212"/>
                  <a:pt x="10130" y="5478"/>
                  <a:pt x="10071" y="5556"/>
                </a:cubicBezTo>
                <a:cubicBezTo>
                  <a:pt x="10071" y="5508"/>
                  <a:pt x="10068" y="5507"/>
                  <a:pt x="10046" y="5457"/>
                </a:cubicBezTo>
              </a:path>
              <a:path w="7641" h="1563">
                <a:moveTo>
                  <a:pt x="10071" y="4514"/>
                </a:moveTo>
                <a:cubicBezTo>
                  <a:pt x="10071" y="4506"/>
                  <a:pt x="10071" y="4498"/>
                  <a:pt x="10071" y="4490"/>
                </a:cubicBezTo>
              </a:path>
              <a:path w="7641" h="1563">
                <a:moveTo>
                  <a:pt x="10244" y="5110"/>
                </a:moveTo>
                <a:cubicBezTo>
                  <a:pt x="10244" y="5234"/>
                  <a:pt x="10248" y="5342"/>
                  <a:pt x="10220" y="5457"/>
                </a:cubicBezTo>
                <a:cubicBezTo>
                  <a:pt x="10218" y="5464"/>
                  <a:pt x="10220" y="5550"/>
                  <a:pt x="10220" y="5482"/>
                </a:cubicBezTo>
                <a:cubicBezTo>
                  <a:pt x="10220" y="5361"/>
                  <a:pt x="10226" y="5249"/>
                  <a:pt x="10244" y="5135"/>
                </a:cubicBezTo>
                <a:cubicBezTo>
                  <a:pt x="10255" y="5065"/>
                  <a:pt x="10273" y="5030"/>
                  <a:pt x="10294" y="4961"/>
                </a:cubicBezTo>
                <a:cubicBezTo>
                  <a:pt x="10307" y="4918"/>
                  <a:pt x="10334" y="4897"/>
                  <a:pt x="10368" y="4862"/>
                </a:cubicBezTo>
                <a:cubicBezTo>
                  <a:pt x="10405" y="4825"/>
                  <a:pt x="10513" y="4785"/>
                  <a:pt x="10567" y="4812"/>
                </a:cubicBezTo>
                <a:cubicBezTo>
                  <a:pt x="10615" y="4836"/>
                  <a:pt x="10628" y="4870"/>
                  <a:pt x="10666" y="4911"/>
                </a:cubicBezTo>
                <a:cubicBezTo>
                  <a:pt x="10708" y="4957"/>
                  <a:pt x="10719" y="5006"/>
                  <a:pt x="10740" y="5060"/>
                </a:cubicBezTo>
                <a:cubicBezTo>
                  <a:pt x="10766" y="5125"/>
                  <a:pt x="10786" y="5189"/>
                  <a:pt x="10790" y="5259"/>
                </a:cubicBezTo>
                <a:cubicBezTo>
                  <a:pt x="10795" y="5343"/>
                  <a:pt x="10793" y="5410"/>
                  <a:pt x="10815" y="5482"/>
                </a:cubicBezTo>
                <a:cubicBezTo>
                  <a:pt x="10825" y="5515"/>
                  <a:pt x="10819" y="5546"/>
                  <a:pt x="10840" y="5507"/>
                </a:cubicBezTo>
              </a:path>
              <a:path w="7641" h="1563">
                <a:moveTo>
                  <a:pt x="10616" y="4192"/>
                </a:moveTo>
                <a:cubicBezTo>
                  <a:pt x="10682" y="4159"/>
                  <a:pt x="10745" y="4134"/>
                  <a:pt x="10815" y="4118"/>
                </a:cubicBezTo>
                <a:cubicBezTo>
                  <a:pt x="10855" y="4109"/>
                  <a:pt x="10910" y="4123"/>
                  <a:pt x="10939" y="4142"/>
                </a:cubicBezTo>
                <a:cubicBezTo>
                  <a:pt x="10969" y="4162"/>
                  <a:pt x="11008" y="4228"/>
                  <a:pt x="10988" y="4266"/>
                </a:cubicBezTo>
                <a:cubicBezTo>
                  <a:pt x="10971" y="4298"/>
                  <a:pt x="10894" y="4331"/>
                  <a:pt x="10864" y="4341"/>
                </a:cubicBezTo>
                <a:cubicBezTo>
                  <a:pt x="10830" y="4353"/>
                  <a:pt x="10807" y="4422"/>
                  <a:pt x="10790" y="4390"/>
                </a:cubicBezTo>
                <a:cubicBezTo>
                  <a:pt x="10769" y="4351"/>
                  <a:pt x="10846" y="4366"/>
                  <a:pt x="10864" y="4366"/>
                </a:cubicBezTo>
                <a:cubicBezTo>
                  <a:pt x="10892" y="4366"/>
                  <a:pt x="10947" y="4391"/>
                  <a:pt x="10964" y="4415"/>
                </a:cubicBezTo>
                <a:cubicBezTo>
                  <a:pt x="10971" y="4425"/>
                  <a:pt x="11039" y="4518"/>
                  <a:pt x="11013" y="4539"/>
                </a:cubicBezTo>
                <a:cubicBezTo>
                  <a:pt x="10994" y="4554"/>
                  <a:pt x="10973" y="4592"/>
                  <a:pt x="10939" y="4614"/>
                </a:cubicBezTo>
                <a:cubicBezTo>
                  <a:pt x="10908" y="4633"/>
                  <a:pt x="10847" y="4659"/>
                  <a:pt x="10815" y="4663"/>
                </a:cubicBezTo>
                <a:cubicBezTo>
                  <a:pt x="10790" y="4663"/>
                  <a:pt x="10782" y="4663"/>
                  <a:pt x="10765" y="4663"/>
                </a:cubicBezTo>
              </a:path>
              <a:path w="7641" h="1563">
                <a:moveTo>
                  <a:pt x="11212" y="4787"/>
                </a:moveTo>
                <a:cubicBezTo>
                  <a:pt x="11229" y="4843"/>
                  <a:pt x="11241" y="4890"/>
                  <a:pt x="11261" y="4936"/>
                </a:cubicBezTo>
                <a:cubicBezTo>
                  <a:pt x="11322" y="5078"/>
                  <a:pt x="11399" y="5231"/>
                  <a:pt x="11485" y="5358"/>
                </a:cubicBezTo>
                <a:cubicBezTo>
                  <a:pt x="11500" y="5380"/>
                  <a:pt x="11573" y="5475"/>
                  <a:pt x="11584" y="5482"/>
                </a:cubicBezTo>
                <a:cubicBezTo>
                  <a:pt x="11610" y="5499"/>
                  <a:pt x="11609" y="5513"/>
                  <a:pt x="11609" y="5482"/>
                </a:cubicBezTo>
              </a:path>
              <a:path w="7641" h="1563">
                <a:moveTo>
                  <a:pt x="11509" y="4812"/>
                </a:moveTo>
                <a:cubicBezTo>
                  <a:pt x="11465" y="4894"/>
                  <a:pt x="11420" y="4987"/>
                  <a:pt x="11361" y="5060"/>
                </a:cubicBezTo>
                <a:cubicBezTo>
                  <a:pt x="11302" y="5133"/>
                  <a:pt x="11264" y="5211"/>
                  <a:pt x="11212" y="5283"/>
                </a:cubicBezTo>
                <a:cubicBezTo>
                  <a:pt x="11165" y="5349"/>
                  <a:pt x="11072" y="5398"/>
                  <a:pt x="11013" y="5457"/>
                </a:cubicBezTo>
                <a:cubicBezTo>
                  <a:pt x="10994" y="5476"/>
                  <a:pt x="10942" y="5526"/>
                  <a:pt x="10939" y="5531"/>
                </a:cubicBezTo>
                <a:cubicBezTo>
                  <a:pt x="10911" y="5587"/>
                  <a:pt x="10960" y="5513"/>
                  <a:pt x="10964" y="5507"/>
                </a:cubicBezTo>
              </a:path>
              <a:path w="7641" h="1563">
                <a:moveTo>
                  <a:pt x="11807" y="5110"/>
                </a:moveTo>
                <a:cubicBezTo>
                  <a:pt x="11832" y="5110"/>
                  <a:pt x="11840" y="5110"/>
                  <a:pt x="11832" y="5135"/>
                </a:cubicBezTo>
                <a:cubicBezTo>
                  <a:pt x="11894" y="5104"/>
                  <a:pt x="11956" y="5110"/>
                  <a:pt x="12030" y="5110"/>
                </a:cubicBezTo>
                <a:cubicBezTo>
                  <a:pt x="12094" y="5110"/>
                  <a:pt x="12138" y="5085"/>
                  <a:pt x="12204" y="5085"/>
                </a:cubicBezTo>
                <a:cubicBezTo>
                  <a:pt x="12276" y="5085"/>
                  <a:pt x="12281" y="5077"/>
                  <a:pt x="12278" y="5085"/>
                </a:cubicBezTo>
                <a:cubicBezTo>
                  <a:pt x="12278" y="5093"/>
                  <a:pt x="12278" y="5102"/>
                  <a:pt x="12278" y="5110"/>
                </a:cubicBezTo>
              </a:path>
              <a:path w="7641" h="1563">
                <a:moveTo>
                  <a:pt x="13171" y="4688"/>
                </a:moveTo>
                <a:cubicBezTo>
                  <a:pt x="13103" y="4688"/>
                  <a:pt x="13086" y="4697"/>
                  <a:pt x="13022" y="4713"/>
                </a:cubicBezTo>
                <a:cubicBezTo>
                  <a:pt x="12976" y="4725"/>
                  <a:pt x="12893" y="4762"/>
                  <a:pt x="12849" y="4787"/>
                </a:cubicBezTo>
                <a:cubicBezTo>
                  <a:pt x="12816" y="4806"/>
                  <a:pt x="12787" y="4824"/>
                  <a:pt x="12774" y="4862"/>
                </a:cubicBezTo>
                <a:cubicBezTo>
                  <a:pt x="12761" y="4902"/>
                  <a:pt x="12791" y="4925"/>
                  <a:pt x="12824" y="4936"/>
                </a:cubicBezTo>
                <a:cubicBezTo>
                  <a:pt x="12870" y="4951"/>
                  <a:pt x="12924" y="4971"/>
                  <a:pt x="12973" y="4986"/>
                </a:cubicBezTo>
                <a:cubicBezTo>
                  <a:pt x="13014" y="4999"/>
                  <a:pt x="13092" y="5024"/>
                  <a:pt x="13122" y="5060"/>
                </a:cubicBezTo>
                <a:cubicBezTo>
                  <a:pt x="13167" y="5114"/>
                  <a:pt x="13217" y="5137"/>
                  <a:pt x="13221" y="5209"/>
                </a:cubicBezTo>
                <a:cubicBezTo>
                  <a:pt x="13224" y="5268"/>
                  <a:pt x="13232" y="5339"/>
                  <a:pt x="13196" y="5383"/>
                </a:cubicBezTo>
                <a:cubicBezTo>
                  <a:pt x="13162" y="5424"/>
                  <a:pt x="13094" y="5457"/>
                  <a:pt x="13047" y="5482"/>
                </a:cubicBezTo>
                <a:cubicBezTo>
                  <a:pt x="12994" y="5510"/>
                  <a:pt x="12955" y="5507"/>
                  <a:pt x="12898" y="5507"/>
                </a:cubicBezTo>
                <a:cubicBezTo>
                  <a:pt x="12858" y="5507"/>
                  <a:pt x="12818" y="5501"/>
                  <a:pt x="12799" y="5457"/>
                </a:cubicBezTo>
                <a:cubicBezTo>
                  <a:pt x="12782" y="5418"/>
                  <a:pt x="12772" y="5421"/>
                  <a:pt x="12799" y="5407"/>
                </a:cubicBezTo>
              </a:path>
              <a:path w="7641" h="1563">
                <a:moveTo>
                  <a:pt x="13444" y="4911"/>
                </a:moveTo>
                <a:cubicBezTo>
                  <a:pt x="13414" y="4981"/>
                  <a:pt x="13419" y="5029"/>
                  <a:pt x="13419" y="5110"/>
                </a:cubicBezTo>
                <a:cubicBezTo>
                  <a:pt x="13419" y="5259"/>
                  <a:pt x="13419" y="5407"/>
                  <a:pt x="13419" y="5556"/>
                </a:cubicBezTo>
                <a:cubicBezTo>
                  <a:pt x="13407" y="5509"/>
                  <a:pt x="13408" y="5459"/>
                  <a:pt x="13395" y="5407"/>
                </a:cubicBezTo>
                <a:cubicBezTo>
                  <a:pt x="13387" y="5382"/>
                  <a:pt x="13378" y="5358"/>
                  <a:pt x="13370" y="5333"/>
                </a:cubicBezTo>
              </a:path>
              <a:path w="7641" h="1563">
                <a:moveTo>
                  <a:pt x="13494" y="4638"/>
                </a:moveTo>
                <a:cubicBezTo>
                  <a:pt x="13502" y="4622"/>
                  <a:pt x="13511" y="4605"/>
                  <a:pt x="13519" y="4589"/>
                </a:cubicBezTo>
              </a:path>
              <a:path w="7641" h="1563">
                <a:moveTo>
                  <a:pt x="13618" y="5110"/>
                </a:moveTo>
                <a:cubicBezTo>
                  <a:pt x="13615" y="5173"/>
                  <a:pt x="13622" y="5387"/>
                  <a:pt x="13593" y="5457"/>
                </a:cubicBezTo>
                <a:cubicBezTo>
                  <a:pt x="13585" y="5465"/>
                  <a:pt x="13576" y="5474"/>
                  <a:pt x="13568" y="5482"/>
                </a:cubicBezTo>
                <a:cubicBezTo>
                  <a:pt x="13568" y="5549"/>
                  <a:pt x="13568" y="5443"/>
                  <a:pt x="13568" y="5432"/>
                </a:cubicBezTo>
                <a:cubicBezTo>
                  <a:pt x="13568" y="5391"/>
                  <a:pt x="13571" y="5298"/>
                  <a:pt x="13568" y="5283"/>
                </a:cubicBezTo>
                <a:cubicBezTo>
                  <a:pt x="13556" y="5225"/>
                  <a:pt x="13547" y="5149"/>
                  <a:pt x="13568" y="5085"/>
                </a:cubicBezTo>
                <a:cubicBezTo>
                  <a:pt x="13588" y="5027"/>
                  <a:pt x="13626" y="4956"/>
                  <a:pt x="13667" y="4911"/>
                </a:cubicBezTo>
                <a:cubicBezTo>
                  <a:pt x="13704" y="4870"/>
                  <a:pt x="13761" y="4824"/>
                  <a:pt x="13816" y="4812"/>
                </a:cubicBezTo>
                <a:cubicBezTo>
                  <a:pt x="13872" y="4800"/>
                  <a:pt x="13982" y="4864"/>
                  <a:pt x="14015" y="4911"/>
                </a:cubicBezTo>
                <a:cubicBezTo>
                  <a:pt x="14053" y="4965"/>
                  <a:pt x="14084" y="5025"/>
                  <a:pt x="14114" y="5085"/>
                </a:cubicBezTo>
                <a:cubicBezTo>
                  <a:pt x="14138" y="5132"/>
                  <a:pt x="14178" y="5282"/>
                  <a:pt x="14163" y="5333"/>
                </a:cubicBezTo>
                <a:cubicBezTo>
                  <a:pt x="14151" y="5375"/>
                  <a:pt x="14139" y="5406"/>
                  <a:pt x="14139" y="5457"/>
                </a:cubicBezTo>
                <a:cubicBezTo>
                  <a:pt x="14139" y="5524"/>
                  <a:pt x="14139" y="5440"/>
                  <a:pt x="14139" y="5432"/>
                </a:cubicBezTo>
              </a:path>
              <a:path w="7641" h="1563">
                <a:moveTo>
                  <a:pt x="14362" y="4961"/>
                </a:moveTo>
                <a:cubicBezTo>
                  <a:pt x="14403" y="5029"/>
                  <a:pt x="14425" y="5088"/>
                  <a:pt x="14461" y="5159"/>
                </a:cubicBezTo>
                <a:cubicBezTo>
                  <a:pt x="14496" y="5230"/>
                  <a:pt x="14554" y="5277"/>
                  <a:pt x="14610" y="5333"/>
                </a:cubicBezTo>
                <a:cubicBezTo>
                  <a:pt x="14667" y="5390"/>
                  <a:pt x="14714" y="5443"/>
                  <a:pt x="14784" y="5482"/>
                </a:cubicBezTo>
                <a:cubicBezTo>
                  <a:pt x="14797" y="5489"/>
                  <a:pt x="14885" y="5559"/>
                  <a:pt x="14908" y="5531"/>
                </a:cubicBezTo>
                <a:cubicBezTo>
                  <a:pt x="14908" y="5523"/>
                  <a:pt x="14908" y="5515"/>
                  <a:pt x="14908" y="5507"/>
                </a:cubicBezTo>
              </a:path>
              <a:path w="7641" h="1563">
                <a:moveTo>
                  <a:pt x="14734" y="4911"/>
                </a:moveTo>
                <a:cubicBezTo>
                  <a:pt x="14676" y="5052"/>
                  <a:pt x="14611" y="5177"/>
                  <a:pt x="14536" y="5308"/>
                </a:cubicBezTo>
                <a:cubicBezTo>
                  <a:pt x="14494" y="5382"/>
                  <a:pt x="14434" y="5437"/>
                  <a:pt x="14387" y="5507"/>
                </a:cubicBezTo>
                <a:cubicBezTo>
                  <a:pt x="14349" y="5565"/>
                  <a:pt x="14286" y="5585"/>
                  <a:pt x="14263" y="5655"/>
                </a:cubicBezTo>
                <a:cubicBezTo>
                  <a:pt x="14245" y="5708"/>
                  <a:pt x="14263" y="5628"/>
                  <a:pt x="14263" y="5606"/>
                </a:cubicBezTo>
              </a:path>
              <a:path w="7641" h="1563">
                <a:moveTo>
                  <a:pt x="15106" y="5035"/>
                </a:moveTo>
                <a:cubicBezTo>
                  <a:pt x="15259" y="5035"/>
                  <a:pt x="15407" y="5035"/>
                  <a:pt x="15553" y="5011"/>
                </a:cubicBezTo>
                <a:cubicBezTo>
                  <a:pt x="15591" y="5005"/>
                  <a:pt x="15638" y="5011"/>
                  <a:pt x="15677" y="5011"/>
                </a:cubicBezTo>
                <a:cubicBezTo>
                  <a:pt x="15664" y="4971"/>
                  <a:pt x="15658" y="4986"/>
                  <a:pt x="15602" y="4986"/>
                </a:cubicBezTo>
              </a:path>
              <a:path w="7641" h="1563">
                <a:moveTo>
                  <a:pt x="15106" y="5259"/>
                </a:moveTo>
                <a:cubicBezTo>
                  <a:pt x="15194" y="5259"/>
                  <a:pt x="15631" y="5298"/>
                  <a:pt x="15652" y="5234"/>
                </a:cubicBezTo>
              </a:path>
              <a:path w="7641" h="1563">
                <a:moveTo>
                  <a:pt x="16173" y="4787"/>
                </a:moveTo>
                <a:cubicBezTo>
                  <a:pt x="16167" y="4843"/>
                  <a:pt x="16134" y="4890"/>
                  <a:pt x="16123" y="4936"/>
                </a:cubicBezTo>
                <a:cubicBezTo>
                  <a:pt x="16106" y="5002"/>
                  <a:pt x="16098" y="5064"/>
                  <a:pt x="16098" y="5135"/>
                </a:cubicBezTo>
                <a:cubicBezTo>
                  <a:pt x="16098" y="5202"/>
                  <a:pt x="16113" y="5247"/>
                  <a:pt x="16123" y="5308"/>
                </a:cubicBezTo>
                <a:cubicBezTo>
                  <a:pt x="16132" y="5360"/>
                  <a:pt x="16147" y="5421"/>
                  <a:pt x="16197" y="5457"/>
                </a:cubicBezTo>
                <a:cubicBezTo>
                  <a:pt x="16253" y="5497"/>
                  <a:pt x="16302" y="5527"/>
                  <a:pt x="16371" y="5531"/>
                </a:cubicBezTo>
                <a:cubicBezTo>
                  <a:pt x="16436" y="5534"/>
                  <a:pt x="16511" y="5527"/>
                  <a:pt x="16570" y="5507"/>
                </a:cubicBezTo>
                <a:cubicBezTo>
                  <a:pt x="16651" y="5480"/>
                  <a:pt x="16686" y="5428"/>
                  <a:pt x="16743" y="5383"/>
                </a:cubicBezTo>
                <a:cubicBezTo>
                  <a:pt x="16817" y="5324"/>
                  <a:pt x="16862" y="5257"/>
                  <a:pt x="16867" y="5159"/>
                </a:cubicBezTo>
                <a:cubicBezTo>
                  <a:pt x="16871" y="5087"/>
                  <a:pt x="16863" y="5003"/>
                  <a:pt x="16842" y="4936"/>
                </a:cubicBezTo>
                <a:cubicBezTo>
                  <a:pt x="16819" y="4860"/>
                  <a:pt x="16770" y="4795"/>
                  <a:pt x="16718" y="4738"/>
                </a:cubicBezTo>
                <a:cubicBezTo>
                  <a:pt x="16681" y="4698"/>
                  <a:pt x="16629" y="4624"/>
                  <a:pt x="16570" y="4614"/>
                </a:cubicBezTo>
                <a:cubicBezTo>
                  <a:pt x="16497" y="4601"/>
                  <a:pt x="16447" y="4589"/>
                  <a:pt x="16371" y="4589"/>
                </a:cubicBezTo>
                <a:cubicBezTo>
                  <a:pt x="16314" y="4589"/>
                  <a:pt x="16290" y="4581"/>
                  <a:pt x="16247" y="4614"/>
                </a:cubicBezTo>
                <a:cubicBezTo>
                  <a:pt x="16210" y="4643"/>
                  <a:pt x="16228" y="4649"/>
                  <a:pt x="16222" y="46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43160" y="1938240"/>
            <a:ext cx="3054600" cy="2222640"/>
          </a:xfrm>
          <a:custGeom>
            <a:avLst/>
            <a:gdLst/>
            <a:ahLst/>
            <a:rect l="l" t="t" r="r" b="b"/>
            <a:pathLst>
              <a:path w="8484" h="6177">
                <a:moveTo>
                  <a:pt x="17214" y="11534"/>
                </a:moveTo>
                <a:cubicBezTo>
                  <a:pt x="17148" y="11546"/>
                  <a:pt x="17072" y="11566"/>
                  <a:pt x="16991" y="11559"/>
                </a:cubicBezTo>
                <a:cubicBezTo>
                  <a:pt x="16871" y="11548"/>
                  <a:pt x="16738" y="11531"/>
                  <a:pt x="16619" y="11509"/>
                </a:cubicBezTo>
                <a:cubicBezTo>
                  <a:pt x="16479" y="11483"/>
                  <a:pt x="16338" y="11480"/>
                  <a:pt x="16197" y="11460"/>
                </a:cubicBezTo>
                <a:cubicBezTo>
                  <a:pt x="16023" y="11435"/>
                  <a:pt x="15853" y="11414"/>
                  <a:pt x="15677" y="11410"/>
                </a:cubicBezTo>
                <a:cubicBezTo>
                  <a:pt x="15499" y="11406"/>
                  <a:pt x="15309" y="11403"/>
                  <a:pt x="15131" y="11385"/>
                </a:cubicBezTo>
                <a:cubicBezTo>
                  <a:pt x="14884" y="11361"/>
                  <a:pt x="14635" y="11380"/>
                  <a:pt x="14387" y="11361"/>
                </a:cubicBezTo>
                <a:cubicBezTo>
                  <a:pt x="14170" y="11344"/>
                  <a:pt x="13960" y="11336"/>
                  <a:pt x="13742" y="11336"/>
                </a:cubicBezTo>
                <a:cubicBezTo>
                  <a:pt x="13525" y="11336"/>
                  <a:pt x="13313" y="11315"/>
                  <a:pt x="13097" y="11311"/>
                </a:cubicBezTo>
                <a:cubicBezTo>
                  <a:pt x="12719" y="11303"/>
                  <a:pt x="12149" y="11311"/>
                  <a:pt x="11857" y="11311"/>
                </a:cubicBezTo>
              </a:path>
              <a:path w="8484" h="6177">
                <a:moveTo>
                  <a:pt x="8806" y="5556"/>
                </a:moveTo>
                <a:cubicBezTo>
                  <a:pt x="8793" y="5609"/>
                  <a:pt x="8793" y="5650"/>
                  <a:pt x="8781" y="5705"/>
                </a:cubicBezTo>
                <a:cubicBezTo>
                  <a:pt x="8772" y="5744"/>
                  <a:pt x="8737" y="5807"/>
                  <a:pt x="8731" y="5854"/>
                </a:cubicBezTo>
                <a:cubicBezTo>
                  <a:pt x="8724" y="5910"/>
                  <a:pt x="8731" y="5972"/>
                  <a:pt x="8731" y="6028"/>
                </a:cubicBezTo>
                <a:cubicBezTo>
                  <a:pt x="8807" y="6023"/>
                  <a:pt x="8854" y="6022"/>
                  <a:pt x="8930" y="6003"/>
                </a:cubicBezTo>
                <a:cubicBezTo>
                  <a:pt x="9003" y="5985"/>
                  <a:pt x="9078" y="5992"/>
                  <a:pt x="9153" y="5978"/>
                </a:cubicBezTo>
                <a:cubicBezTo>
                  <a:pt x="9270" y="5956"/>
                  <a:pt x="9380" y="5931"/>
                  <a:pt x="9500" y="5928"/>
                </a:cubicBezTo>
                <a:cubicBezTo>
                  <a:pt x="9634" y="5924"/>
                  <a:pt x="9760" y="5904"/>
                  <a:pt x="9897" y="5904"/>
                </a:cubicBezTo>
                <a:cubicBezTo>
                  <a:pt x="10048" y="5904"/>
                  <a:pt x="10191" y="5879"/>
                  <a:pt x="10344" y="5879"/>
                </a:cubicBezTo>
                <a:cubicBezTo>
                  <a:pt x="10486" y="5879"/>
                  <a:pt x="10622" y="5854"/>
                  <a:pt x="10765" y="5854"/>
                </a:cubicBezTo>
                <a:cubicBezTo>
                  <a:pt x="10886" y="5854"/>
                  <a:pt x="10994" y="5841"/>
                  <a:pt x="11112" y="5829"/>
                </a:cubicBezTo>
                <a:cubicBezTo>
                  <a:pt x="11200" y="5820"/>
                  <a:pt x="11294" y="5851"/>
                  <a:pt x="11385" y="5854"/>
                </a:cubicBezTo>
                <a:cubicBezTo>
                  <a:pt x="11472" y="5857"/>
                  <a:pt x="11612" y="5873"/>
                  <a:pt x="11658" y="5829"/>
                </a:cubicBezTo>
                <a:cubicBezTo>
                  <a:pt x="11686" y="5803"/>
                  <a:pt x="11679" y="5809"/>
                  <a:pt x="11683" y="5755"/>
                </a:cubicBezTo>
                <a:cubicBezTo>
                  <a:pt x="11691" y="5656"/>
                  <a:pt x="11692" y="5541"/>
                  <a:pt x="11658" y="5457"/>
                </a:cubicBezTo>
                <a:cubicBezTo>
                  <a:pt x="11648" y="5432"/>
                  <a:pt x="11637" y="5415"/>
                  <a:pt x="11633" y="5407"/>
                </a:cubicBezTo>
              </a:path>
              <a:path w="8484" h="6177">
                <a:moveTo>
                  <a:pt x="12551" y="5383"/>
                </a:moveTo>
                <a:cubicBezTo>
                  <a:pt x="12530" y="5437"/>
                  <a:pt x="12528" y="5452"/>
                  <a:pt x="12526" y="5507"/>
                </a:cubicBezTo>
                <a:cubicBezTo>
                  <a:pt x="12522" y="5603"/>
                  <a:pt x="12506" y="5773"/>
                  <a:pt x="12551" y="5829"/>
                </a:cubicBezTo>
                <a:cubicBezTo>
                  <a:pt x="12575" y="5859"/>
                  <a:pt x="12573" y="5851"/>
                  <a:pt x="12626" y="5854"/>
                </a:cubicBezTo>
                <a:cubicBezTo>
                  <a:pt x="12723" y="5860"/>
                  <a:pt x="12806" y="5840"/>
                  <a:pt x="12898" y="5829"/>
                </a:cubicBezTo>
                <a:cubicBezTo>
                  <a:pt x="13102" y="5805"/>
                  <a:pt x="13320" y="5838"/>
                  <a:pt x="13519" y="5854"/>
                </a:cubicBezTo>
                <a:cubicBezTo>
                  <a:pt x="13661" y="5865"/>
                  <a:pt x="13800" y="5865"/>
                  <a:pt x="13940" y="5879"/>
                </a:cubicBezTo>
                <a:cubicBezTo>
                  <a:pt x="14082" y="5893"/>
                  <a:pt x="14222" y="5884"/>
                  <a:pt x="14362" y="5904"/>
                </a:cubicBezTo>
                <a:cubicBezTo>
                  <a:pt x="14434" y="5914"/>
                  <a:pt x="14481" y="5888"/>
                  <a:pt x="14536" y="5879"/>
                </a:cubicBezTo>
                <a:cubicBezTo>
                  <a:pt x="14586" y="5871"/>
                  <a:pt x="14591" y="5881"/>
                  <a:pt x="14635" y="5854"/>
                </a:cubicBezTo>
                <a:cubicBezTo>
                  <a:pt x="14659" y="5839"/>
                  <a:pt x="14649" y="5812"/>
                  <a:pt x="14660" y="5779"/>
                </a:cubicBezTo>
                <a:cubicBezTo>
                  <a:pt x="14673" y="5742"/>
                  <a:pt x="14700" y="5720"/>
                  <a:pt x="14709" y="5680"/>
                </a:cubicBezTo>
                <a:cubicBezTo>
                  <a:pt x="14719" y="5634"/>
                  <a:pt x="14728" y="5577"/>
                  <a:pt x="14734" y="5531"/>
                </a:cubicBezTo>
                <a:cubicBezTo>
                  <a:pt x="14741" y="5479"/>
                  <a:pt x="14721" y="5477"/>
                  <a:pt x="14709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89160" y="2340000"/>
            <a:ext cx="3144960" cy="534960"/>
          </a:xfrm>
          <a:custGeom>
            <a:avLst/>
            <a:gdLst/>
            <a:ahLst/>
            <a:rect l="l" t="t" r="r" b="b"/>
            <a:pathLst>
              <a:path w="8733" h="1489">
                <a:moveTo>
                  <a:pt x="9103" y="7020"/>
                </a:moveTo>
                <a:cubicBezTo>
                  <a:pt x="9103" y="6974"/>
                  <a:pt x="9106" y="6951"/>
                  <a:pt x="9054" y="6945"/>
                </a:cubicBezTo>
                <a:cubicBezTo>
                  <a:pt x="9019" y="6941"/>
                  <a:pt x="8978" y="6954"/>
                  <a:pt x="8954" y="6970"/>
                </a:cubicBezTo>
                <a:cubicBezTo>
                  <a:pt x="8911" y="6999"/>
                  <a:pt x="8877" y="6988"/>
                  <a:pt x="8830" y="7020"/>
                </a:cubicBezTo>
                <a:cubicBezTo>
                  <a:pt x="8794" y="7044"/>
                  <a:pt x="8791" y="7077"/>
                  <a:pt x="8756" y="7094"/>
                </a:cubicBezTo>
                <a:cubicBezTo>
                  <a:pt x="8750" y="7097"/>
                  <a:pt x="8680" y="7148"/>
                  <a:pt x="8682" y="7169"/>
                </a:cubicBezTo>
                <a:cubicBezTo>
                  <a:pt x="8688" y="7225"/>
                  <a:pt x="8726" y="7201"/>
                  <a:pt x="8756" y="7218"/>
                </a:cubicBezTo>
                <a:cubicBezTo>
                  <a:pt x="8797" y="7241"/>
                  <a:pt x="8813" y="7228"/>
                  <a:pt x="8855" y="7243"/>
                </a:cubicBezTo>
                <a:cubicBezTo>
                  <a:pt x="8904" y="7260"/>
                  <a:pt x="8958" y="7275"/>
                  <a:pt x="9004" y="7293"/>
                </a:cubicBezTo>
                <a:cubicBezTo>
                  <a:pt x="9064" y="7316"/>
                  <a:pt x="9154" y="7385"/>
                  <a:pt x="9178" y="7441"/>
                </a:cubicBezTo>
                <a:cubicBezTo>
                  <a:pt x="9187" y="7463"/>
                  <a:pt x="9229" y="7540"/>
                  <a:pt x="9227" y="7565"/>
                </a:cubicBezTo>
                <a:cubicBezTo>
                  <a:pt x="9220" y="7649"/>
                  <a:pt x="9184" y="7683"/>
                  <a:pt x="9128" y="7739"/>
                </a:cubicBezTo>
                <a:cubicBezTo>
                  <a:pt x="9084" y="7783"/>
                  <a:pt x="9013" y="7803"/>
                  <a:pt x="8954" y="7813"/>
                </a:cubicBezTo>
                <a:cubicBezTo>
                  <a:pt x="8882" y="7825"/>
                  <a:pt x="8825" y="7794"/>
                  <a:pt x="8756" y="7789"/>
                </a:cubicBezTo>
                <a:cubicBezTo>
                  <a:pt x="8693" y="7784"/>
                  <a:pt x="8659" y="7735"/>
                  <a:pt x="8607" y="7714"/>
                </a:cubicBezTo>
                <a:cubicBezTo>
                  <a:pt x="8572" y="7700"/>
                  <a:pt x="8567" y="7678"/>
                  <a:pt x="8607" y="7665"/>
                </a:cubicBezTo>
              </a:path>
              <a:path w="8733" h="1489">
                <a:moveTo>
                  <a:pt x="9451" y="7069"/>
                </a:moveTo>
                <a:cubicBezTo>
                  <a:pt x="9469" y="7132"/>
                  <a:pt x="9490" y="7206"/>
                  <a:pt x="9500" y="7268"/>
                </a:cubicBezTo>
                <a:cubicBezTo>
                  <a:pt x="9512" y="7340"/>
                  <a:pt x="9515" y="7420"/>
                  <a:pt x="9525" y="7491"/>
                </a:cubicBezTo>
                <a:cubicBezTo>
                  <a:pt x="9541" y="7601"/>
                  <a:pt x="9520" y="7708"/>
                  <a:pt x="9500" y="7813"/>
                </a:cubicBezTo>
                <a:cubicBezTo>
                  <a:pt x="9487" y="7882"/>
                  <a:pt x="9475" y="7763"/>
                  <a:pt x="9475" y="7739"/>
                </a:cubicBezTo>
              </a:path>
              <a:path w="8733" h="1489">
                <a:moveTo>
                  <a:pt x="9500" y="6772"/>
                </a:moveTo>
                <a:cubicBezTo>
                  <a:pt x="9492" y="6764"/>
                  <a:pt x="9483" y="6755"/>
                  <a:pt x="9475" y="6747"/>
                </a:cubicBezTo>
              </a:path>
              <a:path w="8733" h="1489">
                <a:moveTo>
                  <a:pt x="9649" y="7491"/>
                </a:moveTo>
                <a:cubicBezTo>
                  <a:pt x="9649" y="7574"/>
                  <a:pt x="9649" y="7656"/>
                  <a:pt x="9649" y="7739"/>
                </a:cubicBezTo>
                <a:cubicBezTo>
                  <a:pt x="9639" y="7700"/>
                  <a:pt x="9624" y="7684"/>
                  <a:pt x="9624" y="7640"/>
                </a:cubicBezTo>
                <a:cubicBezTo>
                  <a:pt x="9624" y="7573"/>
                  <a:pt x="9638" y="7520"/>
                  <a:pt x="9649" y="7466"/>
                </a:cubicBezTo>
                <a:cubicBezTo>
                  <a:pt x="9662" y="7400"/>
                  <a:pt x="9653" y="7332"/>
                  <a:pt x="9674" y="7268"/>
                </a:cubicBezTo>
                <a:cubicBezTo>
                  <a:pt x="9710" y="7161"/>
                  <a:pt x="9763" y="7110"/>
                  <a:pt x="9847" y="7069"/>
                </a:cubicBezTo>
                <a:cubicBezTo>
                  <a:pt x="9897" y="7045"/>
                  <a:pt x="9911" y="7029"/>
                  <a:pt x="9971" y="7069"/>
                </a:cubicBezTo>
                <a:cubicBezTo>
                  <a:pt x="10033" y="7110"/>
                  <a:pt x="10026" y="7159"/>
                  <a:pt x="10046" y="7218"/>
                </a:cubicBezTo>
                <a:cubicBezTo>
                  <a:pt x="10069" y="7287"/>
                  <a:pt x="10108" y="7346"/>
                  <a:pt x="10120" y="7417"/>
                </a:cubicBezTo>
                <a:cubicBezTo>
                  <a:pt x="10132" y="7489"/>
                  <a:pt x="10145" y="7539"/>
                  <a:pt x="10145" y="7615"/>
                </a:cubicBezTo>
                <a:cubicBezTo>
                  <a:pt x="10145" y="7669"/>
                  <a:pt x="10170" y="7675"/>
                  <a:pt x="10170" y="7615"/>
                </a:cubicBezTo>
              </a:path>
              <a:path w="8733" h="1489">
                <a:moveTo>
                  <a:pt x="10319" y="7169"/>
                </a:moveTo>
                <a:cubicBezTo>
                  <a:pt x="10363" y="7212"/>
                  <a:pt x="10366" y="7244"/>
                  <a:pt x="10393" y="7293"/>
                </a:cubicBezTo>
                <a:cubicBezTo>
                  <a:pt x="10428" y="7358"/>
                  <a:pt x="10477" y="7406"/>
                  <a:pt x="10517" y="7466"/>
                </a:cubicBezTo>
                <a:cubicBezTo>
                  <a:pt x="10553" y="7520"/>
                  <a:pt x="10612" y="7627"/>
                  <a:pt x="10666" y="7665"/>
                </a:cubicBezTo>
                <a:cubicBezTo>
                  <a:pt x="10688" y="7680"/>
                  <a:pt x="10759" y="7736"/>
                  <a:pt x="10765" y="7739"/>
                </a:cubicBezTo>
                <a:cubicBezTo>
                  <a:pt x="10798" y="7739"/>
                  <a:pt x="10807" y="7731"/>
                  <a:pt x="10790" y="7689"/>
                </a:cubicBezTo>
              </a:path>
              <a:path w="8733" h="1489">
                <a:moveTo>
                  <a:pt x="10716" y="7193"/>
                </a:moveTo>
                <a:cubicBezTo>
                  <a:pt x="10686" y="7233"/>
                  <a:pt x="10674" y="7274"/>
                  <a:pt x="10641" y="7317"/>
                </a:cubicBezTo>
                <a:cubicBezTo>
                  <a:pt x="10598" y="7373"/>
                  <a:pt x="10561" y="7437"/>
                  <a:pt x="10517" y="7491"/>
                </a:cubicBezTo>
                <a:cubicBezTo>
                  <a:pt x="10464" y="7556"/>
                  <a:pt x="10418" y="7623"/>
                  <a:pt x="10368" y="7689"/>
                </a:cubicBezTo>
                <a:cubicBezTo>
                  <a:pt x="10335" y="7733"/>
                  <a:pt x="10309" y="7774"/>
                  <a:pt x="10269" y="7813"/>
                </a:cubicBezTo>
                <a:cubicBezTo>
                  <a:pt x="10222" y="7860"/>
                  <a:pt x="10234" y="7868"/>
                  <a:pt x="10269" y="7789"/>
                </a:cubicBezTo>
              </a:path>
              <a:path w="8733" h="1489">
                <a:moveTo>
                  <a:pt x="11311" y="6499"/>
                </a:moveTo>
                <a:cubicBezTo>
                  <a:pt x="11300" y="6543"/>
                  <a:pt x="11273" y="6574"/>
                  <a:pt x="11261" y="6623"/>
                </a:cubicBezTo>
                <a:cubicBezTo>
                  <a:pt x="11247" y="6678"/>
                  <a:pt x="11229" y="6744"/>
                  <a:pt x="11212" y="6796"/>
                </a:cubicBezTo>
                <a:cubicBezTo>
                  <a:pt x="11177" y="6901"/>
                  <a:pt x="11104" y="7008"/>
                  <a:pt x="11088" y="7119"/>
                </a:cubicBezTo>
                <a:cubicBezTo>
                  <a:pt x="11074" y="7213"/>
                  <a:pt x="11042" y="7295"/>
                  <a:pt x="11038" y="7392"/>
                </a:cubicBezTo>
                <a:cubicBezTo>
                  <a:pt x="11035" y="7466"/>
                  <a:pt x="11034" y="7574"/>
                  <a:pt x="11063" y="7640"/>
                </a:cubicBezTo>
                <a:cubicBezTo>
                  <a:pt x="11088" y="7699"/>
                  <a:pt x="11142" y="7723"/>
                  <a:pt x="11187" y="7764"/>
                </a:cubicBezTo>
                <a:cubicBezTo>
                  <a:pt x="11219" y="7793"/>
                  <a:pt x="11249" y="7823"/>
                  <a:pt x="11286" y="7838"/>
                </a:cubicBezTo>
                <a:cubicBezTo>
                  <a:pt x="11332" y="7856"/>
                  <a:pt x="11286" y="7838"/>
                  <a:pt x="11261" y="7838"/>
                </a:cubicBezTo>
              </a:path>
              <a:path w="8733" h="1489">
                <a:moveTo>
                  <a:pt x="12030" y="7094"/>
                </a:moveTo>
                <a:cubicBezTo>
                  <a:pt x="12025" y="7080"/>
                  <a:pt x="12005" y="7033"/>
                  <a:pt x="11981" y="7045"/>
                </a:cubicBezTo>
                <a:cubicBezTo>
                  <a:pt x="11928" y="7071"/>
                  <a:pt x="11865" y="7071"/>
                  <a:pt x="11807" y="7094"/>
                </a:cubicBezTo>
                <a:cubicBezTo>
                  <a:pt x="11758" y="7114"/>
                  <a:pt x="11695" y="7140"/>
                  <a:pt x="11658" y="7169"/>
                </a:cubicBezTo>
                <a:cubicBezTo>
                  <a:pt x="11632" y="7189"/>
                  <a:pt x="11612" y="7222"/>
                  <a:pt x="11609" y="7243"/>
                </a:cubicBezTo>
                <a:cubicBezTo>
                  <a:pt x="11604" y="7281"/>
                  <a:pt x="11653" y="7308"/>
                  <a:pt x="11683" y="7317"/>
                </a:cubicBezTo>
                <a:cubicBezTo>
                  <a:pt x="11728" y="7331"/>
                  <a:pt x="11765" y="7345"/>
                  <a:pt x="11807" y="7367"/>
                </a:cubicBezTo>
                <a:cubicBezTo>
                  <a:pt x="11861" y="7396"/>
                  <a:pt x="11905" y="7435"/>
                  <a:pt x="11956" y="7466"/>
                </a:cubicBezTo>
                <a:cubicBezTo>
                  <a:pt x="12021" y="7506"/>
                  <a:pt x="12029" y="7546"/>
                  <a:pt x="12055" y="7615"/>
                </a:cubicBezTo>
                <a:cubicBezTo>
                  <a:pt x="12079" y="7679"/>
                  <a:pt x="12089" y="7713"/>
                  <a:pt x="12055" y="7764"/>
                </a:cubicBezTo>
                <a:cubicBezTo>
                  <a:pt x="12019" y="7818"/>
                  <a:pt x="11962" y="7813"/>
                  <a:pt x="11906" y="7813"/>
                </a:cubicBezTo>
                <a:cubicBezTo>
                  <a:pt x="11822" y="7813"/>
                  <a:pt x="11755" y="7810"/>
                  <a:pt x="11683" y="7789"/>
                </a:cubicBezTo>
                <a:cubicBezTo>
                  <a:pt x="11634" y="7775"/>
                  <a:pt x="11633" y="7766"/>
                  <a:pt x="11633" y="7714"/>
                </a:cubicBezTo>
              </a:path>
              <a:path w="8733" h="1489">
                <a:moveTo>
                  <a:pt x="12303" y="7193"/>
                </a:moveTo>
                <a:cubicBezTo>
                  <a:pt x="12303" y="7260"/>
                  <a:pt x="12289" y="7281"/>
                  <a:pt x="12278" y="7342"/>
                </a:cubicBezTo>
                <a:cubicBezTo>
                  <a:pt x="12262" y="7430"/>
                  <a:pt x="12290" y="7510"/>
                  <a:pt x="12303" y="7590"/>
                </a:cubicBezTo>
                <a:cubicBezTo>
                  <a:pt x="12312" y="7642"/>
                  <a:pt x="12319" y="7696"/>
                  <a:pt x="12328" y="7739"/>
                </a:cubicBezTo>
                <a:cubicBezTo>
                  <a:pt x="12340" y="7797"/>
                  <a:pt x="12320" y="7722"/>
                  <a:pt x="12303" y="7665"/>
                </a:cubicBezTo>
              </a:path>
              <a:path w="8733" h="1489">
                <a:moveTo>
                  <a:pt x="12303" y="6896"/>
                </a:moveTo>
                <a:cubicBezTo>
                  <a:pt x="12311" y="6888"/>
                  <a:pt x="12320" y="6879"/>
                  <a:pt x="12328" y="6871"/>
                </a:cubicBezTo>
              </a:path>
              <a:path w="8733" h="1489">
                <a:moveTo>
                  <a:pt x="12502" y="7342"/>
                </a:moveTo>
                <a:cubicBezTo>
                  <a:pt x="12502" y="7478"/>
                  <a:pt x="12498" y="7588"/>
                  <a:pt x="12526" y="7714"/>
                </a:cubicBezTo>
                <a:cubicBezTo>
                  <a:pt x="12526" y="7742"/>
                  <a:pt x="12524" y="7753"/>
                  <a:pt x="12502" y="7764"/>
                </a:cubicBezTo>
                <a:cubicBezTo>
                  <a:pt x="12502" y="7827"/>
                  <a:pt x="12502" y="7709"/>
                  <a:pt x="12502" y="7689"/>
                </a:cubicBezTo>
                <a:cubicBezTo>
                  <a:pt x="12502" y="7552"/>
                  <a:pt x="12519" y="7472"/>
                  <a:pt x="12551" y="7342"/>
                </a:cubicBezTo>
                <a:cubicBezTo>
                  <a:pt x="12563" y="7295"/>
                  <a:pt x="12583" y="7230"/>
                  <a:pt x="12626" y="7193"/>
                </a:cubicBezTo>
                <a:cubicBezTo>
                  <a:pt x="12658" y="7166"/>
                  <a:pt x="12760" y="7135"/>
                  <a:pt x="12799" y="7144"/>
                </a:cubicBezTo>
                <a:cubicBezTo>
                  <a:pt x="12880" y="7162"/>
                  <a:pt x="12905" y="7210"/>
                  <a:pt x="12948" y="7268"/>
                </a:cubicBezTo>
                <a:cubicBezTo>
                  <a:pt x="13000" y="7338"/>
                  <a:pt x="13018" y="7377"/>
                  <a:pt x="13022" y="7466"/>
                </a:cubicBezTo>
                <a:cubicBezTo>
                  <a:pt x="13025" y="7537"/>
                  <a:pt x="13047" y="7591"/>
                  <a:pt x="13047" y="7665"/>
                </a:cubicBezTo>
                <a:cubicBezTo>
                  <a:pt x="13047" y="7688"/>
                  <a:pt x="13047" y="7842"/>
                  <a:pt x="13047" y="7789"/>
                </a:cubicBezTo>
                <a:cubicBezTo>
                  <a:pt x="13047" y="7764"/>
                  <a:pt x="13047" y="7739"/>
                  <a:pt x="13047" y="7714"/>
                </a:cubicBezTo>
              </a:path>
              <a:path w="8733" h="1489">
                <a:moveTo>
                  <a:pt x="13097" y="6747"/>
                </a:moveTo>
                <a:cubicBezTo>
                  <a:pt x="13166" y="6712"/>
                  <a:pt x="13219" y="6672"/>
                  <a:pt x="13295" y="6672"/>
                </a:cubicBezTo>
                <a:cubicBezTo>
                  <a:pt x="13358" y="6672"/>
                  <a:pt x="13399" y="6658"/>
                  <a:pt x="13419" y="6722"/>
                </a:cubicBezTo>
                <a:cubicBezTo>
                  <a:pt x="13434" y="6769"/>
                  <a:pt x="13421" y="6856"/>
                  <a:pt x="13395" y="6896"/>
                </a:cubicBezTo>
                <a:cubicBezTo>
                  <a:pt x="13372" y="6931"/>
                  <a:pt x="13339" y="6955"/>
                  <a:pt x="13320" y="6970"/>
                </a:cubicBezTo>
                <a:cubicBezTo>
                  <a:pt x="13284" y="6997"/>
                  <a:pt x="13295" y="7029"/>
                  <a:pt x="13295" y="7069"/>
                </a:cubicBezTo>
                <a:cubicBezTo>
                  <a:pt x="13353" y="7069"/>
                  <a:pt x="13385" y="7087"/>
                  <a:pt x="13444" y="7094"/>
                </a:cubicBezTo>
                <a:cubicBezTo>
                  <a:pt x="13469" y="7094"/>
                  <a:pt x="13494" y="7094"/>
                  <a:pt x="13519" y="7094"/>
                </a:cubicBezTo>
              </a:path>
              <a:path w="8733" h="1489">
                <a:moveTo>
                  <a:pt x="13643" y="7293"/>
                </a:moveTo>
                <a:cubicBezTo>
                  <a:pt x="13669" y="7359"/>
                  <a:pt x="13700" y="7431"/>
                  <a:pt x="13742" y="7491"/>
                </a:cubicBezTo>
                <a:cubicBezTo>
                  <a:pt x="13779" y="7545"/>
                  <a:pt x="13825" y="7615"/>
                  <a:pt x="13866" y="7665"/>
                </a:cubicBezTo>
                <a:cubicBezTo>
                  <a:pt x="13916" y="7725"/>
                  <a:pt x="13984" y="7868"/>
                  <a:pt x="14039" y="7813"/>
                </a:cubicBezTo>
                <a:cubicBezTo>
                  <a:pt x="14039" y="7805"/>
                  <a:pt x="14039" y="7797"/>
                  <a:pt x="14039" y="7789"/>
                </a:cubicBezTo>
              </a:path>
              <a:path w="8733" h="1489">
                <a:moveTo>
                  <a:pt x="13915" y="7218"/>
                </a:moveTo>
                <a:cubicBezTo>
                  <a:pt x="13857" y="7277"/>
                  <a:pt x="13861" y="7315"/>
                  <a:pt x="13816" y="7367"/>
                </a:cubicBezTo>
                <a:cubicBezTo>
                  <a:pt x="13762" y="7430"/>
                  <a:pt x="13741" y="7501"/>
                  <a:pt x="13692" y="7565"/>
                </a:cubicBezTo>
                <a:cubicBezTo>
                  <a:pt x="13648" y="7622"/>
                  <a:pt x="13611" y="7682"/>
                  <a:pt x="13568" y="7739"/>
                </a:cubicBezTo>
                <a:cubicBezTo>
                  <a:pt x="13542" y="7773"/>
                  <a:pt x="13494" y="7805"/>
                  <a:pt x="13469" y="7813"/>
                </a:cubicBezTo>
              </a:path>
              <a:path w="8733" h="1489">
                <a:moveTo>
                  <a:pt x="14188" y="7417"/>
                </a:moveTo>
                <a:cubicBezTo>
                  <a:pt x="14318" y="7417"/>
                  <a:pt x="14446" y="7415"/>
                  <a:pt x="14560" y="7392"/>
                </a:cubicBezTo>
                <a:cubicBezTo>
                  <a:pt x="14605" y="7392"/>
                  <a:pt x="14618" y="7395"/>
                  <a:pt x="14635" y="7367"/>
                </a:cubicBezTo>
              </a:path>
              <a:path w="8733" h="1489">
                <a:moveTo>
                  <a:pt x="14908" y="7045"/>
                </a:moveTo>
                <a:cubicBezTo>
                  <a:pt x="14896" y="7090"/>
                  <a:pt x="14883" y="7115"/>
                  <a:pt x="14883" y="7169"/>
                </a:cubicBezTo>
                <a:cubicBezTo>
                  <a:pt x="14883" y="7252"/>
                  <a:pt x="14861" y="7314"/>
                  <a:pt x="14858" y="7392"/>
                </a:cubicBezTo>
                <a:cubicBezTo>
                  <a:pt x="14854" y="7478"/>
                  <a:pt x="14865" y="7536"/>
                  <a:pt x="14883" y="7615"/>
                </a:cubicBezTo>
                <a:cubicBezTo>
                  <a:pt x="14888" y="7635"/>
                  <a:pt x="14883" y="7796"/>
                  <a:pt x="14883" y="7739"/>
                </a:cubicBezTo>
                <a:cubicBezTo>
                  <a:pt x="14883" y="7714"/>
                  <a:pt x="14883" y="7690"/>
                  <a:pt x="14883" y="7665"/>
                </a:cubicBezTo>
              </a:path>
              <a:path w="8733" h="1489">
                <a:moveTo>
                  <a:pt x="15032" y="6548"/>
                </a:moveTo>
                <a:cubicBezTo>
                  <a:pt x="15088" y="6605"/>
                  <a:pt x="15190" y="6686"/>
                  <a:pt x="15230" y="6747"/>
                </a:cubicBezTo>
                <a:cubicBezTo>
                  <a:pt x="15286" y="6833"/>
                  <a:pt x="15358" y="6951"/>
                  <a:pt x="15404" y="7045"/>
                </a:cubicBezTo>
                <a:cubicBezTo>
                  <a:pt x="15448" y="7135"/>
                  <a:pt x="15489" y="7269"/>
                  <a:pt x="15503" y="7367"/>
                </a:cubicBezTo>
                <a:cubicBezTo>
                  <a:pt x="15513" y="7438"/>
                  <a:pt x="15490" y="7603"/>
                  <a:pt x="15453" y="7665"/>
                </a:cubicBezTo>
                <a:cubicBezTo>
                  <a:pt x="15416" y="7729"/>
                  <a:pt x="15341" y="7819"/>
                  <a:pt x="15280" y="7863"/>
                </a:cubicBezTo>
                <a:cubicBezTo>
                  <a:pt x="15219" y="7907"/>
                  <a:pt x="15193" y="7930"/>
                  <a:pt x="15131" y="7962"/>
                </a:cubicBezTo>
                <a:cubicBezTo>
                  <a:pt x="15018" y="8021"/>
                  <a:pt x="15104" y="7943"/>
                  <a:pt x="15106" y="7938"/>
                </a:cubicBezTo>
              </a:path>
              <a:path w="8733" h="1489">
                <a:moveTo>
                  <a:pt x="15726" y="7169"/>
                </a:moveTo>
                <a:cubicBezTo>
                  <a:pt x="15802" y="7146"/>
                  <a:pt x="15846" y="7144"/>
                  <a:pt x="15925" y="7144"/>
                </a:cubicBezTo>
                <a:cubicBezTo>
                  <a:pt x="15989" y="7144"/>
                  <a:pt x="16033" y="7119"/>
                  <a:pt x="16098" y="7119"/>
                </a:cubicBezTo>
                <a:cubicBezTo>
                  <a:pt x="16157" y="7119"/>
                  <a:pt x="16162" y="7132"/>
                  <a:pt x="16197" y="7144"/>
                </a:cubicBezTo>
              </a:path>
              <a:path w="8733" h="1489">
                <a:moveTo>
                  <a:pt x="15801" y="7441"/>
                </a:moveTo>
                <a:cubicBezTo>
                  <a:pt x="15861" y="7433"/>
                  <a:pt x="15885" y="7417"/>
                  <a:pt x="15949" y="7417"/>
                </a:cubicBezTo>
                <a:cubicBezTo>
                  <a:pt x="15982" y="7417"/>
                  <a:pt x="16016" y="7417"/>
                  <a:pt x="16049" y="7417"/>
                </a:cubicBezTo>
              </a:path>
              <a:path w="8733" h="1489">
                <a:moveTo>
                  <a:pt x="16644" y="6821"/>
                </a:moveTo>
                <a:cubicBezTo>
                  <a:pt x="16637" y="6869"/>
                  <a:pt x="16632" y="6899"/>
                  <a:pt x="16619" y="6945"/>
                </a:cubicBezTo>
                <a:cubicBezTo>
                  <a:pt x="16604" y="7000"/>
                  <a:pt x="16579" y="7063"/>
                  <a:pt x="16570" y="7119"/>
                </a:cubicBezTo>
                <a:cubicBezTo>
                  <a:pt x="16558" y="7193"/>
                  <a:pt x="16529" y="7271"/>
                  <a:pt x="16520" y="7342"/>
                </a:cubicBezTo>
                <a:cubicBezTo>
                  <a:pt x="16509" y="7423"/>
                  <a:pt x="16516" y="7515"/>
                  <a:pt x="16545" y="7590"/>
                </a:cubicBezTo>
                <a:cubicBezTo>
                  <a:pt x="16572" y="7660"/>
                  <a:pt x="16617" y="7696"/>
                  <a:pt x="16669" y="7739"/>
                </a:cubicBezTo>
                <a:cubicBezTo>
                  <a:pt x="16730" y="7790"/>
                  <a:pt x="16865" y="7786"/>
                  <a:pt x="16942" y="7789"/>
                </a:cubicBezTo>
                <a:cubicBezTo>
                  <a:pt x="17060" y="7793"/>
                  <a:pt x="17126" y="7724"/>
                  <a:pt x="17214" y="7665"/>
                </a:cubicBezTo>
                <a:cubicBezTo>
                  <a:pt x="17284" y="7619"/>
                  <a:pt x="17309" y="7551"/>
                  <a:pt x="17314" y="7466"/>
                </a:cubicBezTo>
                <a:cubicBezTo>
                  <a:pt x="17319" y="7380"/>
                  <a:pt x="17320" y="7299"/>
                  <a:pt x="17289" y="7218"/>
                </a:cubicBezTo>
                <a:cubicBezTo>
                  <a:pt x="17253" y="7126"/>
                  <a:pt x="17208" y="7055"/>
                  <a:pt x="17140" y="6995"/>
                </a:cubicBezTo>
                <a:cubicBezTo>
                  <a:pt x="17091" y="6952"/>
                  <a:pt x="17051" y="6905"/>
                  <a:pt x="16991" y="6896"/>
                </a:cubicBezTo>
                <a:cubicBezTo>
                  <a:pt x="16933" y="6887"/>
                  <a:pt x="16910" y="6900"/>
                  <a:pt x="16867" y="6921"/>
                </a:cubicBezTo>
                <a:cubicBezTo>
                  <a:pt x="16851" y="6929"/>
                  <a:pt x="16834" y="6937"/>
                  <a:pt x="16818" y="69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7040" y="3303720"/>
            <a:ext cx="1374840" cy="366480"/>
          </a:xfrm>
          <a:custGeom>
            <a:avLst/>
            <a:gdLst/>
            <a:ahLst/>
            <a:rect l="l" t="t" r="r" b="b"/>
            <a:pathLst>
              <a:path w="3821" h="1018">
                <a:moveTo>
                  <a:pt x="5333" y="9351"/>
                </a:moveTo>
                <a:cubicBezTo>
                  <a:pt x="5283" y="9368"/>
                  <a:pt x="5323" y="9358"/>
                  <a:pt x="5259" y="9351"/>
                </a:cubicBezTo>
                <a:cubicBezTo>
                  <a:pt x="5174" y="9341"/>
                  <a:pt x="5088" y="9348"/>
                  <a:pt x="5011" y="9376"/>
                </a:cubicBezTo>
                <a:cubicBezTo>
                  <a:pt x="4938" y="9403"/>
                  <a:pt x="4899" y="9423"/>
                  <a:pt x="4837" y="9451"/>
                </a:cubicBezTo>
                <a:cubicBezTo>
                  <a:pt x="4808" y="9464"/>
                  <a:pt x="4772" y="9495"/>
                  <a:pt x="4762" y="9500"/>
                </a:cubicBezTo>
                <a:cubicBezTo>
                  <a:pt x="4738" y="9500"/>
                  <a:pt x="4730" y="9500"/>
                  <a:pt x="4738" y="9525"/>
                </a:cubicBezTo>
                <a:cubicBezTo>
                  <a:pt x="4749" y="9560"/>
                  <a:pt x="4786" y="9556"/>
                  <a:pt x="4812" y="9575"/>
                </a:cubicBezTo>
                <a:cubicBezTo>
                  <a:pt x="4861" y="9611"/>
                  <a:pt x="4911" y="9599"/>
                  <a:pt x="4961" y="9624"/>
                </a:cubicBezTo>
                <a:cubicBezTo>
                  <a:pt x="5014" y="9651"/>
                  <a:pt x="5074" y="9669"/>
                  <a:pt x="5135" y="9699"/>
                </a:cubicBezTo>
                <a:cubicBezTo>
                  <a:pt x="5214" y="9738"/>
                  <a:pt x="5225" y="9774"/>
                  <a:pt x="5283" y="9823"/>
                </a:cubicBezTo>
                <a:cubicBezTo>
                  <a:pt x="5316" y="9851"/>
                  <a:pt x="5393" y="9911"/>
                  <a:pt x="5383" y="9971"/>
                </a:cubicBezTo>
                <a:cubicBezTo>
                  <a:pt x="5377" y="10007"/>
                  <a:pt x="5330" y="10057"/>
                  <a:pt x="5308" y="10071"/>
                </a:cubicBezTo>
                <a:cubicBezTo>
                  <a:pt x="5206" y="10135"/>
                  <a:pt x="5134" y="10120"/>
                  <a:pt x="5011" y="10120"/>
                </a:cubicBezTo>
                <a:cubicBezTo>
                  <a:pt x="4928" y="10120"/>
                  <a:pt x="4858" y="10116"/>
                  <a:pt x="4787" y="10096"/>
                </a:cubicBezTo>
                <a:cubicBezTo>
                  <a:pt x="4751" y="10086"/>
                  <a:pt x="4717" y="10080"/>
                  <a:pt x="4713" y="10046"/>
                </a:cubicBezTo>
                <a:cubicBezTo>
                  <a:pt x="4713" y="10038"/>
                  <a:pt x="4713" y="10029"/>
                  <a:pt x="4713" y="10021"/>
                </a:cubicBezTo>
              </a:path>
              <a:path w="3821" h="1018">
                <a:moveTo>
                  <a:pt x="5581" y="9525"/>
                </a:moveTo>
                <a:cubicBezTo>
                  <a:pt x="5607" y="9612"/>
                  <a:pt x="5586" y="9687"/>
                  <a:pt x="5606" y="9773"/>
                </a:cubicBezTo>
                <a:cubicBezTo>
                  <a:pt x="5620" y="9835"/>
                  <a:pt x="5615" y="9910"/>
                  <a:pt x="5631" y="9971"/>
                </a:cubicBezTo>
                <a:cubicBezTo>
                  <a:pt x="5646" y="10026"/>
                  <a:pt x="5655" y="10062"/>
                  <a:pt x="5655" y="10120"/>
                </a:cubicBezTo>
                <a:cubicBezTo>
                  <a:pt x="5655" y="10145"/>
                  <a:pt x="5655" y="10153"/>
                  <a:pt x="5655" y="10170"/>
                </a:cubicBezTo>
                <a:cubicBezTo>
                  <a:pt x="5655" y="10137"/>
                  <a:pt x="5655" y="10104"/>
                  <a:pt x="5655" y="10071"/>
                </a:cubicBezTo>
              </a:path>
              <a:path w="3821" h="1018">
                <a:moveTo>
                  <a:pt x="5705" y="9227"/>
                </a:moveTo>
                <a:cubicBezTo>
                  <a:pt x="5705" y="9203"/>
                  <a:pt x="5705" y="9194"/>
                  <a:pt x="5705" y="9178"/>
                </a:cubicBezTo>
              </a:path>
              <a:path w="3821" h="1018">
                <a:moveTo>
                  <a:pt x="5854" y="9922"/>
                </a:moveTo>
                <a:cubicBezTo>
                  <a:pt x="5854" y="10008"/>
                  <a:pt x="5837" y="10052"/>
                  <a:pt x="5829" y="10120"/>
                </a:cubicBezTo>
                <a:cubicBezTo>
                  <a:pt x="5822" y="10185"/>
                  <a:pt x="5829" y="10084"/>
                  <a:pt x="5829" y="10071"/>
                </a:cubicBezTo>
                <a:cubicBezTo>
                  <a:pt x="5829" y="9982"/>
                  <a:pt x="5840" y="9906"/>
                  <a:pt x="5854" y="9823"/>
                </a:cubicBezTo>
                <a:cubicBezTo>
                  <a:pt x="5865" y="9757"/>
                  <a:pt x="5868" y="9687"/>
                  <a:pt x="5879" y="9624"/>
                </a:cubicBezTo>
                <a:cubicBezTo>
                  <a:pt x="5890" y="9561"/>
                  <a:pt x="5909" y="9504"/>
                  <a:pt x="5953" y="9451"/>
                </a:cubicBezTo>
                <a:cubicBezTo>
                  <a:pt x="5982" y="9416"/>
                  <a:pt x="6027" y="9376"/>
                  <a:pt x="6077" y="9401"/>
                </a:cubicBezTo>
                <a:cubicBezTo>
                  <a:pt x="6108" y="9417"/>
                  <a:pt x="6182" y="9473"/>
                  <a:pt x="6201" y="9500"/>
                </a:cubicBezTo>
                <a:cubicBezTo>
                  <a:pt x="6252" y="9572"/>
                  <a:pt x="6266" y="9622"/>
                  <a:pt x="6300" y="9699"/>
                </a:cubicBezTo>
                <a:cubicBezTo>
                  <a:pt x="6330" y="9766"/>
                  <a:pt x="6347" y="9849"/>
                  <a:pt x="6350" y="9922"/>
                </a:cubicBezTo>
                <a:cubicBezTo>
                  <a:pt x="6352" y="9975"/>
                  <a:pt x="6363" y="10109"/>
                  <a:pt x="6325" y="10071"/>
                </a:cubicBezTo>
                <a:cubicBezTo>
                  <a:pt x="6325" y="10063"/>
                  <a:pt x="6325" y="10054"/>
                  <a:pt x="6325" y="10046"/>
                </a:cubicBezTo>
              </a:path>
              <a:path w="3821" h="1018">
                <a:moveTo>
                  <a:pt x="6524" y="9475"/>
                </a:moveTo>
                <a:cubicBezTo>
                  <a:pt x="6576" y="9493"/>
                  <a:pt x="6524" y="9508"/>
                  <a:pt x="6548" y="9550"/>
                </a:cubicBezTo>
                <a:cubicBezTo>
                  <a:pt x="6578" y="9604"/>
                  <a:pt x="6578" y="9663"/>
                  <a:pt x="6598" y="9723"/>
                </a:cubicBezTo>
                <a:cubicBezTo>
                  <a:pt x="6619" y="9786"/>
                  <a:pt x="6682" y="9893"/>
                  <a:pt x="6722" y="9947"/>
                </a:cubicBezTo>
                <a:cubicBezTo>
                  <a:pt x="6776" y="10019"/>
                  <a:pt x="6826" y="10067"/>
                  <a:pt x="6896" y="10120"/>
                </a:cubicBezTo>
                <a:cubicBezTo>
                  <a:pt x="6934" y="10149"/>
                  <a:pt x="6974" y="10190"/>
                  <a:pt x="7020" y="10195"/>
                </a:cubicBezTo>
                <a:cubicBezTo>
                  <a:pt x="7065" y="10200"/>
                  <a:pt x="7094" y="10184"/>
                  <a:pt x="7119" y="10145"/>
                </a:cubicBezTo>
                <a:cubicBezTo>
                  <a:pt x="7127" y="10129"/>
                  <a:pt x="7136" y="10112"/>
                  <a:pt x="7144" y="10096"/>
                </a:cubicBezTo>
              </a:path>
              <a:path w="3821" h="1018">
                <a:moveTo>
                  <a:pt x="6945" y="9401"/>
                </a:moveTo>
                <a:cubicBezTo>
                  <a:pt x="6880" y="9466"/>
                  <a:pt x="6836" y="9517"/>
                  <a:pt x="6796" y="9599"/>
                </a:cubicBezTo>
                <a:cubicBezTo>
                  <a:pt x="6759" y="9673"/>
                  <a:pt x="6723" y="9758"/>
                  <a:pt x="6672" y="9823"/>
                </a:cubicBezTo>
                <a:cubicBezTo>
                  <a:pt x="6615" y="9895"/>
                  <a:pt x="6580" y="9973"/>
                  <a:pt x="6524" y="10046"/>
                </a:cubicBezTo>
                <a:cubicBezTo>
                  <a:pt x="6491" y="10089"/>
                  <a:pt x="6463" y="10130"/>
                  <a:pt x="6424" y="10170"/>
                </a:cubicBezTo>
                <a:cubicBezTo>
                  <a:pt x="6359" y="10236"/>
                  <a:pt x="6441" y="10153"/>
                  <a:pt x="6449" y="10145"/>
                </a:cubicBezTo>
              </a:path>
              <a:path w="3821" h="1018">
                <a:moveTo>
                  <a:pt x="7144" y="9699"/>
                </a:moveTo>
                <a:cubicBezTo>
                  <a:pt x="7268" y="9699"/>
                  <a:pt x="7392" y="9699"/>
                  <a:pt x="7516" y="9699"/>
                </a:cubicBezTo>
              </a:path>
              <a:path w="3821" h="1018">
                <a:moveTo>
                  <a:pt x="7144" y="9897"/>
                </a:moveTo>
                <a:cubicBezTo>
                  <a:pt x="7231" y="9915"/>
                  <a:pt x="7231" y="9897"/>
                  <a:pt x="7317" y="9897"/>
                </a:cubicBezTo>
                <a:cubicBezTo>
                  <a:pt x="7382" y="9897"/>
                  <a:pt x="7381" y="9898"/>
                  <a:pt x="7441" y="9872"/>
                </a:cubicBezTo>
              </a:path>
              <a:path w="3821" h="1018">
                <a:moveTo>
                  <a:pt x="8062" y="9475"/>
                </a:moveTo>
                <a:cubicBezTo>
                  <a:pt x="8037" y="9526"/>
                  <a:pt x="8007" y="9578"/>
                  <a:pt x="7987" y="9624"/>
                </a:cubicBezTo>
                <a:cubicBezTo>
                  <a:pt x="7955" y="9699"/>
                  <a:pt x="7958" y="9750"/>
                  <a:pt x="7938" y="9823"/>
                </a:cubicBezTo>
                <a:cubicBezTo>
                  <a:pt x="7918" y="9894"/>
                  <a:pt x="7913" y="9944"/>
                  <a:pt x="7913" y="10021"/>
                </a:cubicBezTo>
                <a:cubicBezTo>
                  <a:pt x="7913" y="10060"/>
                  <a:pt x="7927" y="10121"/>
                  <a:pt x="7962" y="10145"/>
                </a:cubicBezTo>
                <a:cubicBezTo>
                  <a:pt x="8015" y="10182"/>
                  <a:pt x="8075" y="10170"/>
                  <a:pt x="8136" y="10170"/>
                </a:cubicBezTo>
                <a:cubicBezTo>
                  <a:pt x="8199" y="10170"/>
                  <a:pt x="8306" y="10158"/>
                  <a:pt x="8359" y="10120"/>
                </a:cubicBezTo>
                <a:cubicBezTo>
                  <a:pt x="8408" y="10085"/>
                  <a:pt x="8492" y="10006"/>
                  <a:pt x="8508" y="9947"/>
                </a:cubicBezTo>
                <a:cubicBezTo>
                  <a:pt x="8528" y="9874"/>
                  <a:pt x="8532" y="9797"/>
                  <a:pt x="8508" y="9723"/>
                </a:cubicBezTo>
                <a:cubicBezTo>
                  <a:pt x="8480" y="9637"/>
                  <a:pt x="8404" y="9554"/>
                  <a:pt x="8334" y="9500"/>
                </a:cubicBezTo>
                <a:cubicBezTo>
                  <a:pt x="8291" y="9467"/>
                  <a:pt x="8213" y="9431"/>
                  <a:pt x="8161" y="9426"/>
                </a:cubicBezTo>
                <a:cubicBezTo>
                  <a:pt x="8129" y="9423"/>
                  <a:pt x="8094" y="9426"/>
                  <a:pt x="8062" y="94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8960" y="3205080"/>
            <a:ext cx="1911240" cy="839880"/>
          </a:xfrm>
          <a:custGeom>
            <a:avLst/>
            <a:gdLst/>
            <a:ahLst/>
            <a:rect l="l" t="t" r="r" b="b"/>
            <a:pathLst>
              <a:path w="5310" h="2333">
                <a:moveTo>
                  <a:pt x="12080" y="9302"/>
                </a:moveTo>
                <a:cubicBezTo>
                  <a:pt x="12080" y="9330"/>
                  <a:pt x="12078" y="9341"/>
                  <a:pt x="12055" y="9351"/>
                </a:cubicBezTo>
                <a:cubicBezTo>
                  <a:pt x="12019" y="9340"/>
                  <a:pt x="12026" y="9297"/>
                  <a:pt x="11981" y="9277"/>
                </a:cubicBezTo>
                <a:cubicBezTo>
                  <a:pt x="11892" y="9237"/>
                  <a:pt x="11779" y="9307"/>
                  <a:pt x="11708" y="9327"/>
                </a:cubicBezTo>
                <a:cubicBezTo>
                  <a:pt x="11643" y="9346"/>
                  <a:pt x="11635" y="9350"/>
                  <a:pt x="11584" y="9401"/>
                </a:cubicBezTo>
                <a:cubicBezTo>
                  <a:pt x="11548" y="9438"/>
                  <a:pt x="11547" y="9411"/>
                  <a:pt x="11534" y="9451"/>
                </a:cubicBezTo>
                <a:cubicBezTo>
                  <a:pt x="11547" y="9488"/>
                  <a:pt x="11557" y="9480"/>
                  <a:pt x="11584" y="9500"/>
                </a:cubicBezTo>
                <a:cubicBezTo>
                  <a:pt x="11644" y="9545"/>
                  <a:pt x="11696" y="9538"/>
                  <a:pt x="11757" y="9575"/>
                </a:cubicBezTo>
                <a:cubicBezTo>
                  <a:pt x="11802" y="9602"/>
                  <a:pt x="11896" y="9637"/>
                  <a:pt x="11931" y="9674"/>
                </a:cubicBezTo>
                <a:cubicBezTo>
                  <a:pt x="11983" y="9729"/>
                  <a:pt x="12005" y="9799"/>
                  <a:pt x="12005" y="9872"/>
                </a:cubicBezTo>
                <a:cubicBezTo>
                  <a:pt x="12005" y="9939"/>
                  <a:pt x="12011" y="9947"/>
                  <a:pt x="11956" y="9971"/>
                </a:cubicBezTo>
                <a:cubicBezTo>
                  <a:pt x="11886" y="10001"/>
                  <a:pt x="11857" y="10021"/>
                  <a:pt x="11782" y="10021"/>
                </a:cubicBezTo>
                <a:cubicBezTo>
                  <a:pt x="11706" y="10021"/>
                  <a:pt x="11629" y="10019"/>
                  <a:pt x="11559" y="9996"/>
                </a:cubicBezTo>
                <a:cubicBezTo>
                  <a:pt x="11513" y="9981"/>
                  <a:pt x="11443" y="9948"/>
                  <a:pt x="11410" y="9922"/>
                </a:cubicBezTo>
                <a:cubicBezTo>
                  <a:pt x="11387" y="9899"/>
                  <a:pt x="11379" y="9895"/>
                  <a:pt x="11385" y="9872"/>
                </a:cubicBezTo>
              </a:path>
              <a:path w="5310" h="2333">
                <a:moveTo>
                  <a:pt x="12229" y="9451"/>
                </a:moveTo>
                <a:cubicBezTo>
                  <a:pt x="12229" y="9603"/>
                  <a:pt x="12231" y="9752"/>
                  <a:pt x="12254" y="9897"/>
                </a:cubicBezTo>
                <a:cubicBezTo>
                  <a:pt x="12257" y="9916"/>
                  <a:pt x="12254" y="10080"/>
                  <a:pt x="12254" y="10021"/>
                </a:cubicBezTo>
                <a:cubicBezTo>
                  <a:pt x="12254" y="9980"/>
                  <a:pt x="12254" y="9972"/>
                  <a:pt x="12254" y="9947"/>
                </a:cubicBezTo>
              </a:path>
              <a:path w="5310" h="2333">
                <a:moveTo>
                  <a:pt x="12278" y="9128"/>
                </a:moveTo>
                <a:cubicBezTo>
                  <a:pt x="12303" y="9103"/>
                  <a:pt x="12311" y="9095"/>
                  <a:pt x="12328" y="9079"/>
                </a:cubicBezTo>
              </a:path>
              <a:path w="5310" h="2333">
                <a:moveTo>
                  <a:pt x="12452" y="9723"/>
                </a:moveTo>
                <a:cubicBezTo>
                  <a:pt x="12452" y="9831"/>
                  <a:pt x="12452" y="9938"/>
                  <a:pt x="12452" y="10046"/>
                </a:cubicBezTo>
                <a:cubicBezTo>
                  <a:pt x="12452" y="10109"/>
                  <a:pt x="12452" y="9991"/>
                  <a:pt x="12452" y="9971"/>
                </a:cubicBezTo>
                <a:cubicBezTo>
                  <a:pt x="12452" y="9849"/>
                  <a:pt x="12458" y="9738"/>
                  <a:pt x="12477" y="9624"/>
                </a:cubicBezTo>
                <a:cubicBezTo>
                  <a:pt x="12489" y="9555"/>
                  <a:pt x="12502" y="9505"/>
                  <a:pt x="12551" y="9451"/>
                </a:cubicBezTo>
                <a:cubicBezTo>
                  <a:pt x="12586" y="9412"/>
                  <a:pt x="12624" y="9368"/>
                  <a:pt x="12675" y="9351"/>
                </a:cubicBezTo>
                <a:cubicBezTo>
                  <a:pt x="12734" y="9331"/>
                  <a:pt x="12762" y="9364"/>
                  <a:pt x="12799" y="9401"/>
                </a:cubicBezTo>
                <a:cubicBezTo>
                  <a:pt x="12848" y="9451"/>
                  <a:pt x="12907" y="9502"/>
                  <a:pt x="12923" y="9575"/>
                </a:cubicBezTo>
                <a:cubicBezTo>
                  <a:pt x="12940" y="9653"/>
                  <a:pt x="12961" y="9743"/>
                  <a:pt x="12973" y="9823"/>
                </a:cubicBezTo>
                <a:cubicBezTo>
                  <a:pt x="12984" y="9897"/>
                  <a:pt x="12964" y="10157"/>
                  <a:pt x="12973" y="10145"/>
                </a:cubicBezTo>
                <a:cubicBezTo>
                  <a:pt x="12999" y="10109"/>
                  <a:pt x="12998" y="10115"/>
                  <a:pt x="12998" y="10071"/>
                </a:cubicBezTo>
              </a:path>
              <a:path w="5310" h="2333">
                <a:moveTo>
                  <a:pt x="13097" y="8930"/>
                </a:moveTo>
                <a:cubicBezTo>
                  <a:pt x="13153" y="8909"/>
                  <a:pt x="13187" y="8905"/>
                  <a:pt x="13246" y="8905"/>
                </a:cubicBezTo>
                <a:cubicBezTo>
                  <a:pt x="13324" y="8905"/>
                  <a:pt x="13350" y="8936"/>
                  <a:pt x="13370" y="9004"/>
                </a:cubicBezTo>
                <a:cubicBezTo>
                  <a:pt x="13385" y="9057"/>
                  <a:pt x="13344" y="9089"/>
                  <a:pt x="13320" y="9128"/>
                </a:cubicBezTo>
                <a:cubicBezTo>
                  <a:pt x="13290" y="9178"/>
                  <a:pt x="13238" y="9226"/>
                  <a:pt x="13221" y="9277"/>
                </a:cubicBezTo>
                <a:cubicBezTo>
                  <a:pt x="13207" y="9318"/>
                  <a:pt x="13237" y="9340"/>
                  <a:pt x="13271" y="9351"/>
                </a:cubicBezTo>
                <a:cubicBezTo>
                  <a:pt x="13314" y="9365"/>
                  <a:pt x="13354" y="9331"/>
                  <a:pt x="13395" y="9327"/>
                </a:cubicBezTo>
                <a:cubicBezTo>
                  <a:pt x="13435" y="9323"/>
                  <a:pt x="13437" y="9328"/>
                  <a:pt x="13469" y="9351"/>
                </a:cubicBezTo>
              </a:path>
              <a:path w="5310" h="2333">
                <a:moveTo>
                  <a:pt x="13494" y="9525"/>
                </a:moveTo>
                <a:cubicBezTo>
                  <a:pt x="13534" y="9623"/>
                  <a:pt x="13576" y="9706"/>
                  <a:pt x="13618" y="9798"/>
                </a:cubicBezTo>
                <a:cubicBezTo>
                  <a:pt x="13650" y="9869"/>
                  <a:pt x="13693" y="9937"/>
                  <a:pt x="13742" y="9996"/>
                </a:cubicBezTo>
                <a:cubicBezTo>
                  <a:pt x="13796" y="10061"/>
                  <a:pt x="13827" y="10096"/>
                  <a:pt x="13891" y="10145"/>
                </a:cubicBezTo>
                <a:cubicBezTo>
                  <a:pt x="13928" y="10173"/>
                  <a:pt x="13932" y="10184"/>
                  <a:pt x="13965" y="10195"/>
                </a:cubicBezTo>
                <a:cubicBezTo>
                  <a:pt x="13965" y="10170"/>
                  <a:pt x="13965" y="10145"/>
                  <a:pt x="13965" y="10120"/>
                </a:cubicBezTo>
              </a:path>
              <a:path w="5310" h="2333">
                <a:moveTo>
                  <a:pt x="13816" y="9500"/>
                </a:moveTo>
                <a:cubicBezTo>
                  <a:pt x="13775" y="9541"/>
                  <a:pt x="13744" y="9573"/>
                  <a:pt x="13717" y="9624"/>
                </a:cubicBezTo>
                <a:cubicBezTo>
                  <a:pt x="13671" y="9709"/>
                  <a:pt x="13595" y="9768"/>
                  <a:pt x="13543" y="9847"/>
                </a:cubicBezTo>
                <a:cubicBezTo>
                  <a:pt x="13500" y="9912"/>
                  <a:pt x="13453" y="9947"/>
                  <a:pt x="13395" y="9996"/>
                </a:cubicBezTo>
                <a:cubicBezTo>
                  <a:pt x="13367" y="10020"/>
                  <a:pt x="13361" y="10104"/>
                  <a:pt x="13345" y="10071"/>
                </a:cubicBezTo>
                <a:cubicBezTo>
                  <a:pt x="13345" y="10063"/>
                  <a:pt x="13345" y="10054"/>
                  <a:pt x="13345" y="10046"/>
                </a:cubicBezTo>
              </a:path>
              <a:path w="5310" h="2333">
                <a:moveTo>
                  <a:pt x="14064" y="9798"/>
                </a:moveTo>
                <a:cubicBezTo>
                  <a:pt x="14194" y="9803"/>
                  <a:pt x="14308" y="9823"/>
                  <a:pt x="14436" y="9823"/>
                </a:cubicBezTo>
                <a:cubicBezTo>
                  <a:pt x="14502" y="9823"/>
                  <a:pt x="14535" y="9823"/>
                  <a:pt x="14585" y="9823"/>
                </a:cubicBezTo>
              </a:path>
              <a:path w="5310" h="2333">
                <a:moveTo>
                  <a:pt x="14883" y="9178"/>
                </a:moveTo>
                <a:cubicBezTo>
                  <a:pt x="14883" y="9339"/>
                  <a:pt x="14880" y="9493"/>
                  <a:pt x="14858" y="9649"/>
                </a:cubicBezTo>
                <a:cubicBezTo>
                  <a:pt x="14837" y="9797"/>
                  <a:pt x="14848" y="9980"/>
                  <a:pt x="14883" y="10120"/>
                </a:cubicBezTo>
                <a:cubicBezTo>
                  <a:pt x="14883" y="10128"/>
                  <a:pt x="14883" y="10137"/>
                  <a:pt x="14883" y="10145"/>
                </a:cubicBezTo>
                <a:cubicBezTo>
                  <a:pt x="14915" y="10134"/>
                  <a:pt x="14922" y="10112"/>
                  <a:pt x="14932" y="10071"/>
                </a:cubicBezTo>
              </a:path>
              <a:path w="5310" h="2333">
                <a:moveTo>
                  <a:pt x="15230" y="9649"/>
                </a:moveTo>
                <a:cubicBezTo>
                  <a:pt x="15313" y="9631"/>
                  <a:pt x="15396" y="9604"/>
                  <a:pt x="15478" y="9599"/>
                </a:cubicBezTo>
                <a:cubicBezTo>
                  <a:pt x="15543" y="9595"/>
                  <a:pt x="15591" y="9587"/>
                  <a:pt x="15652" y="9575"/>
                </a:cubicBezTo>
              </a:path>
              <a:path w="5310" h="2333">
                <a:moveTo>
                  <a:pt x="15304" y="9823"/>
                </a:moveTo>
                <a:cubicBezTo>
                  <a:pt x="15388" y="9823"/>
                  <a:pt x="15451" y="9812"/>
                  <a:pt x="15528" y="9798"/>
                </a:cubicBezTo>
                <a:cubicBezTo>
                  <a:pt x="15544" y="9798"/>
                  <a:pt x="15561" y="9798"/>
                  <a:pt x="15577" y="9798"/>
                </a:cubicBezTo>
              </a:path>
              <a:path w="5310" h="2333">
                <a:moveTo>
                  <a:pt x="16073" y="9302"/>
                </a:moveTo>
                <a:cubicBezTo>
                  <a:pt x="16053" y="9351"/>
                  <a:pt x="16043" y="9404"/>
                  <a:pt x="16024" y="9451"/>
                </a:cubicBezTo>
                <a:cubicBezTo>
                  <a:pt x="15993" y="9528"/>
                  <a:pt x="15961" y="9590"/>
                  <a:pt x="15949" y="9674"/>
                </a:cubicBezTo>
                <a:cubicBezTo>
                  <a:pt x="15938" y="9749"/>
                  <a:pt x="15945" y="9829"/>
                  <a:pt x="15974" y="9897"/>
                </a:cubicBezTo>
                <a:cubicBezTo>
                  <a:pt x="16009" y="9979"/>
                  <a:pt x="16040" y="10053"/>
                  <a:pt x="16123" y="10096"/>
                </a:cubicBezTo>
                <a:cubicBezTo>
                  <a:pt x="16175" y="10123"/>
                  <a:pt x="16287" y="10136"/>
                  <a:pt x="16346" y="10120"/>
                </a:cubicBezTo>
                <a:cubicBezTo>
                  <a:pt x="16430" y="10098"/>
                  <a:pt x="16480" y="10084"/>
                  <a:pt x="16545" y="10021"/>
                </a:cubicBezTo>
                <a:cubicBezTo>
                  <a:pt x="16591" y="9977"/>
                  <a:pt x="16657" y="9889"/>
                  <a:pt x="16669" y="9823"/>
                </a:cubicBezTo>
                <a:cubicBezTo>
                  <a:pt x="16681" y="9752"/>
                  <a:pt x="16663" y="9640"/>
                  <a:pt x="16644" y="9575"/>
                </a:cubicBezTo>
                <a:cubicBezTo>
                  <a:pt x="16624" y="9505"/>
                  <a:pt x="16545" y="9450"/>
                  <a:pt x="16495" y="9401"/>
                </a:cubicBezTo>
                <a:cubicBezTo>
                  <a:pt x="16463" y="9370"/>
                  <a:pt x="16412" y="9313"/>
                  <a:pt x="16371" y="9302"/>
                </a:cubicBezTo>
                <a:cubicBezTo>
                  <a:pt x="16305" y="9285"/>
                  <a:pt x="16289" y="9289"/>
                  <a:pt x="16222" y="9302"/>
                </a:cubicBezTo>
              </a:path>
              <a:path w="5310" h="2333">
                <a:moveTo>
                  <a:pt x="14312" y="10641"/>
                </a:moveTo>
                <a:cubicBezTo>
                  <a:pt x="14320" y="10641"/>
                  <a:pt x="14329" y="10641"/>
                  <a:pt x="14337" y="10641"/>
                </a:cubicBezTo>
                <a:cubicBezTo>
                  <a:pt x="14337" y="10730"/>
                  <a:pt x="14347" y="10814"/>
                  <a:pt x="14362" y="10889"/>
                </a:cubicBezTo>
                <a:cubicBezTo>
                  <a:pt x="14376" y="10957"/>
                  <a:pt x="14362" y="11042"/>
                  <a:pt x="14362" y="11112"/>
                </a:cubicBezTo>
              </a:path>
              <a:path w="5310" h="2333">
                <a:moveTo>
                  <a:pt x="13990" y="10889"/>
                </a:moveTo>
                <a:cubicBezTo>
                  <a:pt x="14131" y="10889"/>
                  <a:pt x="14271" y="10889"/>
                  <a:pt x="14412" y="10889"/>
                </a:cubicBezTo>
              </a:path>
              <a:path w="5310" h="2333">
                <a:moveTo>
                  <a:pt x="14784" y="10666"/>
                </a:moveTo>
                <a:cubicBezTo>
                  <a:pt x="14784" y="10786"/>
                  <a:pt x="14787" y="10906"/>
                  <a:pt x="14808" y="11013"/>
                </a:cubicBezTo>
                <a:cubicBezTo>
                  <a:pt x="14818" y="11067"/>
                  <a:pt x="14783" y="11145"/>
                  <a:pt x="14833" y="11162"/>
                </a:cubicBezTo>
              </a:path>
              <a:path w="5310" h="2333">
                <a:moveTo>
                  <a:pt x="16049" y="10616"/>
                </a:moveTo>
                <a:cubicBezTo>
                  <a:pt x="16030" y="10706"/>
                  <a:pt x="16024" y="10773"/>
                  <a:pt x="16024" y="10864"/>
                </a:cubicBezTo>
                <a:cubicBezTo>
                  <a:pt x="16024" y="10927"/>
                  <a:pt x="16043" y="10977"/>
                  <a:pt x="16049" y="11038"/>
                </a:cubicBezTo>
                <a:cubicBezTo>
                  <a:pt x="16051" y="11062"/>
                  <a:pt x="16049" y="11088"/>
                  <a:pt x="16049" y="11112"/>
                </a:cubicBezTo>
              </a:path>
              <a:path w="5310" h="2333">
                <a:moveTo>
                  <a:pt x="15701" y="10840"/>
                </a:moveTo>
                <a:cubicBezTo>
                  <a:pt x="15826" y="10849"/>
                  <a:pt x="15946" y="10864"/>
                  <a:pt x="16073" y="10864"/>
                </a:cubicBezTo>
                <a:cubicBezTo>
                  <a:pt x="16098" y="10864"/>
                  <a:pt x="16123" y="10864"/>
                  <a:pt x="16148" y="10864"/>
                </a:cubicBezTo>
              </a:path>
              <a:path w="5310" h="2333">
                <a:moveTo>
                  <a:pt x="16594" y="10542"/>
                </a:moveTo>
                <a:cubicBezTo>
                  <a:pt x="16594" y="10675"/>
                  <a:pt x="16598" y="10790"/>
                  <a:pt x="16619" y="10914"/>
                </a:cubicBezTo>
                <a:cubicBezTo>
                  <a:pt x="16630" y="10979"/>
                  <a:pt x="16639" y="11047"/>
                  <a:pt x="16644" y="11112"/>
                </a:cubicBezTo>
                <a:cubicBezTo>
                  <a:pt x="16648" y="11160"/>
                  <a:pt x="16667" y="11201"/>
                  <a:pt x="16694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33880" y="4089240"/>
            <a:ext cx="1733400" cy="474840"/>
          </a:xfrm>
          <a:custGeom>
            <a:avLst/>
            <a:gdLst/>
            <a:ahLst/>
            <a:rect l="l" t="t" r="r" b="b"/>
            <a:pathLst>
              <a:path w="4813" h="1315">
                <a:moveTo>
                  <a:pt x="12774" y="11658"/>
                </a:moveTo>
                <a:cubicBezTo>
                  <a:pt x="12698" y="11658"/>
                  <a:pt x="12647" y="11665"/>
                  <a:pt x="12576" y="11683"/>
                </a:cubicBezTo>
                <a:cubicBezTo>
                  <a:pt x="12524" y="11696"/>
                  <a:pt x="12468" y="11701"/>
                  <a:pt x="12427" y="11733"/>
                </a:cubicBezTo>
                <a:cubicBezTo>
                  <a:pt x="12403" y="11752"/>
                  <a:pt x="12361" y="11803"/>
                  <a:pt x="12353" y="11807"/>
                </a:cubicBezTo>
                <a:cubicBezTo>
                  <a:pt x="12328" y="11807"/>
                  <a:pt x="12320" y="11807"/>
                  <a:pt x="12328" y="11832"/>
                </a:cubicBezTo>
                <a:cubicBezTo>
                  <a:pt x="12358" y="11842"/>
                  <a:pt x="12390" y="11852"/>
                  <a:pt x="12427" y="11881"/>
                </a:cubicBezTo>
                <a:cubicBezTo>
                  <a:pt x="12482" y="11924"/>
                  <a:pt x="12582" y="11953"/>
                  <a:pt x="12626" y="12005"/>
                </a:cubicBezTo>
                <a:cubicBezTo>
                  <a:pt x="12671" y="12058"/>
                  <a:pt x="12727" y="12105"/>
                  <a:pt x="12750" y="12179"/>
                </a:cubicBezTo>
                <a:cubicBezTo>
                  <a:pt x="12762" y="12216"/>
                  <a:pt x="12759" y="12280"/>
                  <a:pt x="12725" y="12303"/>
                </a:cubicBezTo>
                <a:cubicBezTo>
                  <a:pt x="12657" y="12350"/>
                  <a:pt x="12607" y="12378"/>
                  <a:pt x="12526" y="12378"/>
                </a:cubicBezTo>
                <a:cubicBezTo>
                  <a:pt x="12476" y="12378"/>
                  <a:pt x="12416" y="12359"/>
                  <a:pt x="12378" y="12328"/>
                </a:cubicBezTo>
                <a:cubicBezTo>
                  <a:pt x="12336" y="12294"/>
                  <a:pt x="12328" y="12311"/>
                  <a:pt x="12328" y="12254"/>
                </a:cubicBezTo>
                <a:cubicBezTo>
                  <a:pt x="12328" y="12200"/>
                  <a:pt x="12386" y="12178"/>
                  <a:pt x="12427" y="12154"/>
                </a:cubicBezTo>
              </a:path>
              <a:path w="4813" h="1315">
                <a:moveTo>
                  <a:pt x="13072" y="11931"/>
                </a:moveTo>
                <a:cubicBezTo>
                  <a:pt x="13072" y="12025"/>
                  <a:pt x="13061" y="12093"/>
                  <a:pt x="13047" y="12179"/>
                </a:cubicBezTo>
                <a:cubicBezTo>
                  <a:pt x="13041" y="12215"/>
                  <a:pt x="13060" y="12456"/>
                  <a:pt x="13022" y="12328"/>
                </a:cubicBezTo>
                <a:cubicBezTo>
                  <a:pt x="13022" y="12320"/>
                  <a:pt x="13022" y="12311"/>
                  <a:pt x="13022" y="12303"/>
                </a:cubicBezTo>
              </a:path>
              <a:path w="4813" h="1315">
                <a:moveTo>
                  <a:pt x="13047" y="11633"/>
                </a:moveTo>
                <a:cubicBezTo>
                  <a:pt x="13055" y="11625"/>
                  <a:pt x="13064" y="11617"/>
                  <a:pt x="13072" y="11609"/>
                </a:cubicBezTo>
              </a:path>
              <a:path w="4813" h="1315">
                <a:moveTo>
                  <a:pt x="13246" y="12105"/>
                </a:moveTo>
                <a:cubicBezTo>
                  <a:pt x="13246" y="12179"/>
                  <a:pt x="13246" y="12254"/>
                  <a:pt x="13246" y="12328"/>
                </a:cubicBezTo>
                <a:cubicBezTo>
                  <a:pt x="13233" y="12290"/>
                  <a:pt x="13221" y="12307"/>
                  <a:pt x="13221" y="12254"/>
                </a:cubicBezTo>
                <a:cubicBezTo>
                  <a:pt x="13221" y="12178"/>
                  <a:pt x="13232" y="12128"/>
                  <a:pt x="13246" y="12055"/>
                </a:cubicBezTo>
                <a:cubicBezTo>
                  <a:pt x="13258" y="11990"/>
                  <a:pt x="13252" y="11964"/>
                  <a:pt x="13295" y="11906"/>
                </a:cubicBezTo>
                <a:cubicBezTo>
                  <a:pt x="13339" y="11847"/>
                  <a:pt x="13392" y="11808"/>
                  <a:pt x="13469" y="11832"/>
                </a:cubicBezTo>
                <a:cubicBezTo>
                  <a:pt x="13530" y="11851"/>
                  <a:pt x="13562" y="11906"/>
                  <a:pt x="13593" y="11956"/>
                </a:cubicBezTo>
                <a:cubicBezTo>
                  <a:pt x="13637" y="12029"/>
                  <a:pt x="13621" y="12104"/>
                  <a:pt x="13643" y="12179"/>
                </a:cubicBezTo>
                <a:cubicBezTo>
                  <a:pt x="13662" y="12244"/>
                  <a:pt x="13667" y="12284"/>
                  <a:pt x="13667" y="12353"/>
                </a:cubicBezTo>
                <a:cubicBezTo>
                  <a:pt x="13667" y="12412"/>
                  <a:pt x="13678" y="12406"/>
                  <a:pt x="13667" y="12402"/>
                </a:cubicBezTo>
                <a:cubicBezTo>
                  <a:pt x="13643" y="12402"/>
                  <a:pt x="13635" y="12402"/>
                  <a:pt x="13643" y="12378"/>
                </a:cubicBezTo>
              </a:path>
              <a:path w="4813" h="1315">
                <a:moveTo>
                  <a:pt x="13692" y="11559"/>
                </a:moveTo>
                <a:cubicBezTo>
                  <a:pt x="13774" y="11528"/>
                  <a:pt x="13843" y="11475"/>
                  <a:pt x="13915" y="11534"/>
                </a:cubicBezTo>
                <a:cubicBezTo>
                  <a:pt x="13962" y="11572"/>
                  <a:pt x="13948" y="11620"/>
                  <a:pt x="13940" y="11658"/>
                </a:cubicBezTo>
                <a:cubicBezTo>
                  <a:pt x="13929" y="11710"/>
                  <a:pt x="13899" y="11763"/>
                  <a:pt x="13866" y="11807"/>
                </a:cubicBezTo>
                <a:cubicBezTo>
                  <a:pt x="13845" y="11835"/>
                  <a:pt x="13815" y="11881"/>
                  <a:pt x="13866" y="11906"/>
                </a:cubicBezTo>
                <a:cubicBezTo>
                  <a:pt x="13904" y="11925"/>
                  <a:pt x="13971" y="11914"/>
                  <a:pt x="14015" y="11931"/>
                </a:cubicBezTo>
              </a:path>
              <a:path w="4813" h="1315">
                <a:moveTo>
                  <a:pt x="14263" y="11906"/>
                </a:moveTo>
                <a:cubicBezTo>
                  <a:pt x="14263" y="11965"/>
                  <a:pt x="14264" y="12031"/>
                  <a:pt x="14288" y="12080"/>
                </a:cubicBezTo>
                <a:cubicBezTo>
                  <a:pt x="14319" y="12143"/>
                  <a:pt x="14374" y="12182"/>
                  <a:pt x="14412" y="12229"/>
                </a:cubicBezTo>
                <a:cubicBezTo>
                  <a:pt x="14459" y="12288"/>
                  <a:pt x="14494" y="12355"/>
                  <a:pt x="14560" y="12402"/>
                </a:cubicBezTo>
                <a:cubicBezTo>
                  <a:pt x="14590" y="12424"/>
                  <a:pt x="14649" y="12474"/>
                  <a:pt x="14684" y="12477"/>
                </a:cubicBezTo>
                <a:cubicBezTo>
                  <a:pt x="14701" y="12477"/>
                  <a:pt x="14717" y="12477"/>
                  <a:pt x="14734" y="12477"/>
                </a:cubicBezTo>
              </a:path>
              <a:path w="4813" h="1315">
                <a:moveTo>
                  <a:pt x="14536" y="11956"/>
                </a:moveTo>
                <a:cubicBezTo>
                  <a:pt x="14480" y="12028"/>
                  <a:pt x="14412" y="12104"/>
                  <a:pt x="14362" y="12179"/>
                </a:cubicBezTo>
                <a:cubicBezTo>
                  <a:pt x="14323" y="12238"/>
                  <a:pt x="14280" y="12296"/>
                  <a:pt x="14238" y="12353"/>
                </a:cubicBezTo>
                <a:cubicBezTo>
                  <a:pt x="14209" y="12392"/>
                  <a:pt x="14173" y="12421"/>
                  <a:pt x="14163" y="12452"/>
                </a:cubicBezTo>
              </a:path>
              <a:path w="4813" h="1315">
                <a:moveTo>
                  <a:pt x="14883" y="12129"/>
                </a:moveTo>
                <a:cubicBezTo>
                  <a:pt x="14966" y="12129"/>
                  <a:pt x="15048" y="12129"/>
                  <a:pt x="15131" y="12129"/>
                </a:cubicBezTo>
              </a:path>
              <a:path w="4813" h="1315">
                <a:moveTo>
                  <a:pt x="14957" y="12278"/>
                </a:moveTo>
                <a:cubicBezTo>
                  <a:pt x="15081" y="12299"/>
                  <a:pt x="15105" y="12307"/>
                  <a:pt x="15180" y="12303"/>
                </a:cubicBezTo>
              </a:path>
              <a:path w="4813" h="1315">
                <a:moveTo>
                  <a:pt x="15875" y="11807"/>
                </a:moveTo>
                <a:cubicBezTo>
                  <a:pt x="15856" y="11895"/>
                  <a:pt x="15836" y="11995"/>
                  <a:pt x="15825" y="12080"/>
                </a:cubicBezTo>
                <a:cubicBezTo>
                  <a:pt x="15814" y="12166"/>
                  <a:pt x="15862" y="12247"/>
                  <a:pt x="15875" y="12328"/>
                </a:cubicBezTo>
                <a:cubicBezTo>
                  <a:pt x="15888" y="12413"/>
                  <a:pt x="15946" y="12475"/>
                  <a:pt x="15900" y="12551"/>
                </a:cubicBezTo>
              </a:path>
              <a:path w="4813" h="1315">
                <a:moveTo>
                  <a:pt x="11485" y="11906"/>
                </a:moveTo>
                <a:cubicBezTo>
                  <a:pt x="11512" y="11850"/>
                  <a:pt x="11501" y="11823"/>
                  <a:pt x="11559" y="11807"/>
                </a:cubicBezTo>
                <a:cubicBezTo>
                  <a:pt x="11614" y="11792"/>
                  <a:pt x="11665" y="11826"/>
                  <a:pt x="11708" y="11857"/>
                </a:cubicBezTo>
                <a:cubicBezTo>
                  <a:pt x="11784" y="11913"/>
                  <a:pt x="11796" y="12023"/>
                  <a:pt x="11832" y="12105"/>
                </a:cubicBezTo>
                <a:cubicBezTo>
                  <a:pt x="11860" y="12169"/>
                  <a:pt x="11897" y="12236"/>
                  <a:pt x="11906" y="12303"/>
                </a:cubicBezTo>
                <a:cubicBezTo>
                  <a:pt x="11913" y="12358"/>
                  <a:pt x="11887" y="12388"/>
                  <a:pt x="11881" y="12427"/>
                </a:cubicBezTo>
                <a:cubicBezTo>
                  <a:pt x="11865" y="12379"/>
                  <a:pt x="11859" y="12361"/>
                  <a:pt x="11857" y="12303"/>
                </a:cubicBezTo>
                <a:cubicBezTo>
                  <a:pt x="11851" y="12119"/>
                  <a:pt x="11863" y="11934"/>
                  <a:pt x="11881" y="11757"/>
                </a:cubicBezTo>
                <a:cubicBezTo>
                  <a:pt x="11889" y="11674"/>
                  <a:pt x="11892" y="11636"/>
                  <a:pt x="11931" y="11559"/>
                </a:cubicBezTo>
                <a:cubicBezTo>
                  <a:pt x="11956" y="11509"/>
                  <a:pt x="11972" y="11506"/>
                  <a:pt x="12030" y="11485"/>
                </a:cubicBezTo>
                <a:cubicBezTo>
                  <a:pt x="12100" y="11460"/>
                  <a:pt x="12178" y="11462"/>
                  <a:pt x="12254" y="11460"/>
                </a:cubicBezTo>
                <a:cubicBezTo>
                  <a:pt x="12388" y="11456"/>
                  <a:pt x="12514" y="11435"/>
                  <a:pt x="12650" y="11435"/>
                </a:cubicBezTo>
                <a:cubicBezTo>
                  <a:pt x="12999" y="11435"/>
                  <a:pt x="13349" y="11434"/>
                  <a:pt x="13692" y="11410"/>
                </a:cubicBezTo>
                <a:cubicBezTo>
                  <a:pt x="13814" y="11401"/>
                  <a:pt x="13842" y="11415"/>
                  <a:pt x="13940" y="11385"/>
                </a:cubicBezTo>
                <a:cubicBezTo>
                  <a:pt x="13963" y="11363"/>
                  <a:pt x="13968" y="11355"/>
                  <a:pt x="13990" y="11361"/>
                </a:cubicBezTo>
              </a:path>
              <a:path w="4813" h="1315">
                <a:moveTo>
                  <a:pt x="15404" y="12105"/>
                </a:moveTo>
                <a:cubicBezTo>
                  <a:pt x="15411" y="12231"/>
                  <a:pt x="15439" y="12325"/>
                  <a:pt x="15453" y="12452"/>
                </a:cubicBezTo>
                <a:cubicBezTo>
                  <a:pt x="15459" y="12512"/>
                  <a:pt x="15450" y="12571"/>
                  <a:pt x="15478" y="12626"/>
                </a:cubicBezTo>
                <a:cubicBezTo>
                  <a:pt x="15496" y="12662"/>
                  <a:pt x="15511" y="12659"/>
                  <a:pt x="15528" y="12675"/>
                </a:cubicBezTo>
                <a:cubicBezTo>
                  <a:pt x="15511" y="12615"/>
                  <a:pt x="15503" y="12568"/>
                  <a:pt x="15503" y="12502"/>
                </a:cubicBezTo>
                <a:cubicBezTo>
                  <a:pt x="15503" y="12425"/>
                  <a:pt x="15478" y="12357"/>
                  <a:pt x="15478" y="12278"/>
                </a:cubicBezTo>
                <a:cubicBezTo>
                  <a:pt x="15478" y="12143"/>
                  <a:pt x="15427" y="11879"/>
                  <a:pt x="15503" y="11757"/>
                </a:cubicBezTo>
                <a:cubicBezTo>
                  <a:pt x="15527" y="11718"/>
                  <a:pt x="15589" y="11733"/>
                  <a:pt x="15627" y="11733"/>
                </a:cubicBezTo>
                <a:cubicBezTo>
                  <a:pt x="15796" y="11733"/>
                  <a:pt x="15958" y="11734"/>
                  <a:pt x="16123" y="11757"/>
                </a:cubicBezTo>
                <a:cubicBezTo>
                  <a:pt x="16140" y="11759"/>
                  <a:pt x="16297" y="11774"/>
                  <a:pt x="16297" y="11733"/>
                </a:cubicBezTo>
                <a:cubicBezTo>
                  <a:pt x="16289" y="11733"/>
                  <a:pt x="16280" y="11733"/>
                  <a:pt x="16272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32200" y="4714920"/>
            <a:ext cx="1224000" cy="384120"/>
          </a:xfrm>
          <a:custGeom>
            <a:avLst/>
            <a:gdLst/>
            <a:ahLst/>
            <a:rect l="l" t="t" r="r" b="b"/>
            <a:pathLst>
              <a:path w="3400" h="1067">
                <a:moveTo>
                  <a:pt x="13494" y="13196"/>
                </a:moveTo>
                <a:cubicBezTo>
                  <a:pt x="13481" y="13146"/>
                  <a:pt x="13441" y="13136"/>
                  <a:pt x="13395" y="13122"/>
                </a:cubicBezTo>
                <a:cubicBezTo>
                  <a:pt x="13340" y="13106"/>
                  <a:pt x="13297" y="13143"/>
                  <a:pt x="13246" y="13146"/>
                </a:cubicBezTo>
                <a:cubicBezTo>
                  <a:pt x="13189" y="13150"/>
                  <a:pt x="13164" y="13168"/>
                  <a:pt x="13146" y="13221"/>
                </a:cubicBezTo>
                <a:cubicBezTo>
                  <a:pt x="13133" y="13259"/>
                  <a:pt x="13148" y="13294"/>
                  <a:pt x="13171" y="13320"/>
                </a:cubicBezTo>
                <a:cubicBezTo>
                  <a:pt x="13284" y="13447"/>
                  <a:pt x="13421" y="13540"/>
                  <a:pt x="13494" y="13692"/>
                </a:cubicBezTo>
                <a:cubicBezTo>
                  <a:pt x="13515" y="13735"/>
                  <a:pt x="13569" y="13787"/>
                  <a:pt x="13543" y="13841"/>
                </a:cubicBezTo>
                <a:cubicBezTo>
                  <a:pt x="13524" y="13880"/>
                  <a:pt x="13458" y="13908"/>
                  <a:pt x="13419" y="13915"/>
                </a:cubicBezTo>
                <a:cubicBezTo>
                  <a:pt x="13373" y="13923"/>
                  <a:pt x="13284" y="13908"/>
                  <a:pt x="13246" y="13891"/>
                </a:cubicBezTo>
                <a:cubicBezTo>
                  <a:pt x="13202" y="13871"/>
                  <a:pt x="13196" y="13832"/>
                  <a:pt x="13196" y="13791"/>
                </a:cubicBezTo>
                <a:cubicBezTo>
                  <a:pt x="13196" y="13754"/>
                  <a:pt x="13221" y="13742"/>
                  <a:pt x="13246" y="13717"/>
                </a:cubicBezTo>
              </a:path>
              <a:path w="3400" h="1067">
                <a:moveTo>
                  <a:pt x="13841" y="13519"/>
                </a:moveTo>
                <a:cubicBezTo>
                  <a:pt x="13863" y="13600"/>
                  <a:pt x="13866" y="13659"/>
                  <a:pt x="13866" y="13742"/>
                </a:cubicBezTo>
                <a:cubicBezTo>
                  <a:pt x="13866" y="13777"/>
                  <a:pt x="13866" y="13959"/>
                  <a:pt x="13866" y="13915"/>
                </a:cubicBezTo>
                <a:cubicBezTo>
                  <a:pt x="13866" y="13907"/>
                  <a:pt x="13866" y="13899"/>
                  <a:pt x="13866" y="13891"/>
                </a:cubicBezTo>
              </a:path>
              <a:path w="3400" h="1067">
                <a:moveTo>
                  <a:pt x="13866" y="13122"/>
                </a:moveTo>
                <a:cubicBezTo>
                  <a:pt x="13874" y="13114"/>
                  <a:pt x="13883" y="13105"/>
                  <a:pt x="13891" y="13097"/>
                </a:cubicBezTo>
              </a:path>
              <a:path w="3400" h="1067">
                <a:moveTo>
                  <a:pt x="14089" y="13717"/>
                </a:moveTo>
                <a:cubicBezTo>
                  <a:pt x="14089" y="13783"/>
                  <a:pt x="14089" y="13849"/>
                  <a:pt x="14089" y="13915"/>
                </a:cubicBezTo>
                <a:cubicBezTo>
                  <a:pt x="14089" y="13870"/>
                  <a:pt x="14111" y="13856"/>
                  <a:pt x="14114" y="13816"/>
                </a:cubicBezTo>
                <a:cubicBezTo>
                  <a:pt x="14119" y="13750"/>
                  <a:pt x="14119" y="13701"/>
                  <a:pt x="14139" y="13643"/>
                </a:cubicBezTo>
                <a:cubicBezTo>
                  <a:pt x="14154" y="13598"/>
                  <a:pt x="14186" y="13526"/>
                  <a:pt x="14213" y="13494"/>
                </a:cubicBezTo>
                <a:cubicBezTo>
                  <a:pt x="14234" y="13470"/>
                  <a:pt x="14290" y="13393"/>
                  <a:pt x="14337" y="13419"/>
                </a:cubicBezTo>
                <a:cubicBezTo>
                  <a:pt x="14381" y="13443"/>
                  <a:pt x="14414" y="13502"/>
                  <a:pt x="14436" y="13543"/>
                </a:cubicBezTo>
                <a:cubicBezTo>
                  <a:pt x="14475" y="13618"/>
                  <a:pt x="14478" y="13693"/>
                  <a:pt x="14511" y="13767"/>
                </a:cubicBezTo>
                <a:cubicBezTo>
                  <a:pt x="14539" y="13829"/>
                  <a:pt x="14576" y="13884"/>
                  <a:pt x="14610" y="13940"/>
                </a:cubicBezTo>
                <a:cubicBezTo>
                  <a:pt x="14641" y="13991"/>
                  <a:pt x="14654" y="14001"/>
                  <a:pt x="14709" y="14015"/>
                </a:cubicBezTo>
              </a:path>
              <a:path w="3400" h="1067">
                <a:moveTo>
                  <a:pt x="14759" y="13519"/>
                </a:moveTo>
                <a:cubicBezTo>
                  <a:pt x="14801" y="13592"/>
                  <a:pt x="14839" y="13669"/>
                  <a:pt x="14883" y="13742"/>
                </a:cubicBezTo>
                <a:cubicBezTo>
                  <a:pt x="14935" y="13829"/>
                  <a:pt x="14985" y="13893"/>
                  <a:pt x="15056" y="13965"/>
                </a:cubicBezTo>
                <a:cubicBezTo>
                  <a:pt x="15098" y="14007"/>
                  <a:pt x="15196" y="14104"/>
                  <a:pt x="15255" y="14114"/>
                </a:cubicBezTo>
                <a:cubicBezTo>
                  <a:pt x="15329" y="14114"/>
                  <a:pt x="15338" y="14114"/>
                  <a:pt x="15379" y="14114"/>
                </a:cubicBezTo>
              </a:path>
              <a:path w="3400" h="1067">
                <a:moveTo>
                  <a:pt x="15156" y="13469"/>
                </a:moveTo>
                <a:cubicBezTo>
                  <a:pt x="15093" y="13554"/>
                  <a:pt x="15059" y="13628"/>
                  <a:pt x="15007" y="13717"/>
                </a:cubicBezTo>
                <a:cubicBezTo>
                  <a:pt x="14958" y="13801"/>
                  <a:pt x="14902" y="13877"/>
                  <a:pt x="14858" y="13965"/>
                </a:cubicBezTo>
                <a:cubicBezTo>
                  <a:pt x="14835" y="14012"/>
                  <a:pt x="14798" y="14069"/>
                  <a:pt x="14784" y="14114"/>
                </a:cubicBezTo>
                <a:cubicBezTo>
                  <a:pt x="14770" y="14159"/>
                  <a:pt x="14776" y="14160"/>
                  <a:pt x="14808" y="14139"/>
                </a:cubicBezTo>
              </a:path>
              <a:path w="3400" h="1067">
                <a:moveTo>
                  <a:pt x="15404" y="13593"/>
                </a:moveTo>
                <a:cubicBezTo>
                  <a:pt x="15531" y="13570"/>
                  <a:pt x="15544" y="13571"/>
                  <a:pt x="15652" y="13593"/>
                </a:cubicBezTo>
              </a:path>
              <a:path w="3400" h="1067">
                <a:moveTo>
                  <a:pt x="15379" y="13816"/>
                </a:moveTo>
                <a:cubicBezTo>
                  <a:pt x="15437" y="13841"/>
                  <a:pt x="15511" y="13877"/>
                  <a:pt x="15577" y="13866"/>
                </a:cubicBezTo>
                <a:cubicBezTo>
                  <a:pt x="15642" y="13844"/>
                  <a:pt x="15657" y="13836"/>
                  <a:pt x="15701" y="13841"/>
                </a:cubicBezTo>
              </a:path>
              <a:path w="3400" h="1067">
                <a:moveTo>
                  <a:pt x="16247" y="13146"/>
                </a:moveTo>
                <a:cubicBezTo>
                  <a:pt x="16274" y="13210"/>
                  <a:pt x="16272" y="13249"/>
                  <a:pt x="16272" y="13320"/>
                </a:cubicBezTo>
                <a:cubicBezTo>
                  <a:pt x="16272" y="13419"/>
                  <a:pt x="16282" y="13501"/>
                  <a:pt x="16297" y="13593"/>
                </a:cubicBezTo>
                <a:cubicBezTo>
                  <a:pt x="16303" y="13631"/>
                  <a:pt x="16297" y="13678"/>
                  <a:pt x="16297" y="13717"/>
                </a:cubicBezTo>
              </a:path>
              <a:path w="3400" h="1067">
                <a:moveTo>
                  <a:pt x="16024" y="13543"/>
                </a:moveTo>
                <a:cubicBezTo>
                  <a:pt x="16104" y="13532"/>
                  <a:pt x="16132" y="13539"/>
                  <a:pt x="16222" y="13543"/>
                </a:cubicBezTo>
                <a:cubicBezTo>
                  <a:pt x="16311" y="13547"/>
                  <a:pt x="16385" y="13530"/>
                  <a:pt x="16470" y="13519"/>
                </a:cubicBezTo>
                <a:cubicBezTo>
                  <a:pt x="16487" y="13519"/>
                  <a:pt x="16503" y="13519"/>
                  <a:pt x="16520" y="13519"/>
                </a:cubicBezTo>
              </a:path>
              <a:path w="3400" h="1067">
                <a:moveTo>
                  <a:pt x="16098" y="13940"/>
                </a:moveTo>
                <a:cubicBezTo>
                  <a:pt x="16186" y="13964"/>
                  <a:pt x="16254" y="13965"/>
                  <a:pt x="16346" y="13965"/>
                </a:cubicBezTo>
                <a:cubicBezTo>
                  <a:pt x="16464" y="13965"/>
                  <a:pt x="16486" y="13979"/>
                  <a:pt x="16545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3120" y="4830840"/>
            <a:ext cx="34920" cy="339480"/>
          </a:xfrm>
          <a:custGeom>
            <a:avLst/>
            <a:gdLst/>
            <a:ahLst/>
            <a:rect l="l" t="t" r="r" b="b"/>
            <a:pathLst>
              <a:path w="101" h="944">
                <a:moveTo>
                  <a:pt x="17115" y="13419"/>
                </a:moveTo>
                <a:cubicBezTo>
                  <a:pt x="17115" y="13513"/>
                  <a:pt x="17084" y="13657"/>
                  <a:pt x="17090" y="13742"/>
                </a:cubicBezTo>
                <a:cubicBezTo>
                  <a:pt x="17097" y="13840"/>
                  <a:pt x="17127" y="13943"/>
                  <a:pt x="17140" y="14039"/>
                </a:cubicBezTo>
                <a:cubicBezTo>
                  <a:pt x="17151" y="14118"/>
                  <a:pt x="17173" y="14188"/>
                  <a:pt x="17190" y="14263"/>
                </a:cubicBezTo>
                <a:cubicBezTo>
                  <a:pt x="17197" y="14293"/>
                  <a:pt x="17190" y="14331"/>
                  <a:pt x="17190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35040" y="5126040"/>
            <a:ext cx="36720" cy="857160"/>
          </a:xfrm>
          <a:custGeom>
            <a:avLst/>
            <a:gdLst/>
            <a:ahLst/>
            <a:rect l="l" t="t" r="r" b="b"/>
            <a:pathLst>
              <a:path w="101" h="2382">
                <a:moveTo>
                  <a:pt x="4341" y="14238"/>
                </a:moveTo>
                <a:cubicBezTo>
                  <a:pt x="4341" y="14387"/>
                  <a:pt x="4363" y="14494"/>
                  <a:pt x="4366" y="14660"/>
                </a:cubicBezTo>
                <a:cubicBezTo>
                  <a:pt x="4377" y="15234"/>
                  <a:pt x="4393" y="15829"/>
                  <a:pt x="4341" y="16396"/>
                </a:cubicBezTo>
                <a:cubicBezTo>
                  <a:pt x="4333" y="16483"/>
                  <a:pt x="4341" y="16546"/>
                  <a:pt x="4316" y="16619"/>
                </a:cubicBezTo>
                <a:cubicBezTo>
                  <a:pt x="4295" y="16535"/>
                  <a:pt x="4304" y="16460"/>
                  <a:pt x="4291" y="16371"/>
                </a:cubicBezTo>
                <a:cubicBezTo>
                  <a:pt x="4266" y="16273"/>
                  <a:pt x="4258" y="16241"/>
                  <a:pt x="4266" y="161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6240" y="5392800"/>
            <a:ext cx="482760" cy="482400"/>
          </a:xfrm>
          <a:custGeom>
            <a:avLst/>
            <a:gdLst/>
            <a:ahLst/>
            <a:rect l="l" t="t" r="r" b="b"/>
            <a:pathLst>
              <a:path w="1341" h="1340">
                <a:moveTo>
                  <a:pt x="5011" y="14982"/>
                </a:moveTo>
                <a:cubicBezTo>
                  <a:pt x="5027" y="15026"/>
                  <a:pt x="5052" y="15081"/>
                  <a:pt x="5060" y="15131"/>
                </a:cubicBezTo>
                <a:cubicBezTo>
                  <a:pt x="5076" y="15227"/>
                  <a:pt x="5098" y="15336"/>
                  <a:pt x="5135" y="15429"/>
                </a:cubicBezTo>
                <a:cubicBezTo>
                  <a:pt x="5206" y="15609"/>
                  <a:pt x="5339" y="15802"/>
                  <a:pt x="5457" y="15949"/>
                </a:cubicBezTo>
                <a:cubicBezTo>
                  <a:pt x="5555" y="16072"/>
                  <a:pt x="5677" y="16204"/>
                  <a:pt x="5804" y="16297"/>
                </a:cubicBezTo>
                <a:cubicBezTo>
                  <a:pt x="5821" y="16305"/>
                  <a:pt x="5837" y="16313"/>
                  <a:pt x="5854" y="16321"/>
                </a:cubicBezTo>
              </a:path>
              <a:path w="1341" h="1340">
                <a:moveTo>
                  <a:pt x="5556" y="15032"/>
                </a:moveTo>
                <a:cubicBezTo>
                  <a:pt x="5453" y="15201"/>
                  <a:pt x="5341" y="15372"/>
                  <a:pt x="5259" y="15553"/>
                </a:cubicBezTo>
                <a:cubicBezTo>
                  <a:pt x="5184" y="15719"/>
                  <a:pt x="5081" y="15882"/>
                  <a:pt x="5011" y="16049"/>
                </a:cubicBezTo>
                <a:cubicBezTo>
                  <a:pt x="4984" y="16113"/>
                  <a:pt x="4953" y="16205"/>
                  <a:pt x="4936" y="16272"/>
                </a:cubicBezTo>
                <a:cubicBezTo>
                  <a:pt x="4936" y="16280"/>
                  <a:pt x="4936" y="16289"/>
                  <a:pt x="4936" y="16297"/>
                </a:cubicBezTo>
              </a:path>
              <a:path w="1341" h="1340">
                <a:moveTo>
                  <a:pt x="5804" y="15577"/>
                </a:moveTo>
                <a:cubicBezTo>
                  <a:pt x="5943" y="15577"/>
                  <a:pt x="6025" y="15578"/>
                  <a:pt x="6152" y="15602"/>
                </a:cubicBezTo>
                <a:cubicBezTo>
                  <a:pt x="6160" y="15602"/>
                  <a:pt x="6168" y="15602"/>
                  <a:pt x="6176" y="15602"/>
                </a:cubicBezTo>
              </a:path>
              <a:path w="1341" h="1340">
                <a:moveTo>
                  <a:pt x="5804" y="15801"/>
                </a:moveTo>
                <a:cubicBezTo>
                  <a:pt x="5852" y="15867"/>
                  <a:pt x="5891" y="15896"/>
                  <a:pt x="5978" y="15900"/>
                </a:cubicBezTo>
                <a:cubicBezTo>
                  <a:pt x="6076" y="15904"/>
                  <a:pt x="6178" y="15900"/>
                  <a:pt x="6276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0840" y="5384880"/>
            <a:ext cx="1947960" cy="696960"/>
          </a:xfrm>
          <a:custGeom>
            <a:avLst/>
            <a:gdLst/>
            <a:ahLst/>
            <a:rect l="l" t="t" r="r" b="b"/>
            <a:pathLst>
              <a:path w="5408" h="1936">
                <a:moveTo>
                  <a:pt x="7119" y="15304"/>
                </a:moveTo>
                <a:cubicBezTo>
                  <a:pt x="7108" y="15338"/>
                  <a:pt x="7084" y="15335"/>
                  <a:pt x="7069" y="15379"/>
                </a:cubicBezTo>
                <a:cubicBezTo>
                  <a:pt x="7058" y="15412"/>
                  <a:pt x="7064" y="15449"/>
                  <a:pt x="7045" y="15478"/>
                </a:cubicBezTo>
                <a:cubicBezTo>
                  <a:pt x="7012" y="15528"/>
                  <a:pt x="7020" y="15577"/>
                  <a:pt x="6995" y="15627"/>
                </a:cubicBezTo>
                <a:cubicBezTo>
                  <a:pt x="6969" y="15678"/>
                  <a:pt x="6924" y="15713"/>
                  <a:pt x="6921" y="15776"/>
                </a:cubicBezTo>
                <a:cubicBezTo>
                  <a:pt x="6918" y="15845"/>
                  <a:pt x="6920" y="15912"/>
                  <a:pt x="6945" y="15974"/>
                </a:cubicBezTo>
                <a:cubicBezTo>
                  <a:pt x="6969" y="16033"/>
                  <a:pt x="7031" y="16093"/>
                  <a:pt x="7069" y="16123"/>
                </a:cubicBezTo>
                <a:cubicBezTo>
                  <a:pt x="7113" y="16157"/>
                  <a:pt x="7138" y="16173"/>
                  <a:pt x="7193" y="16173"/>
                </a:cubicBezTo>
                <a:cubicBezTo>
                  <a:pt x="7256" y="16173"/>
                  <a:pt x="7268" y="16176"/>
                  <a:pt x="7317" y="16148"/>
                </a:cubicBezTo>
                <a:cubicBezTo>
                  <a:pt x="7353" y="16127"/>
                  <a:pt x="7422" y="16092"/>
                  <a:pt x="7441" y="16049"/>
                </a:cubicBezTo>
                <a:cubicBezTo>
                  <a:pt x="7469" y="15984"/>
                  <a:pt x="7491" y="15923"/>
                  <a:pt x="7491" y="15850"/>
                </a:cubicBezTo>
                <a:cubicBezTo>
                  <a:pt x="7491" y="15751"/>
                  <a:pt x="7482" y="15669"/>
                  <a:pt x="7466" y="15577"/>
                </a:cubicBezTo>
                <a:cubicBezTo>
                  <a:pt x="7458" y="15527"/>
                  <a:pt x="7438" y="15450"/>
                  <a:pt x="7417" y="15404"/>
                </a:cubicBezTo>
                <a:cubicBezTo>
                  <a:pt x="7394" y="15354"/>
                  <a:pt x="7311" y="15298"/>
                  <a:pt x="7268" y="15280"/>
                </a:cubicBezTo>
                <a:cubicBezTo>
                  <a:pt x="7190" y="15247"/>
                  <a:pt x="7183" y="15259"/>
                  <a:pt x="7119" y="15280"/>
                </a:cubicBezTo>
                <a:cubicBezTo>
                  <a:pt x="7091" y="15280"/>
                  <a:pt x="7080" y="15282"/>
                  <a:pt x="7069" y="15304"/>
                </a:cubicBezTo>
              </a:path>
              <a:path w="5408" h="1936">
                <a:moveTo>
                  <a:pt x="7714" y="16148"/>
                </a:moveTo>
                <a:cubicBezTo>
                  <a:pt x="7742" y="16239"/>
                  <a:pt x="7754" y="16301"/>
                  <a:pt x="7714" y="16396"/>
                </a:cubicBezTo>
                <a:cubicBezTo>
                  <a:pt x="7697" y="16437"/>
                  <a:pt x="7682" y="16473"/>
                  <a:pt x="7665" y="16520"/>
                </a:cubicBezTo>
              </a:path>
              <a:path w="5408" h="1936">
                <a:moveTo>
                  <a:pt x="7863" y="15106"/>
                </a:moveTo>
                <a:cubicBezTo>
                  <a:pt x="7918" y="15106"/>
                  <a:pt x="7956" y="15084"/>
                  <a:pt x="8012" y="15081"/>
                </a:cubicBezTo>
                <a:cubicBezTo>
                  <a:pt x="8099" y="15076"/>
                  <a:pt x="8179" y="15067"/>
                  <a:pt x="8260" y="15056"/>
                </a:cubicBezTo>
                <a:cubicBezTo>
                  <a:pt x="8334" y="15046"/>
                  <a:pt x="8353" y="15068"/>
                  <a:pt x="8384" y="15007"/>
                </a:cubicBezTo>
              </a:path>
              <a:path w="5408" h="1936">
                <a:moveTo>
                  <a:pt x="7962" y="15156"/>
                </a:moveTo>
                <a:cubicBezTo>
                  <a:pt x="7962" y="15246"/>
                  <a:pt x="7982" y="15296"/>
                  <a:pt x="7987" y="15379"/>
                </a:cubicBezTo>
                <a:cubicBezTo>
                  <a:pt x="7990" y="15436"/>
                  <a:pt x="8007" y="15474"/>
                  <a:pt x="8012" y="15528"/>
                </a:cubicBezTo>
                <a:cubicBezTo>
                  <a:pt x="8012" y="15556"/>
                  <a:pt x="8014" y="15567"/>
                  <a:pt x="8037" y="15577"/>
                </a:cubicBezTo>
              </a:path>
              <a:path w="5408" h="1936">
                <a:moveTo>
                  <a:pt x="8136" y="15180"/>
                </a:moveTo>
                <a:cubicBezTo>
                  <a:pt x="8136" y="15262"/>
                  <a:pt x="8144" y="15304"/>
                  <a:pt x="8161" y="15379"/>
                </a:cubicBezTo>
                <a:cubicBezTo>
                  <a:pt x="8175" y="15440"/>
                  <a:pt x="8187" y="15451"/>
                  <a:pt x="8210" y="15503"/>
                </a:cubicBezTo>
                <a:cubicBezTo>
                  <a:pt x="8210" y="15511"/>
                  <a:pt x="8210" y="15520"/>
                  <a:pt x="8210" y="15528"/>
                </a:cubicBezTo>
              </a:path>
              <a:path w="5408" h="1936">
                <a:moveTo>
                  <a:pt x="8508" y="14957"/>
                </a:moveTo>
                <a:cubicBezTo>
                  <a:pt x="8489" y="15044"/>
                  <a:pt x="8484" y="15121"/>
                  <a:pt x="8458" y="15205"/>
                </a:cubicBezTo>
                <a:cubicBezTo>
                  <a:pt x="8425" y="15311"/>
                  <a:pt x="8429" y="15420"/>
                  <a:pt x="8409" y="15528"/>
                </a:cubicBezTo>
                <a:cubicBezTo>
                  <a:pt x="8386" y="15651"/>
                  <a:pt x="8366" y="15780"/>
                  <a:pt x="8334" y="15900"/>
                </a:cubicBezTo>
                <a:cubicBezTo>
                  <a:pt x="8308" y="15998"/>
                  <a:pt x="8290" y="16096"/>
                  <a:pt x="8285" y="16197"/>
                </a:cubicBezTo>
                <a:cubicBezTo>
                  <a:pt x="8283" y="16238"/>
                  <a:pt x="8285" y="16280"/>
                  <a:pt x="8285" y="16321"/>
                </a:cubicBezTo>
              </a:path>
              <a:path w="5408" h="1936">
                <a:moveTo>
                  <a:pt x="8533" y="15900"/>
                </a:moveTo>
                <a:cubicBezTo>
                  <a:pt x="8585" y="15877"/>
                  <a:pt x="8603" y="15875"/>
                  <a:pt x="8657" y="15875"/>
                </a:cubicBezTo>
                <a:cubicBezTo>
                  <a:pt x="8713" y="15875"/>
                  <a:pt x="8735" y="15885"/>
                  <a:pt x="8781" y="15900"/>
                </a:cubicBezTo>
                <a:cubicBezTo>
                  <a:pt x="8808" y="15909"/>
                  <a:pt x="8826" y="15918"/>
                  <a:pt x="8830" y="15949"/>
                </a:cubicBezTo>
                <a:cubicBezTo>
                  <a:pt x="8835" y="15991"/>
                  <a:pt x="8793" y="16014"/>
                  <a:pt x="8781" y="16049"/>
                </a:cubicBezTo>
                <a:cubicBezTo>
                  <a:pt x="8763" y="16101"/>
                  <a:pt x="8707" y="16123"/>
                  <a:pt x="8682" y="16173"/>
                </a:cubicBezTo>
                <a:cubicBezTo>
                  <a:pt x="8670" y="16198"/>
                  <a:pt x="8636" y="16239"/>
                  <a:pt x="8632" y="16247"/>
                </a:cubicBezTo>
                <a:cubicBezTo>
                  <a:pt x="8625" y="16262"/>
                  <a:pt x="8632" y="16304"/>
                  <a:pt x="8632" y="16321"/>
                </a:cubicBezTo>
                <a:cubicBezTo>
                  <a:pt x="8685" y="16321"/>
                  <a:pt x="8702" y="16341"/>
                  <a:pt x="8756" y="16346"/>
                </a:cubicBezTo>
                <a:cubicBezTo>
                  <a:pt x="8821" y="16351"/>
                  <a:pt x="8846" y="16336"/>
                  <a:pt x="8905" y="16321"/>
                </a:cubicBezTo>
                <a:cubicBezTo>
                  <a:pt x="8940" y="16321"/>
                  <a:pt x="8957" y="16317"/>
                  <a:pt x="8979" y="16297"/>
                </a:cubicBezTo>
              </a:path>
              <a:path w="5408" h="1936">
                <a:moveTo>
                  <a:pt x="9203" y="16371"/>
                </a:moveTo>
                <a:cubicBezTo>
                  <a:pt x="9179" y="16477"/>
                  <a:pt x="9143" y="16587"/>
                  <a:pt x="9128" y="16694"/>
                </a:cubicBezTo>
                <a:cubicBezTo>
                  <a:pt x="9119" y="16757"/>
                  <a:pt x="9128" y="16828"/>
                  <a:pt x="9128" y="16892"/>
                </a:cubicBezTo>
              </a:path>
              <a:path w="5408" h="1936">
                <a:moveTo>
                  <a:pt x="9500" y="15329"/>
                </a:moveTo>
                <a:cubicBezTo>
                  <a:pt x="9623" y="15255"/>
                  <a:pt x="9672" y="15226"/>
                  <a:pt x="9798" y="15205"/>
                </a:cubicBezTo>
                <a:cubicBezTo>
                  <a:pt x="9867" y="15193"/>
                  <a:pt x="9912" y="15216"/>
                  <a:pt x="9971" y="15180"/>
                </a:cubicBezTo>
              </a:path>
              <a:path w="5408" h="1936">
                <a:moveTo>
                  <a:pt x="9624" y="15329"/>
                </a:moveTo>
                <a:cubicBezTo>
                  <a:pt x="9624" y="15485"/>
                  <a:pt x="9613" y="15633"/>
                  <a:pt x="9624" y="15776"/>
                </a:cubicBezTo>
                <a:cubicBezTo>
                  <a:pt x="9633" y="15897"/>
                  <a:pt x="9624" y="16008"/>
                  <a:pt x="9649" y="16123"/>
                </a:cubicBezTo>
                <a:cubicBezTo>
                  <a:pt x="9660" y="16175"/>
                  <a:pt x="9638" y="16202"/>
                  <a:pt x="9699" y="16173"/>
                </a:cubicBezTo>
              </a:path>
              <a:path w="5408" h="1936">
                <a:moveTo>
                  <a:pt x="9798" y="15230"/>
                </a:moveTo>
                <a:cubicBezTo>
                  <a:pt x="9822" y="15349"/>
                  <a:pt x="9838" y="15462"/>
                  <a:pt x="9872" y="15577"/>
                </a:cubicBezTo>
                <a:cubicBezTo>
                  <a:pt x="9904" y="15684"/>
                  <a:pt x="9958" y="15772"/>
                  <a:pt x="9996" y="15875"/>
                </a:cubicBezTo>
                <a:cubicBezTo>
                  <a:pt x="10022" y="15946"/>
                  <a:pt x="10057" y="15986"/>
                  <a:pt x="10096" y="16049"/>
                </a:cubicBezTo>
              </a:path>
              <a:path w="5408" h="1936">
                <a:moveTo>
                  <a:pt x="10344" y="16297"/>
                </a:moveTo>
                <a:cubicBezTo>
                  <a:pt x="10329" y="16444"/>
                  <a:pt x="10319" y="16573"/>
                  <a:pt x="10319" y="16718"/>
                </a:cubicBezTo>
                <a:cubicBezTo>
                  <a:pt x="10319" y="16801"/>
                  <a:pt x="10314" y="16797"/>
                  <a:pt x="10344" y="16867"/>
                </a:cubicBezTo>
              </a:path>
              <a:path w="5408" h="1936">
                <a:moveTo>
                  <a:pt x="10542" y="15106"/>
                </a:moveTo>
                <a:cubicBezTo>
                  <a:pt x="10567" y="15062"/>
                  <a:pt x="10587" y="15011"/>
                  <a:pt x="10641" y="15007"/>
                </a:cubicBezTo>
                <a:cubicBezTo>
                  <a:pt x="10700" y="15003"/>
                  <a:pt x="10757" y="15030"/>
                  <a:pt x="10790" y="15081"/>
                </a:cubicBezTo>
                <a:cubicBezTo>
                  <a:pt x="10822" y="15130"/>
                  <a:pt x="10796" y="15180"/>
                  <a:pt x="10740" y="15205"/>
                </a:cubicBezTo>
                <a:cubicBezTo>
                  <a:pt x="10711" y="15218"/>
                  <a:pt x="10671" y="15245"/>
                  <a:pt x="10641" y="15255"/>
                </a:cubicBezTo>
                <a:cubicBezTo>
                  <a:pt x="10599" y="15269"/>
                  <a:pt x="10578" y="15255"/>
                  <a:pt x="10641" y="15255"/>
                </a:cubicBezTo>
                <a:cubicBezTo>
                  <a:pt x="10698" y="15255"/>
                  <a:pt x="10719" y="15265"/>
                  <a:pt x="10765" y="15280"/>
                </a:cubicBezTo>
                <a:cubicBezTo>
                  <a:pt x="10807" y="15294"/>
                  <a:pt x="10825" y="15296"/>
                  <a:pt x="10840" y="15329"/>
                </a:cubicBezTo>
                <a:cubicBezTo>
                  <a:pt x="10874" y="15405"/>
                  <a:pt x="10889" y="15444"/>
                  <a:pt x="10889" y="15528"/>
                </a:cubicBezTo>
                <a:cubicBezTo>
                  <a:pt x="10889" y="15595"/>
                  <a:pt x="10854" y="15670"/>
                  <a:pt x="10815" y="15726"/>
                </a:cubicBezTo>
                <a:cubicBezTo>
                  <a:pt x="10785" y="15770"/>
                  <a:pt x="10747" y="15754"/>
                  <a:pt x="10716" y="15726"/>
                </a:cubicBezTo>
                <a:cubicBezTo>
                  <a:pt x="10685" y="15698"/>
                  <a:pt x="10691" y="15690"/>
                  <a:pt x="10691" y="15652"/>
                </a:cubicBezTo>
              </a:path>
              <a:path w="5408" h="1936">
                <a:moveTo>
                  <a:pt x="11013" y="15131"/>
                </a:moveTo>
                <a:cubicBezTo>
                  <a:pt x="11102" y="15131"/>
                  <a:pt x="11235" y="15152"/>
                  <a:pt x="11311" y="15106"/>
                </a:cubicBezTo>
              </a:path>
              <a:path w="5408" h="1936">
                <a:moveTo>
                  <a:pt x="11162" y="15156"/>
                </a:moveTo>
                <a:cubicBezTo>
                  <a:pt x="11162" y="15272"/>
                  <a:pt x="11151" y="15415"/>
                  <a:pt x="11187" y="15528"/>
                </a:cubicBezTo>
                <a:cubicBezTo>
                  <a:pt x="11203" y="15577"/>
                  <a:pt x="11205" y="15591"/>
                  <a:pt x="11237" y="15602"/>
                </a:cubicBezTo>
              </a:path>
              <a:path w="5408" h="1936">
                <a:moveTo>
                  <a:pt x="11261" y="15106"/>
                </a:moveTo>
                <a:cubicBezTo>
                  <a:pt x="11283" y="15164"/>
                  <a:pt x="11325" y="15244"/>
                  <a:pt x="11336" y="15304"/>
                </a:cubicBezTo>
                <a:cubicBezTo>
                  <a:pt x="11352" y="15393"/>
                  <a:pt x="11354" y="15474"/>
                  <a:pt x="11410" y="15553"/>
                </a:cubicBezTo>
                <a:cubicBezTo>
                  <a:pt x="11418" y="15561"/>
                  <a:pt x="11427" y="15569"/>
                  <a:pt x="11435" y="15577"/>
                </a:cubicBezTo>
              </a:path>
              <a:path w="5408" h="1936">
                <a:moveTo>
                  <a:pt x="11757" y="15205"/>
                </a:moveTo>
                <a:cubicBezTo>
                  <a:pt x="11702" y="15356"/>
                  <a:pt x="11655" y="15499"/>
                  <a:pt x="11609" y="15652"/>
                </a:cubicBezTo>
                <a:cubicBezTo>
                  <a:pt x="11560" y="15815"/>
                  <a:pt x="11526" y="15982"/>
                  <a:pt x="11485" y="16148"/>
                </a:cubicBezTo>
                <a:cubicBezTo>
                  <a:pt x="11457" y="16260"/>
                  <a:pt x="11402" y="16382"/>
                  <a:pt x="11385" y="16495"/>
                </a:cubicBezTo>
                <a:cubicBezTo>
                  <a:pt x="11375" y="16565"/>
                  <a:pt x="11348" y="16634"/>
                  <a:pt x="11336" y="16694"/>
                </a:cubicBezTo>
                <a:cubicBezTo>
                  <a:pt x="11331" y="16721"/>
                  <a:pt x="11300" y="16778"/>
                  <a:pt x="11311" y="16718"/>
                </a:cubicBezTo>
                <a:cubicBezTo>
                  <a:pt x="11319" y="16702"/>
                  <a:pt x="11328" y="16685"/>
                  <a:pt x="11336" y="16669"/>
                </a:cubicBezTo>
              </a:path>
              <a:path w="5408" h="1936">
                <a:moveTo>
                  <a:pt x="11559" y="16197"/>
                </a:moveTo>
                <a:cubicBezTo>
                  <a:pt x="11590" y="16170"/>
                  <a:pt x="11667" y="16085"/>
                  <a:pt x="11708" y="16073"/>
                </a:cubicBezTo>
                <a:cubicBezTo>
                  <a:pt x="11754" y="16060"/>
                  <a:pt x="11825" y="16069"/>
                  <a:pt x="11857" y="16098"/>
                </a:cubicBezTo>
                <a:cubicBezTo>
                  <a:pt x="11895" y="16133"/>
                  <a:pt x="11906" y="16147"/>
                  <a:pt x="11906" y="16197"/>
                </a:cubicBezTo>
                <a:cubicBezTo>
                  <a:pt x="11906" y="16255"/>
                  <a:pt x="11882" y="16324"/>
                  <a:pt x="11857" y="16346"/>
                </a:cubicBezTo>
                <a:cubicBezTo>
                  <a:pt x="11825" y="16375"/>
                  <a:pt x="11828" y="16416"/>
                  <a:pt x="11807" y="16446"/>
                </a:cubicBezTo>
                <a:cubicBezTo>
                  <a:pt x="11783" y="16481"/>
                  <a:pt x="11761" y="16488"/>
                  <a:pt x="11757" y="16520"/>
                </a:cubicBezTo>
                <a:cubicBezTo>
                  <a:pt x="11752" y="16563"/>
                  <a:pt x="11746" y="16529"/>
                  <a:pt x="11733" y="16570"/>
                </a:cubicBezTo>
                <a:cubicBezTo>
                  <a:pt x="11764" y="16593"/>
                  <a:pt x="11794" y="16615"/>
                  <a:pt x="11832" y="16619"/>
                </a:cubicBezTo>
                <a:cubicBezTo>
                  <a:pt x="11890" y="16625"/>
                  <a:pt x="11928" y="16606"/>
                  <a:pt x="11981" y="16594"/>
                </a:cubicBezTo>
                <a:cubicBezTo>
                  <a:pt x="12033" y="16582"/>
                  <a:pt x="12103" y="16578"/>
                  <a:pt x="12154" y="16570"/>
                </a:cubicBezTo>
                <a:cubicBezTo>
                  <a:pt x="12199" y="16563"/>
                  <a:pt x="12324" y="16595"/>
                  <a:pt x="12328" y="16545"/>
                </a:cubicBezTo>
                <a:cubicBezTo>
                  <a:pt x="12328" y="16528"/>
                  <a:pt x="12328" y="16512"/>
                  <a:pt x="12328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5840" y="4983120"/>
            <a:ext cx="3251160" cy="1268280"/>
          </a:xfrm>
          <a:custGeom>
            <a:avLst/>
            <a:gdLst/>
            <a:ahLst/>
            <a:rect l="l" t="t" r="r" b="b"/>
            <a:pathLst>
              <a:path w="9030" h="3523">
                <a:moveTo>
                  <a:pt x="4415" y="14263"/>
                </a:moveTo>
                <a:cubicBezTo>
                  <a:pt x="4451" y="14250"/>
                  <a:pt x="4474" y="14225"/>
                  <a:pt x="4514" y="14213"/>
                </a:cubicBezTo>
                <a:cubicBezTo>
                  <a:pt x="4572" y="14195"/>
                  <a:pt x="4645" y="14174"/>
                  <a:pt x="4713" y="14163"/>
                </a:cubicBezTo>
                <a:cubicBezTo>
                  <a:pt x="4817" y="14146"/>
                  <a:pt x="4930" y="14151"/>
                  <a:pt x="5035" y="14139"/>
                </a:cubicBezTo>
                <a:cubicBezTo>
                  <a:pt x="5218" y="14118"/>
                  <a:pt x="5399" y="14107"/>
                  <a:pt x="5581" y="14089"/>
                </a:cubicBezTo>
                <a:cubicBezTo>
                  <a:pt x="5786" y="14068"/>
                  <a:pt x="5995" y="14061"/>
                  <a:pt x="6201" y="14039"/>
                </a:cubicBezTo>
                <a:cubicBezTo>
                  <a:pt x="6481" y="14010"/>
                  <a:pt x="6767" y="13975"/>
                  <a:pt x="7045" y="13940"/>
                </a:cubicBezTo>
                <a:cubicBezTo>
                  <a:pt x="7567" y="13874"/>
                  <a:pt x="8081" y="13841"/>
                  <a:pt x="8607" y="13841"/>
                </a:cubicBezTo>
                <a:cubicBezTo>
                  <a:pt x="8873" y="13841"/>
                  <a:pt x="9136" y="13852"/>
                  <a:pt x="9401" y="13866"/>
                </a:cubicBezTo>
                <a:cubicBezTo>
                  <a:pt x="9657" y="13880"/>
                  <a:pt x="9913" y="13907"/>
                  <a:pt x="10170" y="13915"/>
                </a:cubicBezTo>
                <a:cubicBezTo>
                  <a:pt x="10419" y="13923"/>
                  <a:pt x="10666" y="13954"/>
                  <a:pt x="10914" y="13965"/>
                </a:cubicBezTo>
                <a:cubicBezTo>
                  <a:pt x="11132" y="13975"/>
                  <a:pt x="11343" y="13996"/>
                  <a:pt x="11559" y="14015"/>
                </a:cubicBezTo>
                <a:cubicBezTo>
                  <a:pt x="11717" y="14029"/>
                  <a:pt x="11874" y="14049"/>
                  <a:pt x="12030" y="14064"/>
                </a:cubicBezTo>
                <a:cubicBezTo>
                  <a:pt x="12149" y="14076"/>
                  <a:pt x="12263" y="14082"/>
                  <a:pt x="12378" y="14114"/>
                </a:cubicBezTo>
                <a:cubicBezTo>
                  <a:pt x="12435" y="14130"/>
                  <a:pt x="12530" y="14144"/>
                  <a:pt x="12576" y="14188"/>
                </a:cubicBezTo>
                <a:cubicBezTo>
                  <a:pt x="12632" y="14241"/>
                  <a:pt x="12647" y="14321"/>
                  <a:pt x="12675" y="14387"/>
                </a:cubicBezTo>
                <a:cubicBezTo>
                  <a:pt x="12705" y="14459"/>
                  <a:pt x="12710" y="14533"/>
                  <a:pt x="12725" y="14610"/>
                </a:cubicBezTo>
                <a:cubicBezTo>
                  <a:pt x="12745" y="14717"/>
                  <a:pt x="12738" y="14823"/>
                  <a:pt x="12750" y="14932"/>
                </a:cubicBezTo>
                <a:cubicBezTo>
                  <a:pt x="12765" y="15062"/>
                  <a:pt x="12777" y="15201"/>
                  <a:pt x="12799" y="15329"/>
                </a:cubicBezTo>
                <a:cubicBezTo>
                  <a:pt x="12850" y="15627"/>
                  <a:pt x="12910" y="15922"/>
                  <a:pt x="12948" y="16222"/>
                </a:cubicBezTo>
                <a:cubicBezTo>
                  <a:pt x="12969" y="16389"/>
                  <a:pt x="12979" y="16552"/>
                  <a:pt x="12998" y="16718"/>
                </a:cubicBezTo>
                <a:cubicBezTo>
                  <a:pt x="13011" y="16834"/>
                  <a:pt x="13034" y="16950"/>
                  <a:pt x="13047" y="17066"/>
                </a:cubicBezTo>
                <a:cubicBezTo>
                  <a:pt x="13054" y="17130"/>
                  <a:pt x="13064" y="17198"/>
                  <a:pt x="13072" y="17264"/>
                </a:cubicBezTo>
                <a:cubicBezTo>
                  <a:pt x="13035" y="17257"/>
                  <a:pt x="13015" y="17218"/>
                  <a:pt x="12973" y="17214"/>
                </a:cubicBezTo>
                <a:cubicBezTo>
                  <a:pt x="12861" y="17205"/>
                  <a:pt x="12747" y="17225"/>
                  <a:pt x="12650" y="17239"/>
                </a:cubicBezTo>
                <a:cubicBezTo>
                  <a:pt x="12566" y="17251"/>
                  <a:pt x="12485" y="17276"/>
                  <a:pt x="12402" y="17289"/>
                </a:cubicBezTo>
                <a:cubicBezTo>
                  <a:pt x="12304" y="17304"/>
                  <a:pt x="12204" y="17325"/>
                  <a:pt x="12105" y="17338"/>
                </a:cubicBezTo>
                <a:cubicBezTo>
                  <a:pt x="11993" y="17353"/>
                  <a:pt x="11869" y="17358"/>
                  <a:pt x="11757" y="17363"/>
                </a:cubicBezTo>
                <a:cubicBezTo>
                  <a:pt x="10857" y="17405"/>
                  <a:pt x="9947" y="17339"/>
                  <a:pt x="9054" y="17264"/>
                </a:cubicBezTo>
                <a:cubicBezTo>
                  <a:pt x="8699" y="17234"/>
                  <a:pt x="8342" y="17240"/>
                  <a:pt x="7987" y="17214"/>
                </a:cubicBezTo>
                <a:cubicBezTo>
                  <a:pt x="7176" y="17155"/>
                  <a:pt x="6368" y="16998"/>
                  <a:pt x="5556" y="16966"/>
                </a:cubicBezTo>
                <a:cubicBezTo>
                  <a:pt x="5308" y="16956"/>
                  <a:pt x="5060" y="16960"/>
                  <a:pt x="4812" y="16942"/>
                </a:cubicBezTo>
                <a:cubicBezTo>
                  <a:pt x="4590" y="16925"/>
                  <a:pt x="4358" y="16901"/>
                  <a:pt x="4142" y="16867"/>
                </a:cubicBezTo>
                <a:cubicBezTo>
                  <a:pt x="4106" y="16861"/>
                  <a:pt x="4082" y="16849"/>
                  <a:pt x="4043" y="168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4.  2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– Sin x – 1 = 0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670040" y="1509840"/>
            <a:ext cx="992160" cy="696960"/>
          </a:xfrm>
          <a:custGeom>
            <a:avLst/>
            <a:gdLst/>
            <a:ahLst/>
            <a:rect l="l" t="t" r="r" b="b"/>
            <a:pathLst>
              <a:path w="2755" h="1936">
                <a:moveTo>
                  <a:pt x="5184" y="4192"/>
                </a:moveTo>
                <a:cubicBezTo>
                  <a:pt x="5161" y="4215"/>
                  <a:pt x="5154" y="4212"/>
                  <a:pt x="5135" y="4242"/>
                </a:cubicBezTo>
                <a:cubicBezTo>
                  <a:pt x="5102" y="4293"/>
                  <a:pt x="5095" y="4285"/>
                  <a:pt x="5060" y="4341"/>
                </a:cubicBezTo>
                <a:cubicBezTo>
                  <a:pt x="5027" y="4393"/>
                  <a:pt x="4999" y="4465"/>
                  <a:pt x="4961" y="4514"/>
                </a:cubicBezTo>
                <a:cubicBezTo>
                  <a:pt x="4892" y="4602"/>
                  <a:pt x="4861" y="4708"/>
                  <a:pt x="4812" y="4812"/>
                </a:cubicBezTo>
                <a:cubicBezTo>
                  <a:pt x="4752" y="4940"/>
                  <a:pt x="4701" y="5073"/>
                  <a:pt x="4663" y="5209"/>
                </a:cubicBezTo>
                <a:cubicBezTo>
                  <a:pt x="4627" y="5339"/>
                  <a:pt x="4621" y="5523"/>
                  <a:pt x="4638" y="5655"/>
                </a:cubicBezTo>
                <a:cubicBezTo>
                  <a:pt x="4650" y="5750"/>
                  <a:pt x="4700" y="5859"/>
                  <a:pt x="4762" y="5928"/>
                </a:cubicBezTo>
                <a:cubicBezTo>
                  <a:pt x="4811" y="5983"/>
                  <a:pt x="4868" y="6048"/>
                  <a:pt x="4936" y="6077"/>
                </a:cubicBezTo>
                <a:cubicBezTo>
                  <a:pt x="4949" y="6082"/>
                  <a:pt x="5050" y="6130"/>
                  <a:pt x="5060" y="6127"/>
                </a:cubicBezTo>
                <a:cubicBezTo>
                  <a:pt x="5060" y="6119"/>
                  <a:pt x="5060" y="6110"/>
                  <a:pt x="5060" y="6102"/>
                </a:cubicBezTo>
              </a:path>
              <a:path w="2755" h="1936">
                <a:moveTo>
                  <a:pt x="5159" y="4762"/>
                </a:moveTo>
                <a:cubicBezTo>
                  <a:pt x="5098" y="4825"/>
                  <a:pt x="5176" y="4727"/>
                  <a:pt x="5184" y="4713"/>
                </a:cubicBezTo>
                <a:cubicBezTo>
                  <a:pt x="5203" y="4682"/>
                  <a:pt x="5215" y="4620"/>
                  <a:pt x="5234" y="4589"/>
                </a:cubicBezTo>
                <a:cubicBezTo>
                  <a:pt x="5255" y="4555"/>
                  <a:pt x="5272" y="4531"/>
                  <a:pt x="5308" y="4514"/>
                </a:cubicBezTo>
                <a:cubicBezTo>
                  <a:pt x="5341" y="4499"/>
                  <a:pt x="5371" y="4483"/>
                  <a:pt x="5407" y="4490"/>
                </a:cubicBezTo>
                <a:cubicBezTo>
                  <a:pt x="5416" y="4492"/>
                  <a:pt x="5504" y="4536"/>
                  <a:pt x="5507" y="4539"/>
                </a:cubicBezTo>
                <a:cubicBezTo>
                  <a:pt x="5518" y="4551"/>
                  <a:pt x="5553" y="4645"/>
                  <a:pt x="5556" y="4663"/>
                </a:cubicBezTo>
                <a:cubicBezTo>
                  <a:pt x="5576" y="4779"/>
                  <a:pt x="5549" y="4903"/>
                  <a:pt x="5531" y="5011"/>
                </a:cubicBezTo>
                <a:cubicBezTo>
                  <a:pt x="5515" y="5106"/>
                  <a:pt x="5484" y="5224"/>
                  <a:pt x="5432" y="5308"/>
                </a:cubicBezTo>
                <a:cubicBezTo>
                  <a:pt x="5390" y="5375"/>
                  <a:pt x="5358" y="5466"/>
                  <a:pt x="5308" y="5531"/>
                </a:cubicBezTo>
                <a:cubicBezTo>
                  <a:pt x="5261" y="5593"/>
                  <a:pt x="5214" y="5649"/>
                  <a:pt x="5159" y="5705"/>
                </a:cubicBezTo>
                <a:cubicBezTo>
                  <a:pt x="5139" y="5725"/>
                  <a:pt x="5094" y="5795"/>
                  <a:pt x="5060" y="5779"/>
                </a:cubicBezTo>
                <a:cubicBezTo>
                  <a:pt x="5030" y="5765"/>
                  <a:pt x="5102" y="5756"/>
                  <a:pt x="5135" y="5755"/>
                </a:cubicBezTo>
                <a:cubicBezTo>
                  <a:pt x="5332" y="5746"/>
                  <a:pt x="5532" y="5755"/>
                  <a:pt x="5730" y="5755"/>
                </a:cubicBezTo>
              </a:path>
              <a:path w="2755" h="1936">
                <a:moveTo>
                  <a:pt x="5978" y="5135"/>
                </a:moveTo>
                <a:cubicBezTo>
                  <a:pt x="5956" y="5118"/>
                  <a:pt x="5912" y="5091"/>
                  <a:pt x="5879" y="5110"/>
                </a:cubicBezTo>
                <a:cubicBezTo>
                  <a:pt x="5845" y="5129"/>
                  <a:pt x="5815" y="5168"/>
                  <a:pt x="5779" y="5184"/>
                </a:cubicBezTo>
                <a:cubicBezTo>
                  <a:pt x="5752" y="5196"/>
                  <a:pt x="5735" y="5217"/>
                  <a:pt x="5730" y="5259"/>
                </a:cubicBezTo>
                <a:cubicBezTo>
                  <a:pt x="5724" y="5308"/>
                  <a:pt x="5793" y="5320"/>
                  <a:pt x="5829" y="5333"/>
                </a:cubicBezTo>
                <a:cubicBezTo>
                  <a:pt x="5882" y="5352"/>
                  <a:pt x="5968" y="5382"/>
                  <a:pt x="6003" y="5432"/>
                </a:cubicBezTo>
                <a:cubicBezTo>
                  <a:pt x="6044" y="5489"/>
                  <a:pt x="6052" y="5514"/>
                  <a:pt x="6052" y="5581"/>
                </a:cubicBezTo>
                <a:cubicBezTo>
                  <a:pt x="6052" y="5638"/>
                  <a:pt x="6013" y="5706"/>
                  <a:pt x="5978" y="5755"/>
                </a:cubicBezTo>
                <a:cubicBezTo>
                  <a:pt x="5950" y="5795"/>
                  <a:pt x="5892" y="5813"/>
                  <a:pt x="5854" y="5829"/>
                </a:cubicBezTo>
                <a:cubicBezTo>
                  <a:pt x="5813" y="5849"/>
                  <a:pt x="5807" y="5858"/>
                  <a:pt x="5779" y="5854"/>
                </a:cubicBezTo>
                <a:cubicBezTo>
                  <a:pt x="5763" y="5831"/>
                  <a:pt x="5737" y="5788"/>
                  <a:pt x="5755" y="5755"/>
                </a:cubicBezTo>
                <a:cubicBezTo>
                  <a:pt x="5763" y="5747"/>
                  <a:pt x="5771" y="5738"/>
                  <a:pt x="5779" y="5730"/>
                </a:cubicBezTo>
              </a:path>
              <a:path w="2755" h="1936">
                <a:moveTo>
                  <a:pt x="6201" y="5234"/>
                </a:moveTo>
                <a:cubicBezTo>
                  <a:pt x="6201" y="5383"/>
                  <a:pt x="6186" y="5547"/>
                  <a:pt x="6226" y="5680"/>
                </a:cubicBezTo>
                <a:cubicBezTo>
                  <a:pt x="6226" y="5713"/>
                  <a:pt x="6226" y="5730"/>
                  <a:pt x="6226" y="5755"/>
                </a:cubicBezTo>
                <a:cubicBezTo>
                  <a:pt x="6194" y="5712"/>
                  <a:pt x="6201" y="5715"/>
                  <a:pt x="6201" y="5655"/>
                </a:cubicBezTo>
              </a:path>
              <a:path w="2755" h="1936">
                <a:moveTo>
                  <a:pt x="6176" y="4961"/>
                </a:moveTo>
                <a:cubicBezTo>
                  <a:pt x="6203" y="4925"/>
                  <a:pt x="6193" y="4922"/>
                  <a:pt x="6226" y="4911"/>
                </a:cubicBezTo>
              </a:path>
              <a:path w="2755" h="1936">
                <a:moveTo>
                  <a:pt x="6375" y="5457"/>
                </a:moveTo>
                <a:cubicBezTo>
                  <a:pt x="6375" y="5573"/>
                  <a:pt x="6375" y="5688"/>
                  <a:pt x="6375" y="5804"/>
                </a:cubicBezTo>
                <a:cubicBezTo>
                  <a:pt x="6375" y="5677"/>
                  <a:pt x="6366" y="5552"/>
                  <a:pt x="6400" y="5432"/>
                </a:cubicBezTo>
                <a:cubicBezTo>
                  <a:pt x="6428" y="5333"/>
                  <a:pt x="6454" y="5280"/>
                  <a:pt x="6524" y="5209"/>
                </a:cubicBezTo>
                <a:cubicBezTo>
                  <a:pt x="6563" y="5169"/>
                  <a:pt x="6575" y="5152"/>
                  <a:pt x="6623" y="5184"/>
                </a:cubicBezTo>
                <a:cubicBezTo>
                  <a:pt x="6655" y="5205"/>
                  <a:pt x="6674" y="5294"/>
                  <a:pt x="6697" y="5333"/>
                </a:cubicBezTo>
                <a:cubicBezTo>
                  <a:pt x="6730" y="5387"/>
                  <a:pt x="6744" y="5469"/>
                  <a:pt x="6747" y="5531"/>
                </a:cubicBezTo>
                <a:cubicBezTo>
                  <a:pt x="6750" y="5590"/>
                  <a:pt x="6772" y="5617"/>
                  <a:pt x="6772" y="5680"/>
                </a:cubicBezTo>
                <a:cubicBezTo>
                  <a:pt x="6772" y="5697"/>
                  <a:pt x="6796" y="5751"/>
                  <a:pt x="6796" y="5705"/>
                </a:cubicBezTo>
                <a:cubicBezTo>
                  <a:pt x="6796" y="5697"/>
                  <a:pt x="6796" y="5688"/>
                  <a:pt x="6796" y="5680"/>
                </a:cubicBezTo>
              </a:path>
              <a:path w="2755" h="1936">
                <a:moveTo>
                  <a:pt x="6921" y="5184"/>
                </a:moveTo>
                <a:cubicBezTo>
                  <a:pt x="6968" y="5252"/>
                  <a:pt x="7008" y="5309"/>
                  <a:pt x="7045" y="5383"/>
                </a:cubicBezTo>
                <a:cubicBezTo>
                  <a:pt x="7080" y="5454"/>
                  <a:pt x="7128" y="5493"/>
                  <a:pt x="7169" y="5556"/>
                </a:cubicBezTo>
                <a:cubicBezTo>
                  <a:pt x="7214" y="5625"/>
                  <a:pt x="7259" y="5652"/>
                  <a:pt x="7317" y="5705"/>
                </a:cubicBezTo>
                <a:cubicBezTo>
                  <a:pt x="7344" y="5730"/>
                  <a:pt x="7387" y="5767"/>
                  <a:pt x="7392" y="5730"/>
                </a:cubicBezTo>
                <a:cubicBezTo>
                  <a:pt x="7392" y="5722"/>
                  <a:pt x="7392" y="5713"/>
                  <a:pt x="7392" y="5705"/>
                </a:cubicBezTo>
              </a:path>
              <a:path w="2755" h="1936">
                <a:moveTo>
                  <a:pt x="7317" y="5159"/>
                </a:moveTo>
                <a:cubicBezTo>
                  <a:pt x="7251" y="5244"/>
                  <a:pt x="7182" y="5323"/>
                  <a:pt x="7119" y="5407"/>
                </a:cubicBezTo>
                <a:cubicBezTo>
                  <a:pt x="7062" y="5484"/>
                  <a:pt x="7005" y="5555"/>
                  <a:pt x="6945" y="5631"/>
                </a:cubicBezTo>
                <a:cubicBezTo>
                  <a:pt x="6897" y="5692"/>
                  <a:pt x="6842" y="5716"/>
                  <a:pt x="6796" y="5779"/>
                </a:cubicBezTo>
                <a:cubicBezTo>
                  <a:pt x="6785" y="5793"/>
                  <a:pt x="6727" y="5835"/>
                  <a:pt x="6722" y="5829"/>
                </a:cubicBezTo>
                <a:cubicBezTo>
                  <a:pt x="6722" y="5804"/>
                  <a:pt x="6722" y="5796"/>
                  <a:pt x="6747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90880" y="1776240"/>
            <a:ext cx="241200" cy="295560"/>
          </a:xfrm>
          <a:custGeom>
            <a:avLst/>
            <a:gdLst/>
            <a:ahLst/>
            <a:rect l="l" t="t" r="r" b="b"/>
            <a:pathLst>
              <a:path w="670" h="820">
                <a:moveTo>
                  <a:pt x="8607" y="4936"/>
                </a:moveTo>
                <a:cubicBezTo>
                  <a:pt x="8618" y="4981"/>
                  <a:pt x="8632" y="5006"/>
                  <a:pt x="8632" y="5060"/>
                </a:cubicBezTo>
                <a:cubicBezTo>
                  <a:pt x="8632" y="5130"/>
                  <a:pt x="8639" y="5241"/>
                  <a:pt x="8657" y="5308"/>
                </a:cubicBezTo>
                <a:cubicBezTo>
                  <a:pt x="8676" y="5380"/>
                  <a:pt x="8683" y="5461"/>
                  <a:pt x="8706" y="5531"/>
                </a:cubicBezTo>
                <a:cubicBezTo>
                  <a:pt x="8727" y="5595"/>
                  <a:pt x="8751" y="5641"/>
                  <a:pt x="8756" y="5705"/>
                </a:cubicBezTo>
                <a:cubicBezTo>
                  <a:pt x="8763" y="5794"/>
                  <a:pt x="8730" y="5721"/>
                  <a:pt x="8706" y="5680"/>
                </a:cubicBezTo>
              </a:path>
              <a:path w="670" h="820">
                <a:moveTo>
                  <a:pt x="8310" y="5432"/>
                </a:moveTo>
                <a:cubicBezTo>
                  <a:pt x="8416" y="5432"/>
                  <a:pt x="8508" y="5419"/>
                  <a:pt x="8607" y="5407"/>
                </a:cubicBezTo>
                <a:cubicBezTo>
                  <a:pt x="8693" y="5396"/>
                  <a:pt x="8772" y="5371"/>
                  <a:pt x="8855" y="5358"/>
                </a:cubicBezTo>
                <a:cubicBezTo>
                  <a:pt x="8857" y="5358"/>
                  <a:pt x="9035" y="5358"/>
                  <a:pt x="8954" y="5358"/>
                </a:cubicBezTo>
                <a:cubicBezTo>
                  <a:pt x="8946" y="5358"/>
                  <a:pt x="8938" y="5358"/>
                  <a:pt x="8930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54280" y="1482840"/>
            <a:ext cx="1785960" cy="687240"/>
          </a:xfrm>
          <a:custGeom>
            <a:avLst/>
            <a:gdLst/>
            <a:ahLst/>
            <a:rect l="l" t="t" r="r" b="b"/>
            <a:pathLst>
              <a:path w="4962" h="1911">
                <a:moveTo>
                  <a:pt x="10840" y="4118"/>
                </a:moveTo>
                <a:cubicBezTo>
                  <a:pt x="10858" y="4140"/>
                  <a:pt x="10866" y="4156"/>
                  <a:pt x="10889" y="4192"/>
                </a:cubicBezTo>
                <a:cubicBezTo>
                  <a:pt x="10921" y="4241"/>
                  <a:pt x="10958" y="4306"/>
                  <a:pt x="10988" y="4366"/>
                </a:cubicBezTo>
                <a:cubicBezTo>
                  <a:pt x="11062" y="4515"/>
                  <a:pt x="11072" y="4610"/>
                  <a:pt x="11063" y="4762"/>
                </a:cubicBezTo>
                <a:cubicBezTo>
                  <a:pt x="11054" y="4919"/>
                  <a:pt x="11016" y="5044"/>
                  <a:pt x="10939" y="5184"/>
                </a:cubicBezTo>
                <a:cubicBezTo>
                  <a:pt x="10858" y="5331"/>
                  <a:pt x="10776" y="5479"/>
                  <a:pt x="10666" y="5606"/>
                </a:cubicBezTo>
                <a:cubicBezTo>
                  <a:pt x="10581" y="5704"/>
                  <a:pt x="10489" y="5823"/>
                  <a:pt x="10393" y="5904"/>
                </a:cubicBezTo>
                <a:cubicBezTo>
                  <a:pt x="10362" y="5930"/>
                  <a:pt x="10269" y="6020"/>
                  <a:pt x="10269" y="5978"/>
                </a:cubicBezTo>
                <a:cubicBezTo>
                  <a:pt x="10294" y="5978"/>
                  <a:pt x="10302" y="5978"/>
                  <a:pt x="10294" y="5953"/>
                </a:cubicBezTo>
              </a:path>
              <a:path w="4962" h="1911">
                <a:moveTo>
                  <a:pt x="11708" y="4118"/>
                </a:moveTo>
                <a:cubicBezTo>
                  <a:pt x="11655" y="4131"/>
                  <a:pt x="11654" y="4127"/>
                  <a:pt x="11609" y="4167"/>
                </a:cubicBezTo>
                <a:cubicBezTo>
                  <a:pt x="11547" y="4222"/>
                  <a:pt x="11431" y="4304"/>
                  <a:pt x="11385" y="4366"/>
                </a:cubicBezTo>
                <a:cubicBezTo>
                  <a:pt x="11269" y="4521"/>
                  <a:pt x="11129" y="4702"/>
                  <a:pt x="11063" y="4887"/>
                </a:cubicBezTo>
                <a:cubicBezTo>
                  <a:pt x="11020" y="5007"/>
                  <a:pt x="10974" y="5180"/>
                  <a:pt x="10988" y="5308"/>
                </a:cubicBezTo>
                <a:cubicBezTo>
                  <a:pt x="11000" y="5416"/>
                  <a:pt x="11008" y="5582"/>
                  <a:pt x="11063" y="5680"/>
                </a:cubicBezTo>
                <a:cubicBezTo>
                  <a:pt x="11098" y="5744"/>
                  <a:pt x="11157" y="5854"/>
                  <a:pt x="11212" y="5904"/>
                </a:cubicBezTo>
                <a:cubicBezTo>
                  <a:pt x="11251" y="5939"/>
                  <a:pt x="11296" y="5958"/>
                  <a:pt x="11336" y="5978"/>
                </a:cubicBezTo>
                <a:cubicBezTo>
                  <a:pt x="11406" y="6013"/>
                  <a:pt x="11347" y="5994"/>
                  <a:pt x="11385" y="5978"/>
                </a:cubicBezTo>
              </a:path>
              <a:path w="4962" h="1911">
                <a:moveTo>
                  <a:pt x="11782" y="5135"/>
                </a:moveTo>
                <a:cubicBezTo>
                  <a:pt x="11705" y="5135"/>
                  <a:pt x="11649" y="5138"/>
                  <a:pt x="11584" y="5159"/>
                </a:cubicBezTo>
                <a:cubicBezTo>
                  <a:pt x="11548" y="5171"/>
                  <a:pt x="11523" y="5202"/>
                  <a:pt x="11509" y="5209"/>
                </a:cubicBezTo>
                <a:cubicBezTo>
                  <a:pt x="11500" y="5214"/>
                  <a:pt x="11419" y="5251"/>
                  <a:pt x="11460" y="5283"/>
                </a:cubicBezTo>
                <a:cubicBezTo>
                  <a:pt x="11474" y="5294"/>
                  <a:pt x="11540" y="5327"/>
                  <a:pt x="11559" y="5333"/>
                </a:cubicBezTo>
                <a:cubicBezTo>
                  <a:pt x="11602" y="5347"/>
                  <a:pt x="11645" y="5373"/>
                  <a:pt x="11683" y="5407"/>
                </a:cubicBezTo>
                <a:cubicBezTo>
                  <a:pt x="11728" y="5447"/>
                  <a:pt x="11787" y="5497"/>
                  <a:pt x="11807" y="5556"/>
                </a:cubicBezTo>
                <a:cubicBezTo>
                  <a:pt x="11824" y="5606"/>
                  <a:pt x="11808" y="5688"/>
                  <a:pt x="11782" y="5730"/>
                </a:cubicBezTo>
                <a:cubicBezTo>
                  <a:pt x="11753" y="5777"/>
                  <a:pt x="11683" y="5814"/>
                  <a:pt x="11633" y="5829"/>
                </a:cubicBezTo>
                <a:cubicBezTo>
                  <a:pt x="11546" y="5856"/>
                  <a:pt x="11526" y="5846"/>
                  <a:pt x="11435" y="5829"/>
                </a:cubicBezTo>
                <a:cubicBezTo>
                  <a:pt x="11399" y="5822"/>
                  <a:pt x="11365" y="5811"/>
                  <a:pt x="11361" y="5779"/>
                </a:cubicBezTo>
                <a:cubicBezTo>
                  <a:pt x="11361" y="5771"/>
                  <a:pt x="11361" y="5763"/>
                  <a:pt x="11361" y="5755"/>
                </a:cubicBezTo>
              </a:path>
              <a:path w="4962" h="1911">
                <a:moveTo>
                  <a:pt x="11956" y="5283"/>
                </a:moveTo>
                <a:cubicBezTo>
                  <a:pt x="11956" y="5465"/>
                  <a:pt x="11956" y="5647"/>
                  <a:pt x="11956" y="5829"/>
                </a:cubicBezTo>
                <a:cubicBezTo>
                  <a:pt x="11914" y="5815"/>
                  <a:pt x="11931" y="5781"/>
                  <a:pt x="11931" y="5730"/>
                </a:cubicBezTo>
              </a:path>
              <a:path w="4962" h="1911">
                <a:moveTo>
                  <a:pt x="12005" y="5011"/>
                </a:moveTo>
                <a:cubicBezTo>
                  <a:pt x="12046" y="4991"/>
                  <a:pt x="12052" y="4982"/>
                  <a:pt x="12080" y="4986"/>
                </a:cubicBezTo>
              </a:path>
              <a:path w="4962" h="1911">
                <a:moveTo>
                  <a:pt x="12179" y="5531"/>
                </a:moveTo>
                <a:cubicBezTo>
                  <a:pt x="12145" y="5660"/>
                  <a:pt x="12129" y="5712"/>
                  <a:pt x="12129" y="5829"/>
                </a:cubicBezTo>
                <a:cubicBezTo>
                  <a:pt x="12129" y="5837"/>
                  <a:pt x="12129" y="5846"/>
                  <a:pt x="12129" y="5854"/>
                </a:cubicBezTo>
                <a:cubicBezTo>
                  <a:pt x="12162" y="5810"/>
                  <a:pt x="12154" y="5788"/>
                  <a:pt x="12154" y="5730"/>
                </a:cubicBezTo>
                <a:cubicBezTo>
                  <a:pt x="12154" y="5592"/>
                  <a:pt x="12157" y="5463"/>
                  <a:pt x="12179" y="5333"/>
                </a:cubicBezTo>
                <a:cubicBezTo>
                  <a:pt x="12187" y="5288"/>
                  <a:pt x="12190" y="5214"/>
                  <a:pt x="12229" y="5184"/>
                </a:cubicBezTo>
                <a:cubicBezTo>
                  <a:pt x="12266" y="5155"/>
                  <a:pt x="12380" y="5139"/>
                  <a:pt x="12427" y="5159"/>
                </a:cubicBezTo>
                <a:cubicBezTo>
                  <a:pt x="12489" y="5185"/>
                  <a:pt x="12487" y="5285"/>
                  <a:pt x="12502" y="5333"/>
                </a:cubicBezTo>
                <a:cubicBezTo>
                  <a:pt x="12527" y="5410"/>
                  <a:pt x="12509" y="5479"/>
                  <a:pt x="12526" y="5556"/>
                </a:cubicBezTo>
                <a:cubicBezTo>
                  <a:pt x="12540" y="5621"/>
                  <a:pt x="12551" y="5664"/>
                  <a:pt x="12551" y="5730"/>
                </a:cubicBezTo>
                <a:cubicBezTo>
                  <a:pt x="12551" y="5747"/>
                  <a:pt x="12576" y="5865"/>
                  <a:pt x="12576" y="5804"/>
                </a:cubicBezTo>
                <a:cubicBezTo>
                  <a:pt x="12576" y="5796"/>
                  <a:pt x="12576" y="5787"/>
                  <a:pt x="12576" y="5779"/>
                </a:cubicBezTo>
              </a:path>
              <a:path w="4962" h="1911">
                <a:moveTo>
                  <a:pt x="12774" y="5184"/>
                </a:moveTo>
                <a:cubicBezTo>
                  <a:pt x="12814" y="5247"/>
                  <a:pt x="12870" y="5314"/>
                  <a:pt x="12898" y="5383"/>
                </a:cubicBezTo>
                <a:cubicBezTo>
                  <a:pt x="12942" y="5491"/>
                  <a:pt x="12987" y="5584"/>
                  <a:pt x="13047" y="5680"/>
                </a:cubicBezTo>
                <a:cubicBezTo>
                  <a:pt x="13078" y="5729"/>
                  <a:pt x="13115" y="5801"/>
                  <a:pt x="13171" y="5829"/>
                </a:cubicBezTo>
                <a:cubicBezTo>
                  <a:pt x="13232" y="5849"/>
                  <a:pt x="13247" y="5847"/>
                  <a:pt x="13271" y="5879"/>
                </a:cubicBezTo>
                <a:cubicBezTo>
                  <a:pt x="13296" y="5844"/>
                  <a:pt x="13295" y="5847"/>
                  <a:pt x="13295" y="5804"/>
                </a:cubicBezTo>
              </a:path>
              <a:path w="4962" h="1911">
                <a:moveTo>
                  <a:pt x="13146" y="5259"/>
                </a:moveTo>
                <a:cubicBezTo>
                  <a:pt x="13075" y="5422"/>
                  <a:pt x="13018" y="5547"/>
                  <a:pt x="12898" y="5680"/>
                </a:cubicBezTo>
                <a:cubicBezTo>
                  <a:pt x="12837" y="5747"/>
                  <a:pt x="12785" y="5813"/>
                  <a:pt x="12725" y="5879"/>
                </a:cubicBezTo>
                <a:cubicBezTo>
                  <a:pt x="12689" y="5918"/>
                  <a:pt x="12632" y="5950"/>
                  <a:pt x="12626" y="6003"/>
                </a:cubicBezTo>
                <a:cubicBezTo>
                  <a:pt x="12622" y="6041"/>
                  <a:pt x="12613" y="6028"/>
                  <a:pt x="12576" y="6028"/>
                </a:cubicBezTo>
              </a:path>
              <a:path w="4962" h="1911">
                <a:moveTo>
                  <a:pt x="9996" y="4539"/>
                </a:moveTo>
                <a:cubicBezTo>
                  <a:pt x="9996" y="4514"/>
                  <a:pt x="9996" y="4506"/>
                  <a:pt x="9971" y="4514"/>
                </a:cubicBezTo>
                <a:cubicBezTo>
                  <a:pt x="9971" y="4565"/>
                  <a:pt x="9989" y="4590"/>
                  <a:pt x="9996" y="4638"/>
                </a:cubicBezTo>
                <a:cubicBezTo>
                  <a:pt x="10022" y="4824"/>
                  <a:pt x="9988" y="5028"/>
                  <a:pt x="9971" y="5209"/>
                </a:cubicBezTo>
                <a:cubicBezTo>
                  <a:pt x="9958" y="5352"/>
                  <a:pt x="9919" y="5489"/>
                  <a:pt x="9897" y="5631"/>
                </a:cubicBezTo>
                <a:cubicBezTo>
                  <a:pt x="9888" y="5692"/>
                  <a:pt x="9872" y="5741"/>
                  <a:pt x="9872" y="5804"/>
                </a:cubicBezTo>
                <a:cubicBezTo>
                  <a:pt x="9872" y="5836"/>
                  <a:pt x="9888" y="5853"/>
                  <a:pt x="9872" y="5804"/>
                </a:cubicBezTo>
              </a:path>
              <a:path w="4962" h="1911">
                <a:moveTo>
                  <a:pt x="13816" y="5333"/>
                </a:moveTo>
                <a:cubicBezTo>
                  <a:pt x="14017" y="5333"/>
                  <a:pt x="14216" y="5331"/>
                  <a:pt x="14412" y="5358"/>
                </a:cubicBezTo>
                <a:cubicBezTo>
                  <a:pt x="14559" y="5378"/>
                  <a:pt x="14957" y="5358"/>
                  <a:pt x="14808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69000" y="1625760"/>
            <a:ext cx="44280" cy="509400"/>
          </a:xfrm>
          <a:custGeom>
            <a:avLst/>
            <a:gdLst/>
            <a:ahLst/>
            <a:rect l="l" t="t" r="r" b="b"/>
            <a:pathLst>
              <a:path w="125" h="1415">
                <a:moveTo>
                  <a:pt x="16148" y="4514"/>
                </a:moveTo>
                <a:cubicBezTo>
                  <a:pt x="16148" y="4579"/>
                  <a:pt x="16127" y="4625"/>
                  <a:pt x="16123" y="4688"/>
                </a:cubicBezTo>
                <a:cubicBezTo>
                  <a:pt x="16113" y="4864"/>
                  <a:pt x="16117" y="5037"/>
                  <a:pt x="16098" y="5209"/>
                </a:cubicBezTo>
                <a:cubicBezTo>
                  <a:pt x="16088" y="5305"/>
                  <a:pt x="16091" y="5412"/>
                  <a:pt x="16073" y="5507"/>
                </a:cubicBezTo>
                <a:cubicBezTo>
                  <a:pt x="16058" y="5584"/>
                  <a:pt x="16070" y="5682"/>
                  <a:pt x="16049" y="5755"/>
                </a:cubicBezTo>
                <a:cubicBezTo>
                  <a:pt x="16032" y="5815"/>
                  <a:pt x="16024" y="5839"/>
                  <a:pt x="16024" y="5904"/>
                </a:cubicBezTo>
                <a:cubicBezTo>
                  <a:pt x="16024" y="5928"/>
                  <a:pt x="16024" y="5936"/>
                  <a:pt x="16024" y="59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5040" y="2527200"/>
            <a:ext cx="2108160" cy="608040"/>
          </a:xfrm>
          <a:custGeom>
            <a:avLst/>
            <a:gdLst/>
            <a:ahLst/>
            <a:rect l="l" t="t" r="r" b="b"/>
            <a:pathLst>
              <a:path w="5855" h="1687">
                <a:moveTo>
                  <a:pt x="4514" y="7293"/>
                </a:moveTo>
                <a:cubicBezTo>
                  <a:pt x="4528" y="7275"/>
                  <a:pt x="4539" y="7249"/>
                  <a:pt x="4564" y="7218"/>
                </a:cubicBezTo>
                <a:cubicBezTo>
                  <a:pt x="4588" y="7189"/>
                  <a:pt x="4599" y="7138"/>
                  <a:pt x="4638" y="7119"/>
                </a:cubicBezTo>
                <a:cubicBezTo>
                  <a:pt x="4685" y="7097"/>
                  <a:pt x="4718" y="7074"/>
                  <a:pt x="4762" y="7045"/>
                </a:cubicBezTo>
                <a:cubicBezTo>
                  <a:pt x="4797" y="7021"/>
                  <a:pt x="4863" y="7010"/>
                  <a:pt x="4911" y="7020"/>
                </a:cubicBezTo>
                <a:cubicBezTo>
                  <a:pt x="4950" y="7029"/>
                  <a:pt x="5005" y="7048"/>
                  <a:pt x="5035" y="7069"/>
                </a:cubicBezTo>
                <a:cubicBezTo>
                  <a:pt x="5077" y="7098"/>
                  <a:pt x="5058" y="7148"/>
                  <a:pt x="5060" y="7193"/>
                </a:cubicBezTo>
                <a:cubicBezTo>
                  <a:pt x="5063" y="7265"/>
                  <a:pt x="5064" y="7326"/>
                  <a:pt x="5035" y="7392"/>
                </a:cubicBezTo>
                <a:cubicBezTo>
                  <a:pt x="5009" y="7451"/>
                  <a:pt x="4991" y="7506"/>
                  <a:pt x="4961" y="7565"/>
                </a:cubicBezTo>
                <a:cubicBezTo>
                  <a:pt x="4915" y="7657"/>
                  <a:pt x="4872" y="7733"/>
                  <a:pt x="4812" y="7813"/>
                </a:cubicBezTo>
                <a:cubicBezTo>
                  <a:pt x="4751" y="7895"/>
                  <a:pt x="4712" y="7964"/>
                  <a:pt x="4638" y="8037"/>
                </a:cubicBezTo>
                <a:cubicBezTo>
                  <a:pt x="4574" y="8101"/>
                  <a:pt x="4514" y="8185"/>
                  <a:pt x="4465" y="8260"/>
                </a:cubicBezTo>
                <a:cubicBezTo>
                  <a:pt x="4424" y="8322"/>
                  <a:pt x="4366" y="8375"/>
                  <a:pt x="4316" y="8434"/>
                </a:cubicBezTo>
                <a:cubicBezTo>
                  <a:pt x="4277" y="8472"/>
                  <a:pt x="4260" y="8474"/>
                  <a:pt x="4266" y="8508"/>
                </a:cubicBezTo>
                <a:cubicBezTo>
                  <a:pt x="4294" y="8480"/>
                  <a:pt x="4314" y="8465"/>
                  <a:pt x="4341" y="8458"/>
                </a:cubicBezTo>
                <a:cubicBezTo>
                  <a:pt x="4379" y="8448"/>
                  <a:pt x="4426" y="8439"/>
                  <a:pt x="4465" y="8434"/>
                </a:cubicBezTo>
                <a:cubicBezTo>
                  <a:pt x="4539" y="8424"/>
                  <a:pt x="4596" y="8447"/>
                  <a:pt x="4663" y="8458"/>
                </a:cubicBezTo>
                <a:cubicBezTo>
                  <a:pt x="4761" y="8474"/>
                  <a:pt x="4873" y="8550"/>
                  <a:pt x="4911" y="8458"/>
                </a:cubicBezTo>
                <a:cubicBezTo>
                  <a:pt x="4911" y="8450"/>
                  <a:pt x="4911" y="8442"/>
                  <a:pt x="4911" y="8434"/>
                </a:cubicBezTo>
              </a:path>
              <a:path w="5855" h="1687">
                <a:moveTo>
                  <a:pt x="5631" y="7863"/>
                </a:moveTo>
                <a:cubicBezTo>
                  <a:pt x="5537" y="7837"/>
                  <a:pt x="5531" y="7838"/>
                  <a:pt x="5457" y="7863"/>
                </a:cubicBezTo>
                <a:cubicBezTo>
                  <a:pt x="5405" y="7880"/>
                  <a:pt x="5381" y="7892"/>
                  <a:pt x="5333" y="7913"/>
                </a:cubicBezTo>
                <a:cubicBezTo>
                  <a:pt x="5308" y="7924"/>
                  <a:pt x="5249" y="7931"/>
                  <a:pt x="5234" y="7962"/>
                </a:cubicBezTo>
                <a:cubicBezTo>
                  <a:pt x="5212" y="8006"/>
                  <a:pt x="5254" y="8027"/>
                  <a:pt x="5259" y="8037"/>
                </a:cubicBezTo>
                <a:cubicBezTo>
                  <a:pt x="5283" y="8085"/>
                  <a:pt x="5321" y="8074"/>
                  <a:pt x="5383" y="8111"/>
                </a:cubicBezTo>
                <a:cubicBezTo>
                  <a:pt x="5427" y="8138"/>
                  <a:pt x="5463" y="8182"/>
                  <a:pt x="5507" y="8210"/>
                </a:cubicBezTo>
                <a:cubicBezTo>
                  <a:pt x="5552" y="8239"/>
                  <a:pt x="5623" y="8265"/>
                  <a:pt x="5655" y="8310"/>
                </a:cubicBezTo>
                <a:cubicBezTo>
                  <a:pt x="5680" y="8346"/>
                  <a:pt x="5729" y="8410"/>
                  <a:pt x="5705" y="8458"/>
                </a:cubicBezTo>
                <a:cubicBezTo>
                  <a:pt x="5683" y="8502"/>
                  <a:pt x="5661" y="8540"/>
                  <a:pt x="5606" y="8558"/>
                </a:cubicBezTo>
                <a:cubicBezTo>
                  <a:pt x="5555" y="8575"/>
                  <a:pt x="5513" y="8582"/>
                  <a:pt x="5457" y="8582"/>
                </a:cubicBezTo>
                <a:cubicBezTo>
                  <a:pt x="5382" y="8582"/>
                  <a:pt x="5305" y="8585"/>
                  <a:pt x="5259" y="8508"/>
                </a:cubicBezTo>
                <a:cubicBezTo>
                  <a:pt x="5259" y="8500"/>
                  <a:pt x="5259" y="8491"/>
                  <a:pt x="5259" y="8483"/>
                </a:cubicBezTo>
              </a:path>
              <a:path w="5855" h="1687">
                <a:moveTo>
                  <a:pt x="5978" y="8012"/>
                </a:moveTo>
                <a:cubicBezTo>
                  <a:pt x="5956" y="8093"/>
                  <a:pt x="5953" y="8152"/>
                  <a:pt x="5953" y="8235"/>
                </a:cubicBezTo>
                <a:cubicBezTo>
                  <a:pt x="5953" y="8312"/>
                  <a:pt x="5961" y="8363"/>
                  <a:pt x="5978" y="8434"/>
                </a:cubicBezTo>
                <a:cubicBezTo>
                  <a:pt x="5981" y="8446"/>
                  <a:pt x="6002" y="8559"/>
                  <a:pt x="6003" y="8558"/>
                </a:cubicBezTo>
                <a:cubicBezTo>
                  <a:pt x="6015" y="8546"/>
                  <a:pt x="5982" y="8498"/>
                  <a:pt x="5978" y="8483"/>
                </a:cubicBezTo>
              </a:path>
              <a:path w="5855" h="1687">
                <a:moveTo>
                  <a:pt x="5978" y="7789"/>
                </a:moveTo>
                <a:cubicBezTo>
                  <a:pt x="5978" y="7781"/>
                  <a:pt x="5978" y="7772"/>
                  <a:pt x="5978" y="7764"/>
                </a:cubicBezTo>
              </a:path>
              <a:path w="5855" h="1687">
                <a:moveTo>
                  <a:pt x="6201" y="8210"/>
                </a:moveTo>
                <a:cubicBezTo>
                  <a:pt x="6214" y="8332"/>
                  <a:pt x="6226" y="8438"/>
                  <a:pt x="6226" y="8558"/>
                </a:cubicBezTo>
                <a:cubicBezTo>
                  <a:pt x="6226" y="8566"/>
                  <a:pt x="6226" y="8574"/>
                  <a:pt x="6226" y="8582"/>
                </a:cubicBezTo>
                <a:cubicBezTo>
                  <a:pt x="6204" y="8568"/>
                  <a:pt x="6185" y="8526"/>
                  <a:pt x="6201" y="8483"/>
                </a:cubicBezTo>
                <a:cubicBezTo>
                  <a:pt x="6221" y="8428"/>
                  <a:pt x="6231" y="8361"/>
                  <a:pt x="6251" y="8310"/>
                </a:cubicBezTo>
                <a:cubicBezTo>
                  <a:pt x="6275" y="8248"/>
                  <a:pt x="6315" y="8141"/>
                  <a:pt x="6350" y="8086"/>
                </a:cubicBezTo>
                <a:cubicBezTo>
                  <a:pt x="6380" y="8038"/>
                  <a:pt x="6451" y="8016"/>
                  <a:pt x="6499" y="8012"/>
                </a:cubicBezTo>
                <a:cubicBezTo>
                  <a:pt x="6522" y="8010"/>
                  <a:pt x="6609" y="8070"/>
                  <a:pt x="6623" y="8086"/>
                </a:cubicBezTo>
                <a:cubicBezTo>
                  <a:pt x="6672" y="8143"/>
                  <a:pt x="6676" y="8222"/>
                  <a:pt x="6697" y="8285"/>
                </a:cubicBezTo>
                <a:cubicBezTo>
                  <a:pt x="6721" y="8356"/>
                  <a:pt x="6747" y="8382"/>
                  <a:pt x="6747" y="8458"/>
                </a:cubicBezTo>
                <a:cubicBezTo>
                  <a:pt x="6747" y="8496"/>
                  <a:pt x="6754" y="8538"/>
                  <a:pt x="6772" y="8483"/>
                </a:cubicBezTo>
              </a:path>
              <a:path w="5855" h="1687">
                <a:moveTo>
                  <a:pt x="6921" y="8012"/>
                </a:moveTo>
                <a:cubicBezTo>
                  <a:pt x="6946" y="8081"/>
                  <a:pt x="6960" y="8121"/>
                  <a:pt x="6995" y="8186"/>
                </a:cubicBezTo>
                <a:cubicBezTo>
                  <a:pt x="7033" y="8256"/>
                  <a:pt x="7094" y="8324"/>
                  <a:pt x="7144" y="8384"/>
                </a:cubicBezTo>
                <a:cubicBezTo>
                  <a:pt x="7204" y="8457"/>
                  <a:pt x="7269" y="8482"/>
                  <a:pt x="7342" y="8533"/>
                </a:cubicBezTo>
                <a:cubicBezTo>
                  <a:pt x="7386" y="8564"/>
                  <a:pt x="7384" y="8582"/>
                  <a:pt x="7441" y="8582"/>
                </a:cubicBezTo>
                <a:cubicBezTo>
                  <a:pt x="7480" y="8582"/>
                  <a:pt x="7466" y="8566"/>
                  <a:pt x="7466" y="8533"/>
                </a:cubicBezTo>
              </a:path>
              <a:path w="5855" h="1687">
                <a:moveTo>
                  <a:pt x="7367" y="8012"/>
                </a:moveTo>
                <a:cubicBezTo>
                  <a:pt x="7248" y="8105"/>
                  <a:pt x="7189" y="8195"/>
                  <a:pt x="7094" y="8310"/>
                </a:cubicBezTo>
                <a:cubicBezTo>
                  <a:pt x="7039" y="8377"/>
                  <a:pt x="6975" y="8443"/>
                  <a:pt x="6921" y="8508"/>
                </a:cubicBezTo>
                <a:cubicBezTo>
                  <a:pt x="6878" y="8560"/>
                  <a:pt x="6843" y="8704"/>
                  <a:pt x="6796" y="8657"/>
                </a:cubicBezTo>
                <a:cubicBezTo>
                  <a:pt x="6796" y="8629"/>
                  <a:pt x="6798" y="8618"/>
                  <a:pt x="6821" y="8607"/>
                </a:cubicBezTo>
              </a:path>
              <a:path w="5855" h="1687">
                <a:moveTo>
                  <a:pt x="7813" y="7863"/>
                </a:moveTo>
                <a:cubicBezTo>
                  <a:pt x="7813" y="8030"/>
                  <a:pt x="7808" y="8208"/>
                  <a:pt x="7838" y="8359"/>
                </a:cubicBezTo>
                <a:cubicBezTo>
                  <a:pt x="7852" y="8427"/>
                  <a:pt x="7834" y="8415"/>
                  <a:pt x="7863" y="8483"/>
                </a:cubicBezTo>
              </a:path>
              <a:path w="5855" h="1687">
                <a:moveTo>
                  <a:pt x="7590" y="8260"/>
                </a:moveTo>
                <a:cubicBezTo>
                  <a:pt x="7647" y="8284"/>
                  <a:pt x="7680" y="8306"/>
                  <a:pt x="7739" y="8310"/>
                </a:cubicBezTo>
                <a:cubicBezTo>
                  <a:pt x="7820" y="8315"/>
                  <a:pt x="7888" y="8297"/>
                  <a:pt x="7962" y="8285"/>
                </a:cubicBezTo>
                <a:cubicBezTo>
                  <a:pt x="8020" y="8285"/>
                  <a:pt x="8045" y="8285"/>
                  <a:pt x="8086" y="8285"/>
                </a:cubicBezTo>
              </a:path>
              <a:path w="5855" h="1687">
                <a:moveTo>
                  <a:pt x="8359" y="7615"/>
                </a:moveTo>
                <a:cubicBezTo>
                  <a:pt x="8359" y="7971"/>
                  <a:pt x="8359" y="8326"/>
                  <a:pt x="8359" y="8682"/>
                </a:cubicBezTo>
                <a:cubicBezTo>
                  <a:pt x="8397" y="8669"/>
                  <a:pt x="8384" y="8652"/>
                  <a:pt x="8384" y="8607"/>
                </a:cubicBezTo>
              </a:path>
              <a:path w="5855" h="1687">
                <a:moveTo>
                  <a:pt x="8657" y="8186"/>
                </a:moveTo>
                <a:cubicBezTo>
                  <a:pt x="8741" y="8186"/>
                  <a:pt x="8802" y="8174"/>
                  <a:pt x="8880" y="8161"/>
                </a:cubicBezTo>
                <a:cubicBezTo>
                  <a:pt x="8973" y="8145"/>
                  <a:pt x="9083" y="8161"/>
                  <a:pt x="9178" y="8161"/>
                </a:cubicBezTo>
              </a:path>
              <a:path w="5855" h="1687">
                <a:moveTo>
                  <a:pt x="8756" y="8384"/>
                </a:moveTo>
                <a:cubicBezTo>
                  <a:pt x="8843" y="8384"/>
                  <a:pt x="8900" y="8379"/>
                  <a:pt x="8979" y="8359"/>
                </a:cubicBezTo>
                <a:cubicBezTo>
                  <a:pt x="8987" y="8359"/>
                  <a:pt x="8996" y="8359"/>
                  <a:pt x="9004" y="8359"/>
                </a:cubicBezTo>
              </a:path>
              <a:path w="5855" h="1687">
                <a:moveTo>
                  <a:pt x="9699" y="7888"/>
                </a:moveTo>
                <a:cubicBezTo>
                  <a:pt x="9681" y="7943"/>
                  <a:pt x="9646" y="8007"/>
                  <a:pt x="9624" y="8062"/>
                </a:cubicBezTo>
                <a:cubicBezTo>
                  <a:pt x="9593" y="8138"/>
                  <a:pt x="9563" y="8206"/>
                  <a:pt x="9550" y="8285"/>
                </a:cubicBezTo>
                <a:cubicBezTo>
                  <a:pt x="9533" y="8393"/>
                  <a:pt x="9552" y="8507"/>
                  <a:pt x="9575" y="8607"/>
                </a:cubicBezTo>
                <a:cubicBezTo>
                  <a:pt x="9589" y="8669"/>
                  <a:pt x="9632" y="8693"/>
                  <a:pt x="9699" y="8706"/>
                </a:cubicBezTo>
                <a:cubicBezTo>
                  <a:pt x="9746" y="8715"/>
                  <a:pt x="9859" y="8685"/>
                  <a:pt x="9897" y="8657"/>
                </a:cubicBezTo>
                <a:cubicBezTo>
                  <a:pt x="9966" y="8607"/>
                  <a:pt x="10029" y="8558"/>
                  <a:pt x="10071" y="8483"/>
                </a:cubicBezTo>
                <a:cubicBezTo>
                  <a:pt x="10119" y="8398"/>
                  <a:pt x="10120" y="8329"/>
                  <a:pt x="10120" y="8235"/>
                </a:cubicBezTo>
                <a:cubicBezTo>
                  <a:pt x="10120" y="8137"/>
                  <a:pt x="10085" y="8052"/>
                  <a:pt x="10046" y="7962"/>
                </a:cubicBezTo>
                <a:cubicBezTo>
                  <a:pt x="10016" y="7892"/>
                  <a:pt x="9962" y="7849"/>
                  <a:pt x="9897" y="7813"/>
                </a:cubicBezTo>
                <a:cubicBezTo>
                  <a:pt x="9825" y="7774"/>
                  <a:pt x="9780" y="7764"/>
                  <a:pt x="9699" y="7764"/>
                </a:cubicBezTo>
                <a:cubicBezTo>
                  <a:pt x="9598" y="7764"/>
                  <a:pt x="9621" y="7775"/>
                  <a:pt x="9575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8760" y="293832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1137" y="8310"/>
                </a:moveTo>
                <a:cubicBezTo>
                  <a:pt x="11065" y="8351"/>
                  <a:pt x="11051" y="8383"/>
                  <a:pt x="11013" y="8458"/>
                </a:cubicBezTo>
                <a:cubicBezTo>
                  <a:pt x="10979" y="8525"/>
                  <a:pt x="10926" y="8604"/>
                  <a:pt x="10939" y="8682"/>
                </a:cubicBezTo>
                <a:cubicBezTo>
                  <a:pt x="10951" y="8754"/>
                  <a:pt x="11011" y="8815"/>
                  <a:pt x="11088" y="8806"/>
                </a:cubicBezTo>
                <a:cubicBezTo>
                  <a:pt x="11144" y="8800"/>
                  <a:pt x="11239" y="8767"/>
                  <a:pt x="11286" y="8731"/>
                </a:cubicBezTo>
                <a:cubicBezTo>
                  <a:pt x="11358" y="8676"/>
                  <a:pt x="11405" y="8651"/>
                  <a:pt x="11410" y="8558"/>
                </a:cubicBezTo>
                <a:cubicBezTo>
                  <a:pt x="11413" y="8510"/>
                  <a:pt x="11425" y="8422"/>
                  <a:pt x="11385" y="8384"/>
                </a:cubicBezTo>
                <a:cubicBezTo>
                  <a:pt x="11348" y="8350"/>
                  <a:pt x="11277" y="8322"/>
                  <a:pt x="11237" y="8310"/>
                </a:cubicBezTo>
                <a:cubicBezTo>
                  <a:pt x="11232" y="8309"/>
                  <a:pt x="11098" y="8314"/>
                  <a:pt x="11137" y="8285"/>
                </a:cubicBezTo>
                <a:cubicBezTo>
                  <a:pt x="11145" y="8285"/>
                  <a:pt x="11154" y="8285"/>
                  <a:pt x="11162" y="8285"/>
                </a:cubicBezTo>
              </a:path>
              <a:path w="993" h="646">
                <a:moveTo>
                  <a:pt x="11633" y="8458"/>
                </a:moveTo>
                <a:cubicBezTo>
                  <a:pt x="11652" y="8525"/>
                  <a:pt x="11683" y="8589"/>
                  <a:pt x="11683" y="8657"/>
                </a:cubicBezTo>
                <a:cubicBezTo>
                  <a:pt x="11683" y="8665"/>
                  <a:pt x="11683" y="8674"/>
                  <a:pt x="11683" y="8682"/>
                </a:cubicBezTo>
                <a:cubicBezTo>
                  <a:pt x="11635" y="8670"/>
                  <a:pt x="11618" y="8627"/>
                  <a:pt x="11609" y="8582"/>
                </a:cubicBezTo>
                <a:cubicBezTo>
                  <a:pt x="11591" y="8492"/>
                  <a:pt x="11617" y="8434"/>
                  <a:pt x="11658" y="8359"/>
                </a:cubicBezTo>
                <a:cubicBezTo>
                  <a:pt x="11696" y="8290"/>
                  <a:pt x="11747" y="8280"/>
                  <a:pt x="11807" y="8235"/>
                </a:cubicBezTo>
                <a:cubicBezTo>
                  <a:pt x="11847" y="8205"/>
                  <a:pt x="11885" y="8184"/>
                  <a:pt x="11931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7920" y="2830680"/>
            <a:ext cx="1903320" cy="357120"/>
          </a:xfrm>
          <a:custGeom>
            <a:avLst/>
            <a:gdLst/>
            <a:ahLst/>
            <a:rect l="l" t="t" r="r" b="b"/>
            <a:pathLst>
              <a:path w="5285" h="993">
                <a:moveTo>
                  <a:pt x="13519" y="8086"/>
                </a:moveTo>
                <a:cubicBezTo>
                  <a:pt x="13456" y="8062"/>
                  <a:pt x="13392" y="8017"/>
                  <a:pt x="13320" y="8037"/>
                </a:cubicBezTo>
                <a:cubicBezTo>
                  <a:pt x="13263" y="8053"/>
                  <a:pt x="13205" y="8077"/>
                  <a:pt x="13146" y="8086"/>
                </a:cubicBezTo>
                <a:cubicBezTo>
                  <a:pt x="13088" y="8095"/>
                  <a:pt x="13074" y="8123"/>
                  <a:pt x="13022" y="8136"/>
                </a:cubicBezTo>
                <a:cubicBezTo>
                  <a:pt x="13022" y="8189"/>
                  <a:pt x="13034" y="8197"/>
                  <a:pt x="13072" y="8235"/>
                </a:cubicBezTo>
                <a:cubicBezTo>
                  <a:pt x="13122" y="8284"/>
                  <a:pt x="13190" y="8295"/>
                  <a:pt x="13246" y="8334"/>
                </a:cubicBezTo>
                <a:cubicBezTo>
                  <a:pt x="13294" y="8367"/>
                  <a:pt x="13383" y="8441"/>
                  <a:pt x="13419" y="8483"/>
                </a:cubicBezTo>
                <a:cubicBezTo>
                  <a:pt x="13448" y="8517"/>
                  <a:pt x="13457" y="8613"/>
                  <a:pt x="13444" y="8657"/>
                </a:cubicBezTo>
                <a:cubicBezTo>
                  <a:pt x="13424" y="8723"/>
                  <a:pt x="13357" y="8726"/>
                  <a:pt x="13295" y="8731"/>
                </a:cubicBezTo>
                <a:cubicBezTo>
                  <a:pt x="13224" y="8737"/>
                  <a:pt x="13137" y="8730"/>
                  <a:pt x="13072" y="8706"/>
                </a:cubicBezTo>
                <a:cubicBezTo>
                  <a:pt x="13045" y="8696"/>
                  <a:pt x="13001" y="8670"/>
                  <a:pt x="13022" y="8632"/>
                </a:cubicBezTo>
                <a:cubicBezTo>
                  <a:pt x="13030" y="8624"/>
                  <a:pt x="13039" y="8615"/>
                  <a:pt x="13047" y="8607"/>
                </a:cubicBezTo>
              </a:path>
              <a:path w="5285" h="993">
                <a:moveTo>
                  <a:pt x="13717" y="8260"/>
                </a:moveTo>
                <a:cubicBezTo>
                  <a:pt x="13711" y="8328"/>
                  <a:pt x="13710" y="8417"/>
                  <a:pt x="13692" y="8483"/>
                </a:cubicBezTo>
                <a:cubicBezTo>
                  <a:pt x="13674" y="8548"/>
                  <a:pt x="13667" y="8588"/>
                  <a:pt x="13667" y="8657"/>
                </a:cubicBezTo>
                <a:cubicBezTo>
                  <a:pt x="13667" y="8732"/>
                  <a:pt x="13671" y="8699"/>
                  <a:pt x="13667" y="8632"/>
                </a:cubicBezTo>
                <a:cubicBezTo>
                  <a:pt x="13667" y="8615"/>
                  <a:pt x="13667" y="8599"/>
                  <a:pt x="13667" y="8582"/>
                </a:cubicBezTo>
              </a:path>
              <a:path w="5285" h="993">
                <a:moveTo>
                  <a:pt x="13742" y="7913"/>
                </a:moveTo>
                <a:cubicBezTo>
                  <a:pt x="13758" y="7896"/>
                  <a:pt x="13775" y="7880"/>
                  <a:pt x="13791" y="7863"/>
                </a:cubicBezTo>
              </a:path>
              <a:path w="5285" h="993">
                <a:moveTo>
                  <a:pt x="13940" y="8409"/>
                </a:moveTo>
                <a:cubicBezTo>
                  <a:pt x="13940" y="8509"/>
                  <a:pt x="13959" y="8644"/>
                  <a:pt x="13915" y="8731"/>
                </a:cubicBezTo>
                <a:cubicBezTo>
                  <a:pt x="13883" y="8687"/>
                  <a:pt x="13891" y="8664"/>
                  <a:pt x="13891" y="8607"/>
                </a:cubicBezTo>
                <a:cubicBezTo>
                  <a:pt x="13891" y="8550"/>
                  <a:pt x="13898" y="8486"/>
                  <a:pt x="13915" y="8434"/>
                </a:cubicBezTo>
                <a:cubicBezTo>
                  <a:pt x="13941" y="8357"/>
                  <a:pt x="13997" y="8323"/>
                  <a:pt x="14039" y="8260"/>
                </a:cubicBezTo>
                <a:cubicBezTo>
                  <a:pt x="14084" y="8191"/>
                  <a:pt x="14128" y="8166"/>
                  <a:pt x="14213" y="8161"/>
                </a:cubicBezTo>
                <a:cubicBezTo>
                  <a:pt x="14287" y="8157"/>
                  <a:pt x="14345" y="8225"/>
                  <a:pt x="14387" y="8285"/>
                </a:cubicBezTo>
                <a:cubicBezTo>
                  <a:pt x="14423" y="8336"/>
                  <a:pt x="14453" y="8424"/>
                  <a:pt x="14461" y="8483"/>
                </a:cubicBezTo>
                <a:cubicBezTo>
                  <a:pt x="14471" y="8556"/>
                  <a:pt x="14480" y="8615"/>
                  <a:pt x="14486" y="8682"/>
                </a:cubicBezTo>
                <a:cubicBezTo>
                  <a:pt x="14488" y="8701"/>
                  <a:pt x="14511" y="8750"/>
                  <a:pt x="14511" y="8706"/>
                </a:cubicBezTo>
                <a:cubicBezTo>
                  <a:pt x="14511" y="8698"/>
                  <a:pt x="14511" y="8690"/>
                  <a:pt x="14511" y="8682"/>
                </a:cubicBezTo>
              </a:path>
              <a:path w="5285" h="993">
                <a:moveTo>
                  <a:pt x="14635" y="8210"/>
                </a:moveTo>
                <a:cubicBezTo>
                  <a:pt x="14657" y="8283"/>
                  <a:pt x="14674" y="8340"/>
                  <a:pt x="14709" y="8409"/>
                </a:cubicBezTo>
                <a:cubicBezTo>
                  <a:pt x="14747" y="8483"/>
                  <a:pt x="14788" y="8540"/>
                  <a:pt x="14833" y="8607"/>
                </a:cubicBezTo>
                <a:cubicBezTo>
                  <a:pt x="14890" y="8693"/>
                  <a:pt x="14953" y="8747"/>
                  <a:pt x="15032" y="8806"/>
                </a:cubicBezTo>
                <a:cubicBezTo>
                  <a:pt x="15055" y="8823"/>
                  <a:pt x="15098" y="8848"/>
                  <a:pt x="15131" y="8830"/>
                </a:cubicBezTo>
                <a:cubicBezTo>
                  <a:pt x="15168" y="8810"/>
                  <a:pt x="15186" y="8764"/>
                  <a:pt x="15205" y="8731"/>
                </a:cubicBezTo>
              </a:path>
              <a:path w="5285" h="993">
                <a:moveTo>
                  <a:pt x="14982" y="8161"/>
                </a:moveTo>
                <a:cubicBezTo>
                  <a:pt x="14898" y="8266"/>
                  <a:pt x="14844" y="8388"/>
                  <a:pt x="14759" y="8483"/>
                </a:cubicBezTo>
                <a:cubicBezTo>
                  <a:pt x="14703" y="8546"/>
                  <a:pt x="14663" y="8619"/>
                  <a:pt x="14610" y="8682"/>
                </a:cubicBezTo>
                <a:cubicBezTo>
                  <a:pt x="14570" y="8729"/>
                  <a:pt x="14572" y="8825"/>
                  <a:pt x="14511" y="8830"/>
                </a:cubicBezTo>
                <a:cubicBezTo>
                  <a:pt x="14511" y="8806"/>
                  <a:pt x="14511" y="8798"/>
                  <a:pt x="14536" y="8806"/>
                </a:cubicBezTo>
              </a:path>
              <a:path w="5285" h="993">
                <a:moveTo>
                  <a:pt x="15230" y="8508"/>
                </a:moveTo>
                <a:cubicBezTo>
                  <a:pt x="15371" y="8508"/>
                  <a:pt x="15511" y="8508"/>
                  <a:pt x="15652" y="8508"/>
                </a:cubicBezTo>
              </a:path>
              <a:path w="5285" h="993">
                <a:moveTo>
                  <a:pt x="16123" y="7863"/>
                </a:moveTo>
                <a:cubicBezTo>
                  <a:pt x="16099" y="7951"/>
                  <a:pt x="16098" y="8019"/>
                  <a:pt x="16098" y="8111"/>
                </a:cubicBezTo>
                <a:cubicBezTo>
                  <a:pt x="16098" y="8213"/>
                  <a:pt x="16073" y="8305"/>
                  <a:pt x="16073" y="8409"/>
                </a:cubicBezTo>
                <a:cubicBezTo>
                  <a:pt x="16073" y="8493"/>
                  <a:pt x="16049" y="8570"/>
                  <a:pt x="16049" y="8657"/>
                </a:cubicBezTo>
                <a:cubicBezTo>
                  <a:pt x="16049" y="8713"/>
                  <a:pt x="16024" y="8839"/>
                  <a:pt x="16073" y="8806"/>
                </a:cubicBezTo>
              </a:path>
              <a:path w="5285" h="993">
                <a:moveTo>
                  <a:pt x="16520" y="8310"/>
                </a:moveTo>
                <a:cubicBezTo>
                  <a:pt x="16637" y="8295"/>
                  <a:pt x="16756" y="8278"/>
                  <a:pt x="16867" y="8260"/>
                </a:cubicBezTo>
                <a:cubicBezTo>
                  <a:pt x="16917" y="8260"/>
                  <a:pt x="16933" y="8260"/>
                  <a:pt x="16966" y="8260"/>
                </a:cubicBezTo>
              </a:path>
              <a:path w="5285" h="993">
                <a:moveTo>
                  <a:pt x="16545" y="8533"/>
                </a:moveTo>
                <a:cubicBezTo>
                  <a:pt x="16645" y="8575"/>
                  <a:pt x="16729" y="8602"/>
                  <a:pt x="16842" y="8582"/>
                </a:cubicBezTo>
                <a:cubicBezTo>
                  <a:pt x="16911" y="8570"/>
                  <a:pt x="16976" y="8555"/>
                  <a:pt x="17041" y="8533"/>
                </a:cubicBezTo>
              </a:path>
              <a:path w="5285" h="993">
                <a:moveTo>
                  <a:pt x="17636" y="7913"/>
                </a:moveTo>
                <a:cubicBezTo>
                  <a:pt x="17628" y="7968"/>
                  <a:pt x="17600" y="7982"/>
                  <a:pt x="17587" y="8037"/>
                </a:cubicBezTo>
                <a:cubicBezTo>
                  <a:pt x="17572" y="8102"/>
                  <a:pt x="17523" y="8170"/>
                  <a:pt x="17512" y="8235"/>
                </a:cubicBezTo>
                <a:cubicBezTo>
                  <a:pt x="17497" y="8319"/>
                  <a:pt x="17487" y="8396"/>
                  <a:pt x="17487" y="8483"/>
                </a:cubicBezTo>
                <a:cubicBezTo>
                  <a:pt x="17487" y="8617"/>
                  <a:pt x="17500" y="8661"/>
                  <a:pt x="17587" y="8756"/>
                </a:cubicBezTo>
                <a:cubicBezTo>
                  <a:pt x="17621" y="8794"/>
                  <a:pt x="17709" y="8846"/>
                  <a:pt x="17760" y="8855"/>
                </a:cubicBezTo>
                <a:cubicBezTo>
                  <a:pt x="17857" y="8872"/>
                  <a:pt x="17945" y="8843"/>
                  <a:pt x="18033" y="8806"/>
                </a:cubicBezTo>
                <a:cubicBezTo>
                  <a:pt x="18120" y="8769"/>
                  <a:pt x="18145" y="8723"/>
                  <a:pt x="18207" y="8657"/>
                </a:cubicBezTo>
                <a:cubicBezTo>
                  <a:pt x="18270" y="8590"/>
                  <a:pt x="18295" y="8501"/>
                  <a:pt x="18306" y="8409"/>
                </a:cubicBezTo>
                <a:cubicBezTo>
                  <a:pt x="18313" y="8345"/>
                  <a:pt x="18292" y="8214"/>
                  <a:pt x="18256" y="8161"/>
                </a:cubicBezTo>
                <a:cubicBezTo>
                  <a:pt x="18200" y="8078"/>
                  <a:pt x="18101" y="7962"/>
                  <a:pt x="18008" y="7913"/>
                </a:cubicBezTo>
                <a:cubicBezTo>
                  <a:pt x="17949" y="7882"/>
                  <a:pt x="17849" y="7867"/>
                  <a:pt x="17785" y="7863"/>
                </a:cubicBezTo>
                <a:cubicBezTo>
                  <a:pt x="17735" y="7860"/>
                  <a:pt x="17696" y="7881"/>
                  <a:pt x="17661" y="7913"/>
                </a:cubicBezTo>
                <a:cubicBezTo>
                  <a:pt x="17636" y="7938"/>
                  <a:pt x="17628" y="7946"/>
                  <a:pt x="17611" y="79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7240" y="3367080"/>
            <a:ext cx="347760" cy="258840"/>
          </a:xfrm>
          <a:custGeom>
            <a:avLst/>
            <a:gdLst/>
            <a:ahLst/>
            <a:rect l="l" t="t" r="r" b="b"/>
            <a:pathLst>
              <a:path w="968" h="721">
                <a:moveTo>
                  <a:pt x="15280" y="9475"/>
                </a:moveTo>
                <a:cubicBezTo>
                  <a:pt x="15267" y="9555"/>
                  <a:pt x="15255" y="9616"/>
                  <a:pt x="15255" y="9699"/>
                </a:cubicBezTo>
                <a:cubicBezTo>
                  <a:pt x="15255" y="9813"/>
                  <a:pt x="15250" y="9922"/>
                  <a:pt x="15280" y="10021"/>
                </a:cubicBezTo>
                <a:cubicBezTo>
                  <a:pt x="15280" y="10049"/>
                  <a:pt x="15278" y="10055"/>
                  <a:pt x="15255" y="10021"/>
                </a:cubicBezTo>
              </a:path>
              <a:path w="968" h="721">
                <a:moveTo>
                  <a:pt x="14908" y="9699"/>
                </a:moveTo>
                <a:cubicBezTo>
                  <a:pt x="14962" y="9731"/>
                  <a:pt x="15014" y="9723"/>
                  <a:pt x="15081" y="9723"/>
                </a:cubicBezTo>
                <a:cubicBezTo>
                  <a:pt x="15238" y="9723"/>
                  <a:pt x="15396" y="9723"/>
                  <a:pt x="15553" y="9723"/>
                </a:cubicBezTo>
              </a:path>
              <a:path w="968" h="721">
                <a:moveTo>
                  <a:pt x="15850" y="9351"/>
                </a:moveTo>
                <a:cubicBezTo>
                  <a:pt x="15882" y="9426"/>
                  <a:pt x="15875" y="9491"/>
                  <a:pt x="15875" y="9575"/>
                </a:cubicBezTo>
                <a:cubicBezTo>
                  <a:pt x="15875" y="9719"/>
                  <a:pt x="15882" y="9860"/>
                  <a:pt x="15850" y="9996"/>
                </a:cubicBezTo>
                <a:cubicBezTo>
                  <a:pt x="15840" y="10038"/>
                  <a:pt x="15845" y="10061"/>
                  <a:pt x="15875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1040" y="3367080"/>
            <a:ext cx="349200" cy="312840"/>
          </a:xfrm>
          <a:custGeom>
            <a:avLst/>
            <a:gdLst/>
            <a:ahLst/>
            <a:rect l="l" t="t" r="r" b="b"/>
            <a:pathLst>
              <a:path w="969" h="870">
                <a:moveTo>
                  <a:pt x="17363" y="9426"/>
                </a:moveTo>
                <a:cubicBezTo>
                  <a:pt x="17363" y="9603"/>
                  <a:pt x="17360" y="9778"/>
                  <a:pt x="17388" y="9947"/>
                </a:cubicBezTo>
                <a:cubicBezTo>
                  <a:pt x="17399" y="10012"/>
                  <a:pt x="17429" y="10030"/>
                  <a:pt x="17438" y="10096"/>
                </a:cubicBezTo>
              </a:path>
              <a:path w="969" h="870">
                <a:moveTo>
                  <a:pt x="17115" y="9723"/>
                </a:moveTo>
                <a:cubicBezTo>
                  <a:pt x="17190" y="9751"/>
                  <a:pt x="17256" y="9770"/>
                  <a:pt x="17338" y="9773"/>
                </a:cubicBezTo>
                <a:cubicBezTo>
                  <a:pt x="17457" y="9778"/>
                  <a:pt x="17542" y="9789"/>
                  <a:pt x="17661" y="9773"/>
                </a:cubicBezTo>
                <a:cubicBezTo>
                  <a:pt x="17678" y="9773"/>
                  <a:pt x="17694" y="9773"/>
                  <a:pt x="17711" y="9773"/>
                </a:cubicBezTo>
              </a:path>
              <a:path w="969" h="870">
                <a:moveTo>
                  <a:pt x="18033" y="9351"/>
                </a:moveTo>
                <a:cubicBezTo>
                  <a:pt x="18033" y="9435"/>
                  <a:pt x="18002" y="9549"/>
                  <a:pt x="18008" y="9624"/>
                </a:cubicBezTo>
                <a:cubicBezTo>
                  <a:pt x="18015" y="9711"/>
                  <a:pt x="18017" y="9834"/>
                  <a:pt x="18033" y="9922"/>
                </a:cubicBezTo>
                <a:cubicBezTo>
                  <a:pt x="18045" y="9984"/>
                  <a:pt x="18090" y="10110"/>
                  <a:pt x="18083" y="10170"/>
                </a:cubicBezTo>
                <a:cubicBezTo>
                  <a:pt x="18075" y="10187"/>
                  <a:pt x="18066" y="10203"/>
                  <a:pt x="18058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920" y="3446640"/>
            <a:ext cx="152280" cy="1440"/>
          </a:xfrm>
          <a:custGeom>
            <a:avLst/>
            <a:gdLst/>
            <a:ahLst/>
            <a:rect l="l" t="t" r="r" b="b"/>
            <a:pathLst>
              <a:path w="423" h="1">
                <a:moveTo>
                  <a:pt x="6970" y="9575"/>
                </a:moveTo>
                <a:cubicBezTo>
                  <a:pt x="7111" y="9575"/>
                  <a:pt x="7251" y="9575"/>
                  <a:pt x="7392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67040" y="3340080"/>
            <a:ext cx="27000" cy="276120"/>
          </a:xfrm>
          <a:custGeom>
            <a:avLst/>
            <a:gdLst/>
            <a:ahLst/>
            <a:rect l="l" t="t" r="r" b="b"/>
            <a:pathLst>
              <a:path w="76" h="770">
                <a:moveTo>
                  <a:pt x="7987" y="9277"/>
                </a:moveTo>
                <a:cubicBezTo>
                  <a:pt x="7987" y="9342"/>
                  <a:pt x="7973" y="9398"/>
                  <a:pt x="7962" y="9451"/>
                </a:cubicBezTo>
                <a:cubicBezTo>
                  <a:pt x="7955" y="9487"/>
                  <a:pt x="7960" y="9615"/>
                  <a:pt x="7962" y="9649"/>
                </a:cubicBezTo>
                <a:cubicBezTo>
                  <a:pt x="7968" y="9735"/>
                  <a:pt x="7987" y="9809"/>
                  <a:pt x="7987" y="9897"/>
                </a:cubicBezTo>
                <a:cubicBezTo>
                  <a:pt x="7987" y="9956"/>
                  <a:pt x="7997" y="9975"/>
                  <a:pt x="8012" y="10021"/>
                </a:cubicBezTo>
                <a:cubicBezTo>
                  <a:pt x="8012" y="10046"/>
                  <a:pt x="8012" y="10054"/>
                  <a:pt x="8037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78080" y="3473280"/>
            <a:ext cx="11772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8830" y="9674"/>
                </a:moveTo>
                <a:cubicBezTo>
                  <a:pt x="8923" y="9665"/>
                  <a:pt x="9008" y="9649"/>
                  <a:pt x="9103" y="9649"/>
                </a:cubicBezTo>
                <a:cubicBezTo>
                  <a:pt x="9120" y="9649"/>
                  <a:pt x="9136" y="9649"/>
                  <a:pt x="9153" y="96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73280" y="3340080"/>
            <a:ext cx="54000" cy="347760"/>
          </a:xfrm>
          <a:custGeom>
            <a:avLst/>
            <a:gdLst/>
            <a:ahLst/>
            <a:rect l="l" t="t" r="r" b="b"/>
            <a:pathLst>
              <a:path w="150" h="968">
                <a:moveTo>
                  <a:pt x="9649" y="9277"/>
                </a:moveTo>
                <a:cubicBezTo>
                  <a:pt x="9649" y="9454"/>
                  <a:pt x="9649" y="9625"/>
                  <a:pt x="9674" y="9798"/>
                </a:cubicBezTo>
                <a:cubicBezTo>
                  <a:pt x="9686" y="9881"/>
                  <a:pt x="9703" y="9998"/>
                  <a:pt x="9748" y="10071"/>
                </a:cubicBezTo>
                <a:cubicBezTo>
                  <a:pt x="9770" y="10107"/>
                  <a:pt x="9785" y="10156"/>
                  <a:pt x="9798" y="10195"/>
                </a:cubicBezTo>
                <a:cubicBezTo>
                  <a:pt x="9811" y="10233"/>
                  <a:pt x="9798" y="10236"/>
                  <a:pt x="9773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0040" y="3894120"/>
            <a:ext cx="1187280" cy="365040"/>
          </a:xfrm>
          <a:custGeom>
            <a:avLst/>
            <a:gdLst/>
            <a:ahLst/>
            <a:rect l="l" t="t" r="r" b="b"/>
            <a:pathLst>
              <a:path w="3300" h="1018">
                <a:moveTo>
                  <a:pt x="14908" y="10840"/>
                </a:moveTo>
                <a:cubicBezTo>
                  <a:pt x="14855" y="10832"/>
                  <a:pt x="14817" y="10802"/>
                  <a:pt x="14759" y="10815"/>
                </a:cubicBezTo>
                <a:cubicBezTo>
                  <a:pt x="14696" y="10829"/>
                  <a:pt x="14595" y="10821"/>
                  <a:pt x="14536" y="10840"/>
                </a:cubicBezTo>
                <a:cubicBezTo>
                  <a:pt x="14497" y="10853"/>
                  <a:pt x="14445" y="10859"/>
                  <a:pt x="14412" y="10889"/>
                </a:cubicBezTo>
                <a:cubicBezTo>
                  <a:pt x="14357" y="10939"/>
                  <a:pt x="14408" y="10944"/>
                  <a:pt x="14436" y="10988"/>
                </a:cubicBezTo>
                <a:cubicBezTo>
                  <a:pt x="14484" y="11063"/>
                  <a:pt x="14544" y="11099"/>
                  <a:pt x="14610" y="11162"/>
                </a:cubicBezTo>
                <a:cubicBezTo>
                  <a:pt x="14682" y="11230"/>
                  <a:pt x="14774" y="11280"/>
                  <a:pt x="14833" y="11361"/>
                </a:cubicBezTo>
                <a:cubicBezTo>
                  <a:pt x="14860" y="11399"/>
                  <a:pt x="14908" y="11485"/>
                  <a:pt x="14883" y="11534"/>
                </a:cubicBezTo>
                <a:cubicBezTo>
                  <a:pt x="14848" y="11603"/>
                  <a:pt x="14796" y="11597"/>
                  <a:pt x="14734" y="11609"/>
                </a:cubicBezTo>
                <a:cubicBezTo>
                  <a:pt x="14636" y="11628"/>
                  <a:pt x="14571" y="11626"/>
                  <a:pt x="14486" y="11584"/>
                </a:cubicBezTo>
                <a:cubicBezTo>
                  <a:pt x="14413" y="11548"/>
                  <a:pt x="14412" y="11538"/>
                  <a:pt x="14412" y="11460"/>
                </a:cubicBezTo>
              </a:path>
              <a:path w="3300" h="1018">
                <a:moveTo>
                  <a:pt x="15205" y="11237"/>
                </a:moveTo>
                <a:cubicBezTo>
                  <a:pt x="15205" y="11359"/>
                  <a:pt x="15156" y="11585"/>
                  <a:pt x="15230" y="11683"/>
                </a:cubicBezTo>
                <a:cubicBezTo>
                  <a:pt x="15230" y="11650"/>
                  <a:pt x="15230" y="11634"/>
                  <a:pt x="15230" y="11609"/>
                </a:cubicBezTo>
              </a:path>
              <a:path w="3300" h="1018">
                <a:moveTo>
                  <a:pt x="15205" y="10840"/>
                </a:moveTo>
                <a:cubicBezTo>
                  <a:pt x="15240" y="10814"/>
                  <a:pt x="15236" y="10815"/>
                  <a:pt x="15280" y="10815"/>
                </a:cubicBezTo>
              </a:path>
              <a:path w="3300" h="1018">
                <a:moveTo>
                  <a:pt x="15429" y="11435"/>
                </a:moveTo>
                <a:cubicBezTo>
                  <a:pt x="15410" y="11544"/>
                  <a:pt x="15402" y="11612"/>
                  <a:pt x="15354" y="11708"/>
                </a:cubicBezTo>
                <a:cubicBezTo>
                  <a:pt x="15365" y="11664"/>
                  <a:pt x="15392" y="11633"/>
                  <a:pt x="15404" y="11584"/>
                </a:cubicBezTo>
                <a:cubicBezTo>
                  <a:pt x="15416" y="11536"/>
                  <a:pt x="15445" y="11477"/>
                  <a:pt x="15453" y="11435"/>
                </a:cubicBezTo>
                <a:cubicBezTo>
                  <a:pt x="15467" y="11361"/>
                  <a:pt x="15505" y="11309"/>
                  <a:pt x="15528" y="11237"/>
                </a:cubicBezTo>
                <a:cubicBezTo>
                  <a:pt x="15543" y="11190"/>
                  <a:pt x="15599" y="11167"/>
                  <a:pt x="15652" y="11162"/>
                </a:cubicBezTo>
                <a:cubicBezTo>
                  <a:pt x="15685" y="11159"/>
                  <a:pt x="15758" y="11239"/>
                  <a:pt x="15776" y="11261"/>
                </a:cubicBezTo>
                <a:cubicBezTo>
                  <a:pt x="15825" y="11322"/>
                  <a:pt x="15842" y="11415"/>
                  <a:pt x="15875" y="11485"/>
                </a:cubicBezTo>
                <a:cubicBezTo>
                  <a:pt x="15903" y="11544"/>
                  <a:pt x="15938" y="11613"/>
                  <a:pt x="15974" y="11658"/>
                </a:cubicBezTo>
                <a:cubicBezTo>
                  <a:pt x="16010" y="11703"/>
                  <a:pt x="15995" y="11724"/>
                  <a:pt x="16049" y="11683"/>
                </a:cubicBezTo>
              </a:path>
              <a:path w="3300" h="1018">
                <a:moveTo>
                  <a:pt x="16148" y="11112"/>
                </a:moveTo>
                <a:cubicBezTo>
                  <a:pt x="16197" y="11231"/>
                  <a:pt x="16237" y="11364"/>
                  <a:pt x="16321" y="11460"/>
                </a:cubicBezTo>
                <a:cubicBezTo>
                  <a:pt x="16397" y="11547"/>
                  <a:pt x="16485" y="11609"/>
                  <a:pt x="16570" y="11683"/>
                </a:cubicBezTo>
                <a:cubicBezTo>
                  <a:pt x="16621" y="11728"/>
                  <a:pt x="16701" y="11814"/>
                  <a:pt x="16768" y="11832"/>
                </a:cubicBezTo>
                <a:cubicBezTo>
                  <a:pt x="16875" y="11861"/>
                  <a:pt x="16861" y="11788"/>
                  <a:pt x="16867" y="11708"/>
                </a:cubicBezTo>
              </a:path>
              <a:path w="3300" h="1018">
                <a:moveTo>
                  <a:pt x="16545" y="11137"/>
                </a:moveTo>
                <a:cubicBezTo>
                  <a:pt x="16462" y="11285"/>
                  <a:pt x="16382" y="11454"/>
                  <a:pt x="16272" y="11584"/>
                </a:cubicBezTo>
                <a:cubicBezTo>
                  <a:pt x="16251" y="11609"/>
                  <a:pt x="16208" y="11724"/>
                  <a:pt x="16197" y="11733"/>
                </a:cubicBezTo>
                <a:cubicBezTo>
                  <a:pt x="16157" y="11767"/>
                  <a:pt x="16212" y="11716"/>
                  <a:pt x="16222" y="11708"/>
                </a:cubicBezTo>
              </a:path>
              <a:path w="3300" h="1018">
                <a:moveTo>
                  <a:pt x="16942" y="11336"/>
                </a:moveTo>
                <a:cubicBezTo>
                  <a:pt x="17058" y="11336"/>
                  <a:pt x="17173" y="11336"/>
                  <a:pt x="17289" y="11336"/>
                </a:cubicBezTo>
              </a:path>
              <a:path w="3300" h="1018">
                <a:moveTo>
                  <a:pt x="16966" y="11534"/>
                </a:moveTo>
                <a:cubicBezTo>
                  <a:pt x="17084" y="11585"/>
                  <a:pt x="17138" y="11587"/>
                  <a:pt x="17264" y="11559"/>
                </a:cubicBezTo>
                <a:cubicBezTo>
                  <a:pt x="17338" y="11542"/>
                  <a:pt x="17397" y="11496"/>
                  <a:pt x="17462" y="11460"/>
                </a:cubicBezTo>
              </a:path>
              <a:path w="3300" h="1018">
                <a:moveTo>
                  <a:pt x="17661" y="10964"/>
                </a:moveTo>
                <a:cubicBezTo>
                  <a:pt x="17654" y="11061"/>
                  <a:pt x="17636" y="11139"/>
                  <a:pt x="17636" y="11237"/>
                </a:cubicBezTo>
                <a:cubicBezTo>
                  <a:pt x="17636" y="11312"/>
                  <a:pt x="17645" y="11411"/>
                  <a:pt x="17661" y="11485"/>
                </a:cubicBezTo>
                <a:cubicBezTo>
                  <a:pt x="17685" y="11597"/>
                  <a:pt x="17687" y="11587"/>
                  <a:pt x="17661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7040" y="3902040"/>
            <a:ext cx="1785960" cy="546120"/>
          </a:xfrm>
          <a:custGeom>
            <a:avLst/>
            <a:gdLst/>
            <a:ahLst/>
            <a:rect l="l" t="t" r="r" b="b"/>
            <a:pathLst>
              <a:path w="4962" h="1514">
                <a:moveTo>
                  <a:pt x="4713" y="11013"/>
                </a:moveTo>
                <a:cubicBezTo>
                  <a:pt x="4755" y="10971"/>
                  <a:pt x="4798" y="10943"/>
                  <a:pt x="4837" y="10914"/>
                </a:cubicBezTo>
                <a:cubicBezTo>
                  <a:pt x="4879" y="10882"/>
                  <a:pt x="4932" y="10867"/>
                  <a:pt x="4986" y="10864"/>
                </a:cubicBezTo>
                <a:cubicBezTo>
                  <a:pt x="5080" y="10858"/>
                  <a:pt x="5096" y="10827"/>
                  <a:pt x="5209" y="10864"/>
                </a:cubicBezTo>
                <a:cubicBezTo>
                  <a:pt x="5283" y="10888"/>
                  <a:pt x="5279" y="10915"/>
                  <a:pt x="5308" y="10964"/>
                </a:cubicBezTo>
                <a:cubicBezTo>
                  <a:pt x="5331" y="11003"/>
                  <a:pt x="5347" y="11060"/>
                  <a:pt x="5333" y="11112"/>
                </a:cubicBezTo>
                <a:cubicBezTo>
                  <a:pt x="5315" y="11182"/>
                  <a:pt x="5292" y="11244"/>
                  <a:pt x="5259" y="11311"/>
                </a:cubicBezTo>
                <a:cubicBezTo>
                  <a:pt x="5223" y="11383"/>
                  <a:pt x="5165" y="11451"/>
                  <a:pt x="5110" y="11509"/>
                </a:cubicBezTo>
                <a:cubicBezTo>
                  <a:pt x="5048" y="11575"/>
                  <a:pt x="4997" y="11643"/>
                  <a:pt x="4936" y="11708"/>
                </a:cubicBezTo>
                <a:cubicBezTo>
                  <a:pt x="4885" y="11762"/>
                  <a:pt x="4829" y="11829"/>
                  <a:pt x="4787" y="11881"/>
                </a:cubicBezTo>
                <a:cubicBezTo>
                  <a:pt x="4753" y="11924"/>
                  <a:pt x="4726" y="11980"/>
                  <a:pt x="4713" y="12030"/>
                </a:cubicBezTo>
                <a:cubicBezTo>
                  <a:pt x="4713" y="12038"/>
                  <a:pt x="4713" y="12047"/>
                  <a:pt x="4713" y="12055"/>
                </a:cubicBezTo>
                <a:cubicBezTo>
                  <a:pt x="4818" y="12055"/>
                  <a:pt x="4912" y="12063"/>
                  <a:pt x="5011" y="12080"/>
                </a:cubicBezTo>
                <a:cubicBezTo>
                  <a:pt x="5098" y="12095"/>
                  <a:pt x="5181" y="12081"/>
                  <a:pt x="5259" y="12105"/>
                </a:cubicBezTo>
                <a:cubicBezTo>
                  <a:pt x="5267" y="12105"/>
                  <a:pt x="5275" y="12105"/>
                  <a:pt x="5283" y="12105"/>
                </a:cubicBezTo>
              </a:path>
              <a:path w="4962" h="1514">
                <a:moveTo>
                  <a:pt x="6028" y="11485"/>
                </a:moveTo>
                <a:cubicBezTo>
                  <a:pt x="6017" y="11408"/>
                  <a:pt x="6008" y="11420"/>
                  <a:pt x="5953" y="11385"/>
                </a:cubicBezTo>
                <a:cubicBezTo>
                  <a:pt x="5888" y="11343"/>
                  <a:pt x="5855" y="11380"/>
                  <a:pt x="5779" y="11385"/>
                </a:cubicBezTo>
                <a:cubicBezTo>
                  <a:pt x="5723" y="11388"/>
                  <a:pt x="5671" y="11399"/>
                  <a:pt x="5631" y="11435"/>
                </a:cubicBezTo>
                <a:cubicBezTo>
                  <a:pt x="5592" y="11471"/>
                  <a:pt x="5600" y="11498"/>
                  <a:pt x="5631" y="11534"/>
                </a:cubicBezTo>
                <a:cubicBezTo>
                  <a:pt x="5669" y="11578"/>
                  <a:pt x="5704" y="11606"/>
                  <a:pt x="5755" y="11633"/>
                </a:cubicBezTo>
                <a:cubicBezTo>
                  <a:pt x="5809" y="11661"/>
                  <a:pt x="5889" y="11731"/>
                  <a:pt x="5928" y="11782"/>
                </a:cubicBezTo>
                <a:cubicBezTo>
                  <a:pt x="5976" y="11845"/>
                  <a:pt x="6016" y="11909"/>
                  <a:pt x="6052" y="11981"/>
                </a:cubicBezTo>
                <a:cubicBezTo>
                  <a:pt x="6081" y="12039"/>
                  <a:pt x="6090" y="12071"/>
                  <a:pt x="6052" y="12129"/>
                </a:cubicBezTo>
                <a:cubicBezTo>
                  <a:pt x="6012" y="12190"/>
                  <a:pt x="5948" y="12200"/>
                  <a:pt x="5879" y="12204"/>
                </a:cubicBezTo>
                <a:cubicBezTo>
                  <a:pt x="5818" y="12208"/>
                  <a:pt x="5752" y="12217"/>
                  <a:pt x="5705" y="12179"/>
                </a:cubicBezTo>
                <a:cubicBezTo>
                  <a:pt x="5654" y="12138"/>
                  <a:pt x="5637" y="12157"/>
                  <a:pt x="5631" y="12080"/>
                </a:cubicBezTo>
                <a:cubicBezTo>
                  <a:pt x="5631" y="12055"/>
                  <a:pt x="5631" y="12047"/>
                  <a:pt x="5631" y="12030"/>
                </a:cubicBezTo>
              </a:path>
              <a:path w="4962" h="1514">
                <a:moveTo>
                  <a:pt x="6400" y="11584"/>
                </a:moveTo>
                <a:cubicBezTo>
                  <a:pt x="6400" y="11722"/>
                  <a:pt x="6405" y="11847"/>
                  <a:pt x="6424" y="11981"/>
                </a:cubicBezTo>
                <a:cubicBezTo>
                  <a:pt x="6432" y="12041"/>
                  <a:pt x="6423" y="12103"/>
                  <a:pt x="6449" y="12154"/>
                </a:cubicBezTo>
                <a:cubicBezTo>
                  <a:pt x="6457" y="12162"/>
                  <a:pt x="6466" y="12171"/>
                  <a:pt x="6474" y="12179"/>
                </a:cubicBezTo>
                <a:cubicBezTo>
                  <a:pt x="6462" y="12130"/>
                  <a:pt x="6437" y="12084"/>
                  <a:pt x="6424" y="12030"/>
                </a:cubicBezTo>
                <a:cubicBezTo>
                  <a:pt x="6416" y="11989"/>
                  <a:pt x="6408" y="11947"/>
                  <a:pt x="6400" y="11906"/>
                </a:cubicBezTo>
              </a:path>
              <a:path w="4962" h="1514">
                <a:moveTo>
                  <a:pt x="6424" y="11361"/>
                </a:moveTo>
                <a:cubicBezTo>
                  <a:pt x="6445" y="11311"/>
                  <a:pt x="6449" y="11309"/>
                  <a:pt x="6449" y="11261"/>
                </a:cubicBezTo>
              </a:path>
              <a:path w="4962" h="1514">
                <a:moveTo>
                  <a:pt x="6672" y="11733"/>
                </a:moveTo>
                <a:cubicBezTo>
                  <a:pt x="6672" y="11882"/>
                  <a:pt x="6672" y="12278"/>
                  <a:pt x="6672" y="12129"/>
                </a:cubicBezTo>
                <a:cubicBezTo>
                  <a:pt x="6654" y="12072"/>
                  <a:pt x="6628" y="11994"/>
                  <a:pt x="6648" y="11931"/>
                </a:cubicBezTo>
                <a:cubicBezTo>
                  <a:pt x="6672" y="11857"/>
                  <a:pt x="6669" y="11779"/>
                  <a:pt x="6697" y="11708"/>
                </a:cubicBezTo>
                <a:cubicBezTo>
                  <a:pt x="6716" y="11660"/>
                  <a:pt x="6771" y="11597"/>
                  <a:pt x="6821" y="11584"/>
                </a:cubicBezTo>
                <a:cubicBezTo>
                  <a:pt x="6849" y="11576"/>
                  <a:pt x="6954" y="11594"/>
                  <a:pt x="6970" y="11609"/>
                </a:cubicBezTo>
                <a:cubicBezTo>
                  <a:pt x="6997" y="11634"/>
                  <a:pt x="7087" y="11724"/>
                  <a:pt x="7094" y="11757"/>
                </a:cubicBezTo>
                <a:cubicBezTo>
                  <a:pt x="7111" y="11831"/>
                  <a:pt x="7120" y="11910"/>
                  <a:pt x="7144" y="11981"/>
                </a:cubicBezTo>
                <a:cubicBezTo>
                  <a:pt x="7161" y="12031"/>
                  <a:pt x="7180" y="12084"/>
                  <a:pt x="7193" y="12129"/>
                </a:cubicBezTo>
                <a:cubicBezTo>
                  <a:pt x="7207" y="12176"/>
                  <a:pt x="7202" y="12194"/>
                  <a:pt x="7218" y="12129"/>
                </a:cubicBezTo>
              </a:path>
              <a:path w="4962" h="1514">
                <a:moveTo>
                  <a:pt x="7392" y="11609"/>
                </a:moveTo>
                <a:cubicBezTo>
                  <a:pt x="7447" y="11664"/>
                  <a:pt x="7487" y="11708"/>
                  <a:pt x="7516" y="11782"/>
                </a:cubicBezTo>
                <a:cubicBezTo>
                  <a:pt x="7563" y="11902"/>
                  <a:pt x="7622" y="11984"/>
                  <a:pt x="7714" y="12080"/>
                </a:cubicBezTo>
                <a:cubicBezTo>
                  <a:pt x="7793" y="12162"/>
                  <a:pt x="7874" y="12235"/>
                  <a:pt x="7962" y="12303"/>
                </a:cubicBezTo>
                <a:cubicBezTo>
                  <a:pt x="7988" y="12323"/>
                  <a:pt x="8073" y="12391"/>
                  <a:pt x="8111" y="12353"/>
                </a:cubicBezTo>
                <a:cubicBezTo>
                  <a:pt x="8131" y="12333"/>
                  <a:pt x="8132" y="12258"/>
                  <a:pt x="8136" y="12229"/>
                </a:cubicBezTo>
              </a:path>
              <a:path w="4962" h="1514">
                <a:moveTo>
                  <a:pt x="7913" y="11435"/>
                </a:moveTo>
                <a:cubicBezTo>
                  <a:pt x="7846" y="11511"/>
                  <a:pt x="7849" y="11542"/>
                  <a:pt x="7813" y="11633"/>
                </a:cubicBezTo>
                <a:cubicBezTo>
                  <a:pt x="7778" y="11722"/>
                  <a:pt x="7721" y="11784"/>
                  <a:pt x="7689" y="11881"/>
                </a:cubicBezTo>
                <a:cubicBezTo>
                  <a:pt x="7658" y="11976"/>
                  <a:pt x="7614" y="12043"/>
                  <a:pt x="7565" y="12129"/>
                </a:cubicBezTo>
                <a:cubicBezTo>
                  <a:pt x="7530" y="12190"/>
                  <a:pt x="7500" y="12274"/>
                  <a:pt x="7466" y="12328"/>
                </a:cubicBezTo>
                <a:cubicBezTo>
                  <a:pt x="7433" y="12380"/>
                  <a:pt x="7450" y="12338"/>
                  <a:pt x="7491" y="12328"/>
                </a:cubicBezTo>
              </a:path>
              <a:path w="4962" h="1514">
                <a:moveTo>
                  <a:pt x="8111" y="11832"/>
                </a:moveTo>
                <a:cubicBezTo>
                  <a:pt x="8194" y="11814"/>
                  <a:pt x="8252" y="11807"/>
                  <a:pt x="8334" y="11807"/>
                </a:cubicBezTo>
                <a:cubicBezTo>
                  <a:pt x="8367" y="11807"/>
                  <a:pt x="8401" y="11807"/>
                  <a:pt x="8434" y="11807"/>
                </a:cubicBezTo>
              </a:path>
              <a:path w="4962" h="1514">
                <a:moveTo>
                  <a:pt x="8111" y="12055"/>
                </a:moveTo>
                <a:cubicBezTo>
                  <a:pt x="8225" y="12079"/>
                  <a:pt x="8301" y="12061"/>
                  <a:pt x="8409" y="12055"/>
                </a:cubicBezTo>
                <a:cubicBezTo>
                  <a:pt x="8425" y="12055"/>
                  <a:pt x="8442" y="12055"/>
                  <a:pt x="8458" y="12055"/>
                </a:cubicBezTo>
              </a:path>
              <a:path w="4962" h="1514">
                <a:moveTo>
                  <a:pt x="8781" y="11708"/>
                </a:moveTo>
                <a:cubicBezTo>
                  <a:pt x="8892" y="11729"/>
                  <a:pt x="8990" y="11733"/>
                  <a:pt x="9103" y="11733"/>
                </a:cubicBezTo>
                <a:cubicBezTo>
                  <a:pt x="9128" y="11733"/>
                  <a:pt x="9153" y="11733"/>
                  <a:pt x="9178" y="11733"/>
                </a:cubicBezTo>
              </a:path>
              <a:path w="4962" h="1514">
                <a:moveTo>
                  <a:pt x="9525" y="11187"/>
                </a:moveTo>
                <a:cubicBezTo>
                  <a:pt x="9525" y="11372"/>
                  <a:pt x="9532" y="11556"/>
                  <a:pt x="9550" y="11733"/>
                </a:cubicBezTo>
                <a:cubicBezTo>
                  <a:pt x="9560" y="11827"/>
                  <a:pt x="9552" y="11914"/>
                  <a:pt x="9575" y="12005"/>
                </a:cubicBezTo>
                <a:cubicBezTo>
                  <a:pt x="9612" y="12153"/>
                  <a:pt x="9630" y="12169"/>
                  <a:pt x="9674" y="12278"/>
                </a:cubicBezTo>
                <a:cubicBezTo>
                  <a:pt x="9674" y="12303"/>
                  <a:pt x="9674" y="12311"/>
                  <a:pt x="9649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2760" y="3973680"/>
            <a:ext cx="436320" cy="804600"/>
          </a:xfrm>
          <a:custGeom>
            <a:avLst/>
            <a:gdLst/>
            <a:ahLst/>
            <a:rect l="l" t="t" r="r" b="b"/>
            <a:pathLst>
              <a:path w="1216" h="2234">
                <a:moveTo>
                  <a:pt x="4589" y="12278"/>
                </a:moveTo>
                <a:cubicBezTo>
                  <a:pt x="4644" y="12278"/>
                  <a:pt x="4682" y="12301"/>
                  <a:pt x="4738" y="12303"/>
                </a:cubicBezTo>
                <a:cubicBezTo>
                  <a:pt x="4841" y="12308"/>
                  <a:pt x="4934" y="12318"/>
                  <a:pt x="5035" y="12328"/>
                </a:cubicBezTo>
                <a:cubicBezTo>
                  <a:pt x="5214" y="12346"/>
                  <a:pt x="5410" y="12332"/>
                  <a:pt x="5581" y="12303"/>
                </a:cubicBezTo>
                <a:cubicBezTo>
                  <a:pt x="5658" y="12290"/>
                  <a:pt x="5638" y="12278"/>
                  <a:pt x="5581" y="12278"/>
                </a:cubicBezTo>
              </a:path>
              <a:path w="1216" h="2234">
                <a:moveTo>
                  <a:pt x="5085" y="12601"/>
                </a:moveTo>
                <a:cubicBezTo>
                  <a:pt x="5162" y="12601"/>
                  <a:pt x="5232" y="12562"/>
                  <a:pt x="5308" y="12576"/>
                </a:cubicBezTo>
                <a:cubicBezTo>
                  <a:pt x="5358" y="12585"/>
                  <a:pt x="5414" y="12608"/>
                  <a:pt x="5457" y="12626"/>
                </a:cubicBezTo>
                <a:cubicBezTo>
                  <a:pt x="5508" y="12647"/>
                  <a:pt x="5527" y="12694"/>
                  <a:pt x="5507" y="12750"/>
                </a:cubicBezTo>
                <a:cubicBezTo>
                  <a:pt x="5480" y="12824"/>
                  <a:pt x="5437" y="12869"/>
                  <a:pt x="5383" y="12923"/>
                </a:cubicBezTo>
                <a:cubicBezTo>
                  <a:pt x="5327" y="12979"/>
                  <a:pt x="5267" y="13019"/>
                  <a:pt x="5209" y="13072"/>
                </a:cubicBezTo>
                <a:cubicBezTo>
                  <a:pt x="5185" y="13094"/>
                  <a:pt x="5137" y="13131"/>
                  <a:pt x="5159" y="13171"/>
                </a:cubicBezTo>
                <a:cubicBezTo>
                  <a:pt x="5183" y="13214"/>
                  <a:pt x="5246" y="13208"/>
                  <a:pt x="5283" y="13221"/>
                </a:cubicBezTo>
                <a:cubicBezTo>
                  <a:pt x="5337" y="13240"/>
                  <a:pt x="5408" y="13261"/>
                  <a:pt x="5457" y="13271"/>
                </a:cubicBezTo>
                <a:cubicBezTo>
                  <a:pt x="5524" y="13284"/>
                  <a:pt x="5571" y="13252"/>
                  <a:pt x="5631" y="13246"/>
                </a:cubicBezTo>
                <a:cubicBezTo>
                  <a:pt x="5694" y="13240"/>
                  <a:pt x="5748" y="13200"/>
                  <a:pt x="5804" y="13171"/>
                </a:cubicBezTo>
              </a:path>
              <a:path w="1216" h="2234">
                <a:moveTo>
                  <a:pt x="4961" y="11038"/>
                </a:moveTo>
                <a:cubicBezTo>
                  <a:pt x="4980" y="11108"/>
                  <a:pt x="4986" y="11160"/>
                  <a:pt x="4986" y="11237"/>
                </a:cubicBezTo>
                <a:cubicBezTo>
                  <a:pt x="4986" y="11355"/>
                  <a:pt x="4994" y="11469"/>
                  <a:pt x="5011" y="11584"/>
                </a:cubicBezTo>
                <a:cubicBezTo>
                  <a:pt x="5039" y="11774"/>
                  <a:pt x="5074" y="11967"/>
                  <a:pt x="5110" y="12154"/>
                </a:cubicBezTo>
                <a:cubicBezTo>
                  <a:pt x="5139" y="12304"/>
                  <a:pt x="5160" y="12453"/>
                  <a:pt x="5184" y="12601"/>
                </a:cubicBezTo>
                <a:cubicBezTo>
                  <a:pt x="5203" y="12715"/>
                  <a:pt x="5189" y="12836"/>
                  <a:pt x="5209" y="12948"/>
                </a:cubicBezTo>
                <a:cubicBezTo>
                  <a:pt x="5227" y="13048"/>
                  <a:pt x="5220" y="13109"/>
                  <a:pt x="5209" y="13196"/>
                </a:cubicBezTo>
                <a:cubicBezTo>
                  <a:pt x="5203" y="13249"/>
                  <a:pt x="5221" y="13250"/>
                  <a:pt x="523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1000"/>
            <a:ext cx="322200" cy="35892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9103" y="12502"/>
                </a:moveTo>
                <a:cubicBezTo>
                  <a:pt x="9217" y="12494"/>
                  <a:pt x="9295" y="12489"/>
                  <a:pt x="9401" y="12502"/>
                </a:cubicBezTo>
                <a:cubicBezTo>
                  <a:pt x="9487" y="12513"/>
                  <a:pt x="9589" y="12519"/>
                  <a:pt x="9674" y="12526"/>
                </a:cubicBezTo>
                <a:cubicBezTo>
                  <a:pt x="9778" y="12534"/>
                  <a:pt x="9883" y="12531"/>
                  <a:pt x="9971" y="12502"/>
                </a:cubicBezTo>
                <a:cubicBezTo>
                  <a:pt x="9996" y="12502"/>
                  <a:pt x="10004" y="12502"/>
                  <a:pt x="9971" y="12502"/>
                </a:cubicBezTo>
              </a:path>
              <a:path w="894" h="993">
                <a:moveTo>
                  <a:pt x="9525" y="12750"/>
                </a:moveTo>
                <a:cubicBezTo>
                  <a:pt x="9503" y="12799"/>
                  <a:pt x="9500" y="12801"/>
                  <a:pt x="9500" y="12849"/>
                </a:cubicBezTo>
                <a:cubicBezTo>
                  <a:pt x="9590" y="12849"/>
                  <a:pt x="9663" y="12854"/>
                  <a:pt x="9748" y="12874"/>
                </a:cubicBezTo>
                <a:cubicBezTo>
                  <a:pt x="9777" y="12881"/>
                  <a:pt x="9836" y="12904"/>
                  <a:pt x="9823" y="12948"/>
                </a:cubicBezTo>
                <a:cubicBezTo>
                  <a:pt x="9807" y="13005"/>
                  <a:pt x="9721" y="13072"/>
                  <a:pt x="9674" y="13097"/>
                </a:cubicBezTo>
                <a:cubicBezTo>
                  <a:pt x="9603" y="13134"/>
                  <a:pt x="9557" y="13139"/>
                  <a:pt x="9500" y="13196"/>
                </a:cubicBezTo>
                <a:cubicBezTo>
                  <a:pt x="9460" y="13236"/>
                  <a:pt x="9433" y="13247"/>
                  <a:pt x="9475" y="13295"/>
                </a:cubicBezTo>
                <a:cubicBezTo>
                  <a:pt x="9516" y="13341"/>
                  <a:pt x="9575" y="13386"/>
                  <a:pt x="9624" y="13419"/>
                </a:cubicBezTo>
                <a:cubicBezTo>
                  <a:pt x="9692" y="13464"/>
                  <a:pt x="9744" y="13469"/>
                  <a:pt x="9823" y="13469"/>
                </a:cubicBezTo>
                <a:cubicBezTo>
                  <a:pt x="9831" y="13469"/>
                  <a:pt x="9839" y="13469"/>
                  <a:pt x="9847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2000" y="5000760"/>
            <a:ext cx="1643040" cy="544320"/>
          </a:xfrm>
          <a:custGeom>
            <a:avLst/>
            <a:gdLst/>
            <a:ahLst/>
            <a:rect l="l" t="t" r="r" b="b"/>
            <a:pathLst>
              <a:path w="4565" h="1514">
                <a:moveTo>
                  <a:pt x="6598" y="14139"/>
                </a:moveTo>
                <a:cubicBezTo>
                  <a:pt x="6620" y="14177"/>
                  <a:pt x="6639" y="14201"/>
                  <a:pt x="6648" y="14238"/>
                </a:cubicBezTo>
                <a:cubicBezTo>
                  <a:pt x="6648" y="14202"/>
                  <a:pt x="6641" y="14166"/>
                  <a:pt x="6623" y="14139"/>
                </a:cubicBezTo>
                <a:cubicBezTo>
                  <a:pt x="6593" y="14094"/>
                  <a:pt x="6542" y="14057"/>
                  <a:pt x="6499" y="14039"/>
                </a:cubicBezTo>
                <a:cubicBezTo>
                  <a:pt x="6439" y="14014"/>
                  <a:pt x="6415" y="14015"/>
                  <a:pt x="6350" y="14015"/>
                </a:cubicBezTo>
                <a:cubicBezTo>
                  <a:pt x="6310" y="14015"/>
                  <a:pt x="6270" y="14020"/>
                  <a:pt x="6251" y="14064"/>
                </a:cubicBezTo>
                <a:cubicBezTo>
                  <a:pt x="6234" y="14103"/>
                  <a:pt x="6276" y="14162"/>
                  <a:pt x="6276" y="14163"/>
                </a:cubicBezTo>
                <a:cubicBezTo>
                  <a:pt x="6295" y="14237"/>
                  <a:pt x="6323" y="14251"/>
                  <a:pt x="6375" y="14312"/>
                </a:cubicBezTo>
                <a:cubicBezTo>
                  <a:pt x="6418" y="14363"/>
                  <a:pt x="6477" y="14394"/>
                  <a:pt x="6524" y="14436"/>
                </a:cubicBezTo>
                <a:cubicBezTo>
                  <a:pt x="6597" y="14501"/>
                  <a:pt x="6668" y="14580"/>
                  <a:pt x="6722" y="14660"/>
                </a:cubicBezTo>
                <a:cubicBezTo>
                  <a:pt x="6765" y="14724"/>
                  <a:pt x="6757" y="14769"/>
                  <a:pt x="6747" y="14833"/>
                </a:cubicBezTo>
                <a:cubicBezTo>
                  <a:pt x="6737" y="14895"/>
                  <a:pt x="6674" y="14883"/>
                  <a:pt x="6623" y="14883"/>
                </a:cubicBezTo>
                <a:cubicBezTo>
                  <a:pt x="6548" y="14883"/>
                  <a:pt x="6490" y="14841"/>
                  <a:pt x="6424" y="14808"/>
                </a:cubicBezTo>
                <a:cubicBezTo>
                  <a:pt x="6369" y="14781"/>
                  <a:pt x="6327" y="14740"/>
                  <a:pt x="6276" y="14709"/>
                </a:cubicBezTo>
                <a:cubicBezTo>
                  <a:pt x="6231" y="14682"/>
                  <a:pt x="6207" y="14664"/>
                  <a:pt x="6201" y="14610"/>
                </a:cubicBezTo>
                <a:cubicBezTo>
                  <a:pt x="6201" y="14570"/>
                  <a:pt x="6212" y="14551"/>
                  <a:pt x="6251" y="14536"/>
                </a:cubicBezTo>
              </a:path>
              <a:path w="4565" h="1514">
                <a:moveTo>
                  <a:pt x="6995" y="14288"/>
                </a:moveTo>
                <a:cubicBezTo>
                  <a:pt x="6995" y="14470"/>
                  <a:pt x="6991" y="14637"/>
                  <a:pt x="7020" y="14808"/>
                </a:cubicBezTo>
                <a:cubicBezTo>
                  <a:pt x="7027" y="14849"/>
                  <a:pt x="7020" y="14925"/>
                  <a:pt x="7020" y="14883"/>
                </a:cubicBezTo>
                <a:cubicBezTo>
                  <a:pt x="7020" y="14784"/>
                  <a:pt x="7020" y="14684"/>
                  <a:pt x="7020" y="14585"/>
                </a:cubicBezTo>
              </a:path>
              <a:path w="4565" h="1514">
                <a:moveTo>
                  <a:pt x="6970" y="13915"/>
                </a:moveTo>
                <a:cubicBezTo>
                  <a:pt x="7005" y="13890"/>
                  <a:pt x="7002" y="13891"/>
                  <a:pt x="7045" y="13891"/>
                </a:cubicBezTo>
              </a:path>
              <a:path w="4565" h="1514">
                <a:moveTo>
                  <a:pt x="7193" y="14635"/>
                </a:moveTo>
                <a:cubicBezTo>
                  <a:pt x="7193" y="14853"/>
                  <a:pt x="7168" y="14770"/>
                  <a:pt x="7193" y="14709"/>
                </a:cubicBezTo>
                <a:cubicBezTo>
                  <a:pt x="7215" y="14656"/>
                  <a:pt x="7218" y="14627"/>
                  <a:pt x="7218" y="14560"/>
                </a:cubicBezTo>
                <a:cubicBezTo>
                  <a:pt x="7218" y="14501"/>
                  <a:pt x="7258" y="14444"/>
                  <a:pt x="7268" y="14387"/>
                </a:cubicBezTo>
                <a:cubicBezTo>
                  <a:pt x="7277" y="14333"/>
                  <a:pt x="7282" y="14282"/>
                  <a:pt x="7317" y="14238"/>
                </a:cubicBezTo>
                <a:cubicBezTo>
                  <a:pt x="7340" y="14209"/>
                  <a:pt x="7406" y="14196"/>
                  <a:pt x="7441" y="14213"/>
                </a:cubicBezTo>
                <a:cubicBezTo>
                  <a:pt x="7494" y="14240"/>
                  <a:pt x="7539" y="14342"/>
                  <a:pt x="7565" y="14387"/>
                </a:cubicBezTo>
                <a:cubicBezTo>
                  <a:pt x="7606" y="14459"/>
                  <a:pt x="7631" y="14536"/>
                  <a:pt x="7665" y="14610"/>
                </a:cubicBezTo>
                <a:cubicBezTo>
                  <a:pt x="7700" y="14684"/>
                  <a:pt x="7727" y="14760"/>
                  <a:pt x="7764" y="14833"/>
                </a:cubicBezTo>
                <a:cubicBezTo>
                  <a:pt x="7784" y="14873"/>
                  <a:pt x="7791" y="14936"/>
                  <a:pt x="7838" y="14957"/>
                </a:cubicBezTo>
                <a:cubicBezTo>
                  <a:pt x="7846" y="14957"/>
                  <a:pt x="7855" y="14957"/>
                  <a:pt x="7863" y="14957"/>
                </a:cubicBezTo>
              </a:path>
              <a:path w="4565" h="1514">
                <a:moveTo>
                  <a:pt x="7888" y="14387"/>
                </a:moveTo>
                <a:cubicBezTo>
                  <a:pt x="7945" y="14401"/>
                  <a:pt x="7937" y="14431"/>
                  <a:pt x="7962" y="14486"/>
                </a:cubicBezTo>
                <a:cubicBezTo>
                  <a:pt x="7998" y="14563"/>
                  <a:pt x="8037" y="14618"/>
                  <a:pt x="8086" y="14684"/>
                </a:cubicBezTo>
                <a:cubicBezTo>
                  <a:pt x="8144" y="14762"/>
                  <a:pt x="8214" y="14867"/>
                  <a:pt x="8285" y="14932"/>
                </a:cubicBezTo>
                <a:cubicBezTo>
                  <a:pt x="8363" y="15004"/>
                  <a:pt x="8476" y="15075"/>
                  <a:pt x="8582" y="15081"/>
                </a:cubicBezTo>
                <a:cubicBezTo>
                  <a:pt x="8640" y="15084"/>
                  <a:pt x="8641" y="15086"/>
                  <a:pt x="8682" y="15056"/>
                </a:cubicBezTo>
              </a:path>
              <a:path w="4565" h="1514">
                <a:moveTo>
                  <a:pt x="8384" y="14238"/>
                </a:moveTo>
                <a:cubicBezTo>
                  <a:pt x="8325" y="14345"/>
                  <a:pt x="8278" y="14446"/>
                  <a:pt x="8235" y="14560"/>
                </a:cubicBezTo>
                <a:cubicBezTo>
                  <a:pt x="8199" y="14656"/>
                  <a:pt x="8164" y="14725"/>
                  <a:pt x="8111" y="14808"/>
                </a:cubicBezTo>
                <a:cubicBezTo>
                  <a:pt x="8080" y="14857"/>
                  <a:pt x="8090" y="14915"/>
                  <a:pt x="8062" y="14957"/>
                </a:cubicBezTo>
                <a:cubicBezTo>
                  <a:pt x="8054" y="14965"/>
                  <a:pt x="8045" y="14974"/>
                  <a:pt x="8037" y="14982"/>
                </a:cubicBezTo>
              </a:path>
              <a:path w="4565" h="1514">
                <a:moveTo>
                  <a:pt x="8582" y="14486"/>
                </a:moveTo>
                <a:cubicBezTo>
                  <a:pt x="8656" y="14486"/>
                  <a:pt x="8725" y="14503"/>
                  <a:pt x="8781" y="14461"/>
                </a:cubicBezTo>
              </a:path>
              <a:path w="4565" h="1514">
                <a:moveTo>
                  <a:pt x="8582" y="14660"/>
                </a:moveTo>
                <a:cubicBezTo>
                  <a:pt x="8689" y="14713"/>
                  <a:pt x="8722" y="14750"/>
                  <a:pt x="8830" y="14709"/>
                </a:cubicBezTo>
              </a:path>
              <a:path w="4565" h="1514">
                <a:moveTo>
                  <a:pt x="9153" y="14461"/>
                </a:moveTo>
                <a:cubicBezTo>
                  <a:pt x="9287" y="14461"/>
                  <a:pt x="9310" y="14479"/>
                  <a:pt x="9376" y="14436"/>
                </a:cubicBezTo>
              </a:path>
              <a:path w="4565" h="1514">
                <a:moveTo>
                  <a:pt x="9649" y="14089"/>
                </a:moveTo>
                <a:cubicBezTo>
                  <a:pt x="9649" y="14241"/>
                  <a:pt x="9646" y="14391"/>
                  <a:pt x="9674" y="14536"/>
                </a:cubicBezTo>
                <a:cubicBezTo>
                  <a:pt x="9682" y="14577"/>
                  <a:pt x="9686" y="14630"/>
                  <a:pt x="9723" y="14635"/>
                </a:cubicBezTo>
                <a:cubicBezTo>
                  <a:pt x="9731" y="14635"/>
                  <a:pt x="9740" y="14635"/>
                  <a:pt x="9748" y="14635"/>
                </a:cubicBezTo>
              </a:path>
              <a:path w="4565" h="1514">
                <a:moveTo>
                  <a:pt x="10046" y="13915"/>
                </a:moveTo>
                <a:cubicBezTo>
                  <a:pt x="10025" y="13991"/>
                  <a:pt x="10015" y="14065"/>
                  <a:pt x="9996" y="14139"/>
                </a:cubicBezTo>
                <a:cubicBezTo>
                  <a:pt x="9971" y="14235"/>
                  <a:pt x="9954" y="14375"/>
                  <a:pt x="9922" y="14461"/>
                </a:cubicBezTo>
                <a:cubicBezTo>
                  <a:pt x="9879" y="14577"/>
                  <a:pt x="9830" y="14684"/>
                  <a:pt x="9798" y="14808"/>
                </a:cubicBezTo>
                <a:cubicBezTo>
                  <a:pt x="9770" y="14916"/>
                  <a:pt x="9739" y="15026"/>
                  <a:pt x="9723" y="15131"/>
                </a:cubicBezTo>
                <a:cubicBezTo>
                  <a:pt x="9719" y="15155"/>
                  <a:pt x="9708" y="15328"/>
                  <a:pt x="9748" y="15304"/>
                </a:cubicBezTo>
                <a:cubicBezTo>
                  <a:pt x="9748" y="15276"/>
                  <a:pt x="9751" y="15266"/>
                  <a:pt x="9773" y="15255"/>
                </a:cubicBezTo>
              </a:path>
              <a:path w="4565" h="1514">
                <a:moveTo>
                  <a:pt x="9947" y="14784"/>
                </a:moveTo>
                <a:cubicBezTo>
                  <a:pt x="9973" y="14751"/>
                  <a:pt x="10042" y="14656"/>
                  <a:pt x="10096" y="14660"/>
                </a:cubicBezTo>
                <a:cubicBezTo>
                  <a:pt x="10112" y="14661"/>
                  <a:pt x="10257" y="14696"/>
                  <a:pt x="10269" y="14734"/>
                </a:cubicBezTo>
                <a:cubicBezTo>
                  <a:pt x="10280" y="14771"/>
                  <a:pt x="10308" y="14841"/>
                  <a:pt x="10294" y="14883"/>
                </a:cubicBezTo>
                <a:cubicBezTo>
                  <a:pt x="10275" y="14938"/>
                  <a:pt x="10254" y="15007"/>
                  <a:pt x="10220" y="15056"/>
                </a:cubicBezTo>
                <a:cubicBezTo>
                  <a:pt x="10193" y="15095"/>
                  <a:pt x="10163" y="15133"/>
                  <a:pt x="10145" y="15156"/>
                </a:cubicBezTo>
                <a:cubicBezTo>
                  <a:pt x="10112" y="15199"/>
                  <a:pt x="10096" y="15198"/>
                  <a:pt x="10096" y="15255"/>
                </a:cubicBezTo>
                <a:cubicBezTo>
                  <a:pt x="10096" y="15296"/>
                  <a:pt x="10096" y="15304"/>
                  <a:pt x="10096" y="15329"/>
                </a:cubicBezTo>
                <a:cubicBezTo>
                  <a:pt x="10143" y="15329"/>
                  <a:pt x="10175" y="15351"/>
                  <a:pt x="10220" y="15354"/>
                </a:cubicBezTo>
                <a:cubicBezTo>
                  <a:pt x="10284" y="15358"/>
                  <a:pt x="10333" y="15369"/>
                  <a:pt x="10393" y="15379"/>
                </a:cubicBezTo>
                <a:cubicBezTo>
                  <a:pt x="10503" y="15398"/>
                  <a:pt x="10640" y="15365"/>
                  <a:pt x="10716" y="15404"/>
                </a:cubicBezTo>
                <a:cubicBezTo>
                  <a:pt x="10746" y="15419"/>
                  <a:pt x="10796" y="15398"/>
                  <a:pt x="10740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99040" y="5214960"/>
            <a:ext cx="3456000" cy="1098360"/>
          </a:xfrm>
          <a:custGeom>
            <a:avLst/>
            <a:gdLst/>
            <a:ahLst/>
            <a:rect l="l" t="t" r="r" b="b"/>
            <a:pathLst>
              <a:path w="9601" h="3052">
                <a:moveTo>
                  <a:pt x="14213" y="14908"/>
                </a:moveTo>
                <a:cubicBezTo>
                  <a:pt x="14223" y="15028"/>
                  <a:pt x="14252" y="15065"/>
                  <a:pt x="14312" y="15180"/>
                </a:cubicBezTo>
                <a:cubicBezTo>
                  <a:pt x="14390" y="15329"/>
                  <a:pt x="14450" y="15481"/>
                  <a:pt x="14536" y="15627"/>
                </a:cubicBezTo>
                <a:cubicBezTo>
                  <a:pt x="14658" y="15834"/>
                  <a:pt x="14790" y="16047"/>
                  <a:pt x="14957" y="16222"/>
                </a:cubicBezTo>
                <a:cubicBezTo>
                  <a:pt x="15031" y="16300"/>
                  <a:pt x="15131" y="16425"/>
                  <a:pt x="15255" y="16396"/>
                </a:cubicBezTo>
                <a:cubicBezTo>
                  <a:pt x="15263" y="16388"/>
                  <a:pt x="15272" y="16379"/>
                  <a:pt x="15280" y="16371"/>
                </a:cubicBezTo>
              </a:path>
              <a:path w="9601" h="3052">
                <a:moveTo>
                  <a:pt x="14883" y="14709"/>
                </a:moveTo>
                <a:cubicBezTo>
                  <a:pt x="14778" y="14941"/>
                  <a:pt x="14685" y="15171"/>
                  <a:pt x="14585" y="15404"/>
                </a:cubicBezTo>
                <a:cubicBezTo>
                  <a:pt x="14504" y="15591"/>
                  <a:pt x="14443" y="15787"/>
                  <a:pt x="14362" y="15974"/>
                </a:cubicBezTo>
                <a:cubicBezTo>
                  <a:pt x="14302" y="16112"/>
                  <a:pt x="14214" y="16270"/>
                  <a:pt x="14188" y="16421"/>
                </a:cubicBezTo>
                <a:cubicBezTo>
                  <a:pt x="14178" y="16478"/>
                  <a:pt x="14188" y="16535"/>
                  <a:pt x="14188" y="16570"/>
                </a:cubicBezTo>
              </a:path>
              <a:path w="9601" h="3052">
                <a:moveTo>
                  <a:pt x="15032" y="15577"/>
                </a:moveTo>
                <a:cubicBezTo>
                  <a:pt x="15210" y="15577"/>
                  <a:pt x="15504" y="15624"/>
                  <a:pt x="15677" y="15553"/>
                </a:cubicBezTo>
              </a:path>
              <a:path w="9601" h="3052">
                <a:moveTo>
                  <a:pt x="15081" y="15875"/>
                </a:moveTo>
                <a:cubicBezTo>
                  <a:pt x="15270" y="15986"/>
                  <a:pt x="15338" y="15999"/>
                  <a:pt x="15553" y="15999"/>
                </a:cubicBezTo>
                <a:cubicBezTo>
                  <a:pt x="15586" y="15999"/>
                  <a:pt x="15619" y="15999"/>
                  <a:pt x="15652" y="15999"/>
                </a:cubicBezTo>
              </a:path>
              <a:path w="9601" h="3052">
                <a:moveTo>
                  <a:pt x="16148" y="14833"/>
                </a:moveTo>
                <a:cubicBezTo>
                  <a:pt x="16194" y="14821"/>
                  <a:pt x="16229" y="14785"/>
                  <a:pt x="16272" y="14759"/>
                </a:cubicBezTo>
                <a:cubicBezTo>
                  <a:pt x="16355" y="14709"/>
                  <a:pt x="16427" y="14709"/>
                  <a:pt x="16520" y="14709"/>
                </a:cubicBezTo>
                <a:cubicBezTo>
                  <a:pt x="16615" y="14709"/>
                  <a:pt x="16702" y="14701"/>
                  <a:pt x="16793" y="14734"/>
                </a:cubicBezTo>
                <a:cubicBezTo>
                  <a:pt x="16870" y="14762"/>
                  <a:pt x="16943" y="14777"/>
                  <a:pt x="17016" y="14808"/>
                </a:cubicBezTo>
                <a:cubicBezTo>
                  <a:pt x="17097" y="14842"/>
                  <a:pt x="17152" y="14858"/>
                  <a:pt x="17239" y="14858"/>
                </a:cubicBezTo>
                <a:cubicBezTo>
                  <a:pt x="17293" y="14858"/>
                  <a:pt x="17349" y="14819"/>
                  <a:pt x="17388" y="14784"/>
                </a:cubicBezTo>
                <a:cubicBezTo>
                  <a:pt x="17413" y="14759"/>
                  <a:pt x="17421" y="14751"/>
                  <a:pt x="17438" y="14734"/>
                </a:cubicBezTo>
              </a:path>
              <a:path w="9601" h="3052">
                <a:moveTo>
                  <a:pt x="16619" y="15007"/>
                </a:moveTo>
                <a:cubicBezTo>
                  <a:pt x="16579" y="15129"/>
                  <a:pt x="16534" y="15253"/>
                  <a:pt x="16520" y="15379"/>
                </a:cubicBezTo>
                <a:cubicBezTo>
                  <a:pt x="16511" y="15458"/>
                  <a:pt x="16495" y="15521"/>
                  <a:pt x="16495" y="15602"/>
                </a:cubicBezTo>
              </a:path>
              <a:path w="9601" h="3052">
                <a:moveTo>
                  <a:pt x="16892" y="14908"/>
                </a:moveTo>
                <a:cubicBezTo>
                  <a:pt x="16885" y="14989"/>
                  <a:pt x="16852" y="15055"/>
                  <a:pt x="16842" y="15131"/>
                </a:cubicBezTo>
                <a:cubicBezTo>
                  <a:pt x="16830" y="15223"/>
                  <a:pt x="16818" y="15310"/>
                  <a:pt x="16818" y="15404"/>
                </a:cubicBezTo>
                <a:cubicBezTo>
                  <a:pt x="16818" y="15429"/>
                  <a:pt x="16818" y="15453"/>
                  <a:pt x="16818" y="15478"/>
                </a:cubicBezTo>
              </a:path>
              <a:path w="9601" h="3052">
                <a:moveTo>
                  <a:pt x="17760" y="14808"/>
                </a:moveTo>
                <a:cubicBezTo>
                  <a:pt x="17674" y="14964"/>
                  <a:pt x="17603" y="15101"/>
                  <a:pt x="17512" y="15255"/>
                </a:cubicBezTo>
                <a:cubicBezTo>
                  <a:pt x="17431" y="15392"/>
                  <a:pt x="17374" y="15554"/>
                  <a:pt x="17314" y="15701"/>
                </a:cubicBezTo>
                <a:cubicBezTo>
                  <a:pt x="17247" y="15864"/>
                  <a:pt x="17164" y="16015"/>
                  <a:pt x="17090" y="16173"/>
                </a:cubicBezTo>
                <a:cubicBezTo>
                  <a:pt x="17028" y="16307"/>
                  <a:pt x="16987" y="16455"/>
                  <a:pt x="16942" y="16594"/>
                </a:cubicBezTo>
                <a:cubicBezTo>
                  <a:pt x="16913" y="16683"/>
                  <a:pt x="16892" y="16749"/>
                  <a:pt x="16892" y="16842"/>
                </a:cubicBezTo>
                <a:cubicBezTo>
                  <a:pt x="16892" y="16850"/>
                  <a:pt x="16892" y="16859"/>
                  <a:pt x="16892" y="16867"/>
                </a:cubicBezTo>
              </a:path>
              <a:path w="9601" h="3052">
                <a:moveTo>
                  <a:pt x="17438" y="15999"/>
                </a:moveTo>
                <a:cubicBezTo>
                  <a:pt x="17510" y="15933"/>
                  <a:pt x="17541" y="15881"/>
                  <a:pt x="17636" y="15875"/>
                </a:cubicBezTo>
                <a:cubicBezTo>
                  <a:pt x="17691" y="15871"/>
                  <a:pt x="17720" y="15868"/>
                  <a:pt x="17760" y="15900"/>
                </a:cubicBezTo>
                <a:cubicBezTo>
                  <a:pt x="17810" y="15940"/>
                  <a:pt x="17827" y="15980"/>
                  <a:pt x="17810" y="16049"/>
                </a:cubicBezTo>
                <a:cubicBezTo>
                  <a:pt x="17777" y="16180"/>
                  <a:pt x="17662" y="16336"/>
                  <a:pt x="17611" y="16446"/>
                </a:cubicBezTo>
                <a:cubicBezTo>
                  <a:pt x="17576" y="16521"/>
                  <a:pt x="17505" y="16612"/>
                  <a:pt x="17487" y="16694"/>
                </a:cubicBezTo>
                <a:cubicBezTo>
                  <a:pt x="17479" y="16729"/>
                  <a:pt x="17487" y="16781"/>
                  <a:pt x="17487" y="16818"/>
                </a:cubicBezTo>
                <a:cubicBezTo>
                  <a:pt x="17528" y="16818"/>
                  <a:pt x="17577" y="16811"/>
                  <a:pt x="17611" y="16793"/>
                </a:cubicBezTo>
                <a:cubicBezTo>
                  <a:pt x="17689" y="16751"/>
                  <a:pt x="17738" y="16730"/>
                  <a:pt x="17835" y="16718"/>
                </a:cubicBezTo>
                <a:cubicBezTo>
                  <a:pt x="17925" y="16707"/>
                  <a:pt x="18001" y="16729"/>
                  <a:pt x="18083" y="16743"/>
                </a:cubicBezTo>
                <a:cubicBezTo>
                  <a:pt x="18107" y="16743"/>
                  <a:pt x="18116" y="16743"/>
                  <a:pt x="18132" y="16743"/>
                </a:cubicBezTo>
              </a:path>
              <a:path w="9601" h="3052">
                <a:moveTo>
                  <a:pt x="18331" y="16818"/>
                </a:moveTo>
                <a:cubicBezTo>
                  <a:pt x="18331" y="16994"/>
                  <a:pt x="18322" y="17167"/>
                  <a:pt x="18306" y="17338"/>
                </a:cubicBezTo>
                <a:cubicBezTo>
                  <a:pt x="18300" y="17409"/>
                  <a:pt x="18305" y="17503"/>
                  <a:pt x="18331" y="17537"/>
                </a:cubicBezTo>
              </a:path>
              <a:path w="9601" h="3052">
                <a:moveTo>
                  <a:pt x="18479" y="14858"/>
                </a:moveTo>
                <a:cubicBezTo>
                  <a:pt x="18507" y="14815"/>
                  <a:pt x="18524" y="14788"/>
                  <a:pt x="18579" y="14784"/>
                </a:cubicBezTo>
                <a:cubicBezTo>
                  <a:pt x="18760" y="14771"/>
                  <a:pt x="18984" y="14765"/>
                  <a:pt x="19149" y="14808"/>
                </a:cubicBezTo>
                <a:cubicBezTo>
                  <a:pt x="19199" y="14821"/>
                  <a:pt x="19199" y="14832"/>
                  <a:pt x="19199" y="14883"/>
                </a:cubicBezTo>
                <a:cubicBezTo>
                  <a:pt x="19199" y="14904"/>
                  <a:pt x="19183" y="15010"/>
                  <a:pt x="19174" y="15032"/>
                </a:cubicBezTo>
                <a:cubicBezTo>
                  <a:pt x="19151" y="15087"/>
                  <a:pt x="19140" y="15143"/>
                  <a:pt x="19124" y="15205"/>
                </a:cubicBezTo>
                <a:cubicBezTo>
                  <a:pt x="19096" y="15317"/>
                  <a:pt x="19069" y="15438"/>
                  <a:pt x="19050" y="15553"/>
                </a:cubicBezTo>
                <a:cubicBezTo>
                  <a:pt x="19041" y="15609"/>
                  <a:pt x="19043" y="15660"/>
                  <a:pt x="19075" y="15701"/>
                </a:cubicBezTo>
              </a:path>
              <a:path w="9601" h="3052">
                <a:moveTo>
                  <a:pt x="19645" y="14883"/>
                </a:moveTo>
                <a:cubicBezTo>
                  <a:pt x="19770" y="14839"/>
                  <a:pt x="19896" y="14819"/>
                  <a:pt x="20017" y="14784"/>
                </a:cubicBezTo>
                <a:cubicBezTo>
                  <a:pt x="20086" y="14764"/>
                  <a:pt x="20129" y="14745"/>
                  <a:pt x="20191" y="14709"/>
                </a:cubicBezTo>
              </a:path>
              <a:path w="9601" h="3052">
                <a:moveTo>
                  <a:pt x="19769" y="14833"/>
                </a:moveTo>
                <a:cubicBezTo>
                  <a:pt x="19725" y="14940"/>
                  <a:pt x="19705" y="15028"/>
                  <a:pt x="19670" y="15131"/>
                </a:cubicBezTo>
                <a:cubicBezTo>
                  <a:pt x="19643" y="15211"/>
                  <a:pt x="19588" y="15298"/>
                  <a:pt x="19571" y="15379"/>
                </a:cubicBezTo>
                <a:cubicBezTo>
                  <a:pt x="19559" y="15435"/>
                  <a:pt x="19554" y="15460"/>
                  <a:pt x="19571" y="15503"/>
                </a:cubicBezTo>
                <a:cubicBezTo>
                  <a:pt x="19613" y="15461"/>
                  <a:pt x="19634" y="15430"/>
                  <a:pt x="19670" y="15379"/>
                </a:cubicBezTo>
              </a:path>
              <a:path w="9601" h="3052">
                <a:moveTo>
                  <a:pt x="19918" y="14883"/>
                </a:moveTo>
                <a:cubicBezTo>
                  <a:pt x="19918" y="15005"/>
                  <a:pt x="19911" y="15113"/>
                  <a:pt x="19893" y="15230"/>
                </a:cubicBezTo>
                <a:cubicBezTo>
                  <a:pt x="19884" y="15293"/>
                  <a:pt x="19889" y="15355"/>
                  <a:pt x="19918" y="15404"/>
                </a:cubicBezTo>
              </a:path>
              <a:path w="9601" h="3052">
                <a:moveTo>
                  <a:pt x="20638" y="14511"/>
                </a:moveTo>
                <a:cubicBezTo>
                  <a:pt x="20576" y="14658"/>
                  <a:pt x="20506" y="14791"/>
                  <a:pt x="20439" y="14932"/>
                </a:cubicBezTo>
                <a:cubicBezTo>
                  <a:pt x="20371" y="15074"/>
                  <a:pt x="20308" y="15224"/>
                  <a:pt x="20216" y="15354"/>
                </a:cubicBezTo>
                <a:cubicBezTo>
                  <a:pt x="20096" y="15525"/>
                  <a:pt x="19970" y="15691"/>
                  <a:pt x="19869" y="15875"/>
                </a:cubicBezTo>
                <a:cubicBezTo>
                  <a:pt x="19783" y="16032"/>
                  <a:pt x="19689" y="16179"/>
                  <a:pt x="19621" y="16346"/>
                </a:cubicBezTo>
                <a:cubicBezTo>
                  <a:pt x="19597" y="16406"/>
                  <a:pt x="19572" y="16465"/>
                  <a:pt x="19546" y="16520"/>
                </a:cubicBezTo>
              </a:path>
              <a:path w="9601" h="3052">
                <a:moveTo>
                  <a:pt x="20166" y="16197"/>
                </a:moveTo>
                <a:cubicBezTo>
                  <a:pt x="20148" y="16319"/>
                  <a:pt x="20141" y="16423"/>
                  <a:pt x="20141" y="16545"/>
                </a:cubicBezTo>
                <a:cubicBezTo>
                  <a:pt x="20141" y="16614"/>
                  <a:pt x="20170" y="16668"/>
                  <a:pt x="20216" y="16718"/>
                </a:cubicBezTo>
                <a:cubicBezTo>
                  <a:pt x="20277" y="16785"/>
                  <a:pt x="20295" y="16761"/>
                  <a:pt x="20365" y="16743"/>
                </a:cubicBezTo>
                <a:cubicBezTo>
                  <a:pt x="20426" y="16728"/>
                  <a:pt x="20500" y="16644"/>
                  <a:pt x="20538" y="16594"/>
                </a:cubicBezTo>
                <a:cubicBezTo>
                  <a:pt x="20571" y="16550"/>
                  <a:pt x="20585" y="16473"/>
                  <a:pt x="20588" y="16421"/>
                </a:cubicBezTo>
                <a:cubicBezTo>
                  <a:pt x="20591" y="16368"/>
                  <a:pt x="20597" y="16334"/>
                  <a:pt x="20563" y="16297"/>
                </a:cubicBezTo>
                <a:cubicBezTo>
                  <a:pt x="20529" y="16259"/>
                  <a:pt x="20488" y="16272"/>
                  <a:pt x="20439" y="16272"/>
                </a:cubicBezTo>
                <a:cubicBezTo>
                  <a:pt x="20393" y="16272"/>
                  <a:pt x="20340" y="16334"/>
                  <a:pt x="20315" y="16371"/>
                </a:cubicBezTo>
                <a:cubicBezTo>
                  <a:pt x="20285" y="16417"/>
                  <a:pt x="20243" y="16491"/>
                  <a:pt x="20241" y="16545"/>
                </a:cubicBezTo>
                <a:cubicBezTo>
                  <a:pt x="20237" y="16642"/>
                  <a:pt x="20226" y="16679"/>
                  <a:pt x="20290" y="16743"/>
                </a:cubicBezTo>
              </a:path>
              <a:path w="9601" h="3052">
                <a:moveTo>
                  <a:pt x="21059" y="16421"/>
                </a:moveTo>
                <a:cubicBezTo>
                  <a:pt x="21005" y="16569"/>
                  <a:pt x="20930" y="16717"/>
                  <a:pt x="20886" y="16867"/>
                </a:cubicBezTo>
                <a:cubicBezTo>
                  <a:pt x="20837" y="17034"/>
                  <a:pt x="20799" y="17188"/>
                  <a:pt x="20786" y="17363"/>
                </a:cubicBezTo>
              </a:path>
              <a:path w="9601" h="3052">
                <a:moveTo>
                  <a:pt x="21779" y="14536"/>
                </a:moveTo>
                <a:cubicBezTo>
                  <a:pt x="21801" y="14640"/>
                  <a:pt x="21818" y="14750"/>
                  <a:pt x="21803" y="14858"/>
                </a:cubicBezTo>
                <a:cubicBezTo>
                  <a:pt x="21786" y="14983"/>
                  <a:pt x="21742" y="15104"/>
                  <a:pt x="21729" y="15230"/>
                </a:cubicBezTo>
                <a:cubicBezTo>
                  <a:pt x="21722" y="15302"/>
                  <a:pt x="21729" y="15380"/>
                  <a:pt x="21729" y="15453"/>
                </a:cubicBezTo>
              </a:path>
              <a:path w="9601" h="3052">
                <a:moveTo>
                  <a:pt x="22275" y="14684"/>
                </a:moveTo>
                <a:cubicBezTo>
                  <a:pt x="22275" y="14803"/>
                  <a:pt x="22272" y="14917"/>
                  <a:pt x="22250" y="15032"/>
                </a:cubicBezTo>
                <a:cubicBezTo>
                  <a:pt x="22223" y="15173"/>
                  <a:pt x="22185" y="15314"/>
                  <a:pt x="22151" y="15453"/>
                </a:cubicBezTo>
              </a:path>
              <a:path w="9601" h="3052">
                <a:moveTo>
                  <a:pt x="22671" y="14709"/>
                </a:moveTo>
                <a:cubicBezTo>
                  <a:pt x="22782" y="14691"/>
                  <a:pt x="22914" y="14714"/>
                  <a:pt x="23019" y="14684"/>
                </a:cubicBezTo>
                <a:cubicBezTo>
                  <a:pt x="23070" y="14669"/>
                  <a:pt x="23123" y="14649"/>
                  <a:pt x="23168" y="14635"/>
                </a:cubicBezTo>
                <a:cubicBezTo>
                  <a:pt x="23207" y="14623"/>
                  <a:pt x="23207" y="14626"/>
                  <a:pt x="23217" y="14585"/>
                </a:cubicBezTo>
              </a:path>
              <a:path w="9601" h="3052">
                <a:moveTo>
                  <a:pt x="22969" y="14610"/>
                </a:moveTo>
                <a:cubicBezTo>
                  <a:pt x="22935" y="14703"/>
                  <a:pt x="22905" y="14791"/>
                  <a:pt x="22870" y="14883"/>
                </a:cubicBezTo>
                <a:cubicBezTo>
                  <a:pt x="22841" y="14960"/>
                  <a:pt x="22809" y="15076"/>
                  <a:pt x="22796" y="15156"/>
                </a:cubicBezTo>
                <a:cubicBezTo>
                  <a:pt x="22780" y="15253"/>
                  <a:pt x="22753" y="15357"/>
                  <a:pt x="22746" y="15453"/>
                </a:cubicBezTo>
                <a:cubicBezTo>
                  <a:pt x="22746" y="15461"/>
                  <a:pt x="22746" y="15470"/>
                  <a:pt x="22746" y="15478"/>
                </a:cubicBezTo>
              </a:path>
              <a:path w="9601" h="3052">
                <a:moveTo>
                  <a:pt x="23068" y="14908"/>
                </a:moveTo>
                <a:cubicBezTo>
                  <a:pt x="23063" y="14990"/>
                  <a:pt x="23066" y="15101"/>
                  <a:pt x="23044" y="15180"/>
                </a:cubicBezTo>
                <a:cubicBezTo>
                  <a:pt x="23018" y="15274"/>
                  <a:pt x="23019" y="15352"/>
                  <a:pt x="23019" y="15453"/>
                </a:cubicBezTo>
                <a:cubicBezTo>
                  <a:pt x="23019" y="15461"/>
                  <a:pt x="23019" y="15470"/>
                  <a:pt x="23019" y="15478"/>
                </a:cubicBezTo>
              </a:path>
              <a:path w="9601" h="3052">
                <a:moveTo>
                  <a:pt x="23763" y="14486"/>
                </a:moveTo>
                <a:cubicBezTo>
                  <a:pt x="23730" y="14574"/>
                  <a:pt x="23710" y="14647"/>
                  <a:pt x="23664" y="14734"/>
                </a:cubicBezTo>
                <a:cubicBezTo>
                  <a:pt x="23592" y="14870"/>
                  <a:pt x="23528" y="15006"/>
                  <a:pt x="23440" y="15131"/>
                </a:cubicBezTo>
                <a:cubicBezTo>
                  <a:pt x="23333" y="15283"/>
                  <a:pt x="23239" y="15442"/>
                  <a:pt x="23143" y="15602"/>
                </a:cubicBezTo>
                <a:cubicBezTo>
                  <a:pt x="23055" y="15747"/>
                  <a:pt x="22961" y="15892"/>
                  <a:pt x="22895" y="16049"/>
                </a:cubicBezTo>
                <a:cubicBezTo>
                  <a:pt x="22850" y="16156"/>
                  <a:pt x="22833" y="16206"/>
                  <a:pt x="22820" y="16321"/>
                </a:cubicBezTo>
              </a:path>
              <a:path w="9601" h="3052">
                <a:moveTo>
                  <a:pt x="23366" y="15801"/>
                </a:moveTo>
                <a:cubicBezTo>
                  <a:pt x="23345" y="15900"/>
                  <a:pt x="23337" y="16001"/>
                  <a:pt x="23316" y="16098"/>
                </a:cubicBezTo>
                <a:cubicBezTo>
                  <a:pt x="23292" y="16211"/>
                  <a:pt x="23284" y="16287"/>
                  <a:pt x="23292" y="16396"/>
                </a:cubicBezTo>
                <a:cubicBezTo>
                  <a:pt x="23301" y="16514"/>
                  <a:pt x="23340" y="16600"/>
                  <a:pt x="23416" y="16694"/>
                </a:cubicBezTo>
                <a:cubicBezTo>
                  <a:pt x="23439" y="16722"/>
                  <a:pt x="23505" y="16731"/>
                  <a:pt x="23540" y="16718"/>
                </a:cubicBezTo>
                <a:cubicBezTo>
                  <a:pt x="23570" y="16707"/>
                  <a:pt x="23649" y="16613"/>
                  <a:pt x="23664" y="16594"/>
                </a:cubicBezTo>
                <a:cubicBezTo>
                  <a:pt x="23699" y="16550"/>
                  <a:pt x="23711" y="16449"/>
                  <a:pt x="23713" y="16396"/>
                </a:cubicBezTo>
                <a:cubicBezTo>
                  <a:pt x="23716" y="16334"/>
                  <a:pt x="23709" y="16323"/>
                  <a:pt x="23688" y="16297"/>
                </a:cubicBezTo>
                <a:cubicBezTo>
                  <a:pt x="23639" y="16235"/>
                  <a:pt x="23532" y="16304"/>
                  <a:pt x="23490" y="16346"/>
                </a:cubicBezTo>
                <a:cubicBezTo>
                  <a:pt x="23385" y="16451"/>
                  <a:pt x="23269" y="16578"/>
                  <a:pt x="23217" y="16718"/>
                </a:cubicBezTo>
                <a:cubicBezTo>
                  <a:pt x="23181" y="16815"/>
                  <a:pt x="23182" y="16899"/>
                  <a:pt x="23217" y="169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0760" y="1366920"/>
            <a:ext cx="1276200" cy="830160"/>
          </a:xfrm>
          <a:custGeom>
            <a:avLst/>
            <a:gdLst/>
            <a:ahLst/>
            <a:rect l="l" t="t" r="r" b="b"/>
            <a:pathLst>
              <a:path w="3548" h="2308">
                <a:moveTo>
                  <a:pt x="17512" y="3795"/>
                </a:moveTo>
                <a:cubicBezTo>
                  <a:pt x="17561" y="3844"/>
                  <a:pt x="17598" y="3886"/>
                  <a:pt x="17636" y="3944"/>
                </a:cubicBezTo>
                <a:cubicBezTo>
                  <a:pt x="17700" y="4041"/>
                  <a:pt x="17769" y="4123"/>
                  <a:pt x="17835" y="4217"/>
                </a:cubicBezTo>
                <a:cubicBezTo>
                  <a:pt x="17894" y="4302"/>
                  <a:pt x="17968" y="4436"/>
                  <a:pt x="17983" y="4539"/>
                </a:cubicBezTo>
                <a:cubicBezTo>
                  <a:pt x="18002" y="4664"/>
                  <a:pt x="17980" y="4819"/>
                  <a:pt x="17934" y="4936"/>
                </a:cubicBezTo>
                <a:cubicBezTo>
                  <a:pt x="17875" y="5086"/>
                  <a:pt x="17825" y="5222"/>
                  <a:pt x="17735" y="5358"/>
                </a:cubicBezTo>
                <a:cubicBezTo>
                  <a:pt x="17653" y="5482"/>
                  <a:pt x="17541" y="5599"/>
                  <a:pt x="17438" y="5705"/>
                </a:cubicBezTo>
                <a:cubicBezTo>
                  <a:pt x="17361" y="5784"/>
                  <a:pt x="17287" y="5848"/>
                  <a:pt x="17214" y="5928"/>
                </a:cubicBezTo>
                <a:cubicBezTo>
                  <a:pt x="17138" y="6011"/>
                  <a:pt x="17123" y="5978"/>
                  <a:pt x="17190" y="5978"/>
                </a:cubicBezTo>
              </a:path>
              <a:path w="3548" h="2308">
                <a:moveTo>
                  <a:pt x="18157" y="5035"/>
                </a:moveTo>
                <a:cubicBezTo>
                  <a:pt x="18383" y="5035"/>
                  <a:pt x="18606" y="5035"/>
                  <a:pt x="18827" y="5060"/>
                </a:cubicBezTo>
                <a:cubicBezTo>
                  <a:pt x="18883" y="5066"/>
                  <a:pt x="18943" y="5060"/>
                  <a:pt x="19000" y="5060"/>
                </a:cubicBezTo>
                <a:cubicBezTo>
                  <a:pt x="18955" y="5060"/>
                  <a:pt x="18941" y="5081"/>
                  <a:pt x="18901" y="5085"/>
                </a:cubicBezTo>
                <a:cubicBezTo>
                  <a:pt x="18893" y="5085"/>
                  <a:pt x="18884" y="5085"/>
                  <a:pt x="18876" y="5085"/>
                </a:cubicBezTo>
              </a:path>
              <a:path w="3548" h="2308">
                <a:moveTo>
                  <a:pt x="18107" y="5333"/>
                </a:moveTo>
                <a:cubicBezTo>
                  <a:pt x="18372" y="5333"/>
                  <a:pt x="18636" y="5333"/>
                  <a:pt x="18901" y="5333"/>
                </a:cubicBezTo>
              </a:path>
              <a:path w="3548" h="2308">
                <a:moveTo>
                  <a:pt x="19745" y="4440"/>
                </a:moveTo>
                <a:cubicBezTo>
                  <a:pt x="19718" y="4483"/>
                  <a:pt x="19691" y="4525"/>
                  <a:pt x="19670" y="4564"/>
                </a:cubicBezTo>
                <a:cubicBezTo>
                  <a:pt x="19639" y="4623"/>
                  <a:pt x="19592" y="4673"/>
                  <a:pt x="19571" y="4738"/>
                </a:cubicBezTo>
                <a:cubicBezTo>
                  <a:pt x="19545" y="4818"/>
                  <a:pt x="19486" y="4930"/>
                  <a:pt x="19472" y="5011"/>
                </a:cubicBezTo>
                <a:cubicBezTo>
                  <a:pt x="19456" y="5102"/>
                  <a:pt x="19426" y="5191"/>
                  <a:pt x="19422" y="5283"/>
                </a:cubicBezTo>
                <a:cubicBezTo>
                  <a:pt x="19419" y="5373"/>
                  <a:pt x="19378" y="5465"/>
                  <a:pt x="19397" y="5556"/>
                </a:cubicBezTo>
                <a:cubicBezTo>
                  <a:pt x="19415" y="5642"/>
                  <a:pt x="19434" y="5723"/>
                  <a:pt x="19472" y="5804"/>
                </a:cubicBezTo>
                <a:cubicBezTo>
                  <a:pt x="19508" y="5882"/>
                  <a:pt x="19549" y="5951"/>
                  <a:pt x="19621" y="6003"/>
                </a:cubicBezTo>
                <a:cubicBezTo>
                  <a:pt x="19695" y="6057"/>
                  <a:pt x="19765" y="6054"/>
                  <a:pt x="19844" y="6077"/>
                </a:cubicBezTo>
                <a:cubicBezTo>
                  <a:pt x="19933" y="6103"/>
                  <a:pt x="20000" y="6100"/>
                  <a:pt x="20092" y="6077"/>
                </a:cubicBezTo>
                <a:cubicBezTo>
                  <a:pt x="20192" y="6052"/>
                  <a:pt x="20308" y="5985"/>
                  <a:pt x="20389" y="5928"/>
                </a:cubicBezTo>
                <a:cubicBezTo>
                  <a:pt x="20456" y="5880"/>
                  <a:pt x="20487" y="5791"/>
                  <a:pt x="20538" y="5730"/>
                </a:cubicBezTo>
                <a:cubicBezTo>
                  <a:pt x="20606" y="5649"/>
                  <a:pt x="20608" y="5604"/>
                  <a:pt x="20638" y="5507"/>
                </a:cubicBezTo>
                <a:cubicBezTo>
                  <a:pt x="20663" y="5425"/>
                  <a:pt x="20684" y="5346"/>
                  <a:pt x="20687" y="5259"/>
                </a:cubicBezTo>
                <a:cubicBezTo>
                  <a:pt x="20690" y="5178"/>
                  <a:pt x="20683" y="5086"/>
                  <a:pt x="20662" y="5011"/>
                </a:cubicBezTo>
                <a:cubicBezTo>
                  <a:pt x="20639" y="4927"/>
                  <a:pt x="20582" y="4856"/>
                  <a:pt x="20538" y="4787"/>
                </a:cubicBezTo>
                <a:cubicBezTo>
                  <a:pt x="20495" y="4720"/>
                  <a:pt x="20435" y="4677"/>
                  <a:pt x="20389" y="4614"/>
                </a:cubicBezTo>
                <a:cubicBezTo>
                  <a:pt x="20334" y="4538"/>
                  <a:pt x="20259" y="4502"/>
                  <a:pt x="20166" y="4465"/>
                </a:cubicBezTo>
                <a:cubicBezTo>
                  <a:pt x="20090" y="4434"/>
                  <a:pt x="20023" y="4440"/>
                  <a:pt x="19943" y="4440"/>
                </a:cubicBezTo>
                <a:cubicBezTo>
                  <a:pt x="19875" y="4440"/>
                  <a:pt x="19807" y="4444"/>
                  <a:pt x="19745" y="4465"/>
                </a:cubicBezTo>
                <a:cubicBezTo>
                  <a:pt x="19709" y="4477"/>
                  <a:pt x="19675" y="4511"/>
                  <a:pt x="19645" y="4539"/>
                </a:cubicBezTo>
                <a:cubicBezTo>
                  <a:pt x="19621" y="4562"/>
                  <a:pt x="19596" y="4589"/>
                  <a:pt x="19571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4200" y="3786120"/>
            <a:ext cx="2187720" cy="44640"/>
          </a:xfrm>
          <a:custGeom>
            <a:avLst/>
            <a:gdLst/>
            <a:ahLst/>
            <a:rect l="l" t="t" r="r" b="b"/>
            <a:pathLst>
              <a:path w="6078" h="125">
                <a:moveTo>
                  <a:pt x="9922" y="10641"/>
                </a:moveTo>
                <a:cubicBezTo>
                  <a:pt x="9687" y="10641"/>
                  <a:pt x="9459" y="10633"/>
                  <a:pt x="9227" y="10616"/>
                </a:cubicBezTo>
                <a:cubicBezTo>
                  <a:pt x="9079" y="10605"/>
                  <a:pt x="8928" y="10601"/>
                  <a:pt x="8781" y="10592"/>
                </a:cubicBezTo>
                <a:cubicBezTo>
                  <a:pt x="8608" y="10581"/>
                  <a:pt x="8432" y="10577"/>
                  <a:pt x="8260" y="10567"/>
                </a:cubicBezTo>
                <a:cubicBezTo>
                  <a:pt x="8021" y="10553"/>
                  <a:pt x="7779" y="10554"/>
                  <a:pt x="7541" y="10542"/>
                </a:cubicBezTo>
                <a:cubicBezTo>
                  <a:pt x="7219" y="10525"/>
                  <a:pt x="6894" y="10534"/>
                  <a:pt x="6573" y="10517"/>
                </a:cubicBezTo>
                <a:cubicBezTo>
                  <a:pt x="5996" y="10486"/>
                  <a:pt x="5412" y="10530"/>
                  <a:pt x="4837" y="10542"/>
                </a:cubicBezTo>
                <a:cubicBezTo>
                  <a:pt x="4693" y="10545"/>
                  <a:pt x="4557" y="10558"/>
                  <a:pt x="4415" y="10567"/>
                </a:cubicBezTo>
                <a:cubicBezTo>
                  <a:pt x="4308" y="10574"/>
                  <a:pt x="4200" y="10578"/>
                  <a:pt x="4093" y="10592"/>
                </a:cubicBezTo>
                <a:cubicBezTo>
                  <a:pt x="4020" y="10601"/>
                  <a:pt x="3943" y="10629"/>
                  <a:pt x="3870" y="10641"/>
                </a:cubicBezTo>
                <a:cubicBezTo>
                  <a:pt x="3862" y="10641"/>
                  <a:pt x="3853" y="10641"/>
                  <a:pt x="3845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07Z</dcterms:created>
  <dc:creator>jnewman</dc:creator>
  <dc:description/>
  <dc:language>en-US</dc:language>
  <cp:lastModifiedBy>abeason</cp:lastModifiedBy>
  <dcterms:modified xsi:type="dcterms:W3CDTF">2008-12-04T19:17:52Z</dcterms:modified>
  <cp:revision>12</cp:revision>
  <dc:subject/>
  <dc:title>Lesson 5.3 part three</dc:title>
</cp:coreProperties>
</file>